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dt" idx="115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sldImg"/>
          </p:nvPr>
        </p:nvSpPr>
        <p:spPr>
          <a:xfrm>
            <a:off x="92844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 type="ftr" idx="116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6"/>
          <p:cNvSpPr>
            <a:spLocks noGrp="1"/>
          </p:cNvSpPr>
          <p:nvPr>
            <p:ph type="sldNum" idx="117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6DD1-9D0B-4B16-9479-4AFA729F2D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4178-A9C4-4163-9F57-2D3EEE3ED8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932040" y="74628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1EE8-8D42-4849-A1D5-7E7063FB48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4362-1BAE-4BF5-90C4-8B49F48C8D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8538-EC3F-4D5F-A7BE-7F68559A96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BE2E-501B-45F2-B2C3-979A809C32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Номер слайда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D136-FBDB-49C7-BD8A-70D3EEDA7C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9955-D257-4245-A615-75922EC7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6AB7-37A8-4036-8CAB-D0E22B34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5A1873-0379-4513-A61C-C42FA3E2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E48874-76EF-4EF1-955D-9139F1A1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9A1A16-7A77-49C1-9367-66768018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E2DE19-9D6B-4DEB-BF6F-D28E2454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137F86-CBB9-4DE5-A89E-BB0F099D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EA937B-265D-44AF-946C-4EB6E7C8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E36E4F-51F8-4A2A-BCC7-4614EB55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D4AAE9-2732-4AF2-AF80-76F5B57D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D1B921-7A6D-4972-B96D-52375BBF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78613B-B678-4497-9AE8-ECCD8905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A2DDD-CE14-48DC-98E8-4A2A3C02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2B3750-4903-4E08-B8E2-72CE126A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160B7E-ED34-472B-B969-30502086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E540D2-DFD9-4B22-B066-25CD055D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A943F3-9A16-4DB8-A2EC-020CE200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80C316-282B-450B-B33F-B069EEC8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1DC65B-8AA0-4FB8-836E-DCADCAEE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188A49-5ACA-46F8-8620-739F87FA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33BAD4-49F2-498B-BF03-680A4BDB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91A141-8E12-4304-A47B-B34FC622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EEC8BE-3D06-4E25-9516-1952ADC2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614CE-B655-4A23-9122-6729C5D9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550BB1-EE90-4BDE-8A10-04E2895A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ED1AFB-FA5D-4736-8C19-5D8D4998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A5B086-CC51-4269-8727-92475DF8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5BF937-28D4-4594-B00D-52AF23C2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05D7F5-8C09-4AD3-9CD8-C021AD23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FC67B8-98CC-4858-B7D0-B47FAB20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A1FC54-3FAC-4F49-8203-496CB81E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07EB7E-76B9-41B4-9E8B-FB69C090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A5959C-CEDE-4862-B94F-AC786E43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A2F3F3-3F64-4F56-9000-7DE3C6BF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96A3-AB35-4B8B-B495-4382A744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A6130A-4837-40E3-9ADF-C9085E6C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881871-D81D-4E09-B3B3-05C44112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D873DB-1394-4F2C-A523-A6CEBC4A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0821F5-CDF2-4EF4-AFE2-E69FA29C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D1FF37-53F9-476B-9F2B-CB3F7640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EC124B-3723-49D2-8515-FD3EE643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99B404-ADA8-4EFC-ACDC-94699AF8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17A14C-7BBB-42E4-8569-BB522575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E3308D-1940-4FCA-9ABA-EB464996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213208-154B-48F7-9F00-7D1D3808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EB2E-06D2-4D32-9C14-333D39C9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7B043B-2D42-49AF-88FA-8A9C7C77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93AE14-73D9-48A0-BA03-28F8FD8B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04650C-831E-487C-8CEA-D8DDE759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852FAB-4D8F-4445-8CE2-2C73D584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929BDF-D4EA-42C0-B190-63CFE4DD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0EF97B-C7AC-4E9E-A10A-5DD6E15A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A9EC44-A80A-4534-A172-0F81428C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C043C3-B022-40A7-9DE2-7602414A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6EB9EC-BEC9-4670-9D39-D7079E5E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A479B1-61AE-4FBB-BE01-058F2D54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2E18-3523-43AD-BDDD-820D4911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00E837-04A6-4748-855D-466487D1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B642C1-C2A3-4838-AE15-8157B089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BAD8EF-23DB-4CC8-AB12-5B4A5E03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551734-C6D6-4294-BA5C-C97713F8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76B662-EC65-496D-92C7-F0D1FE8A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8BC4DC-3F7A-497D-A2EB-FCC107B2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B0A8B9-D1D5-40FB-9E95-6B0CDEF6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FE943C-7E8B-4A31-A502-83FDE368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C97550-4D22-4649-85A3-0E240A6C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6144D9-A89E-4916-828A-047F42CB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F683-D386-4325-A0E2-6F36330B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0CAD33-F6D8-4302-A4A9-06CE29CC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1896CA-1B9D-4962-8231-83FE456A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88A16E-70A8-4AD8-8C62-B875A7A7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5F364C-368D-4DF4-BBFB-DFBF4A6F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73DE1E-7975-4B0C-96A4-52B17F31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D66557-0DCD-4541-B987-13947FA3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E89C23-4389-4AB3-8AE8-CE46FCD5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29E96E5-D75B-4C2C-BD8D-4E57CA99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CEEF29-0C4E-473A-B413-68CC9079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B24D4E-6ED4-4F27-803B-9EBEB10B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F165-2600-4D5C-9B7A-91E95581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3979E2-E358-466D-B55A-B2BC8C1D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A68301-3C65-4035-A011-E6C3343F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D74A49-7548-42D9-8201-732A2542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F30F99-C5FA-43E3-A420-3A3A8933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E331BD-9D1C-4D6E-8CB1-D05F9402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7FA84D-2E35-430F-969E-2BA8B2B5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FE4E1F-D1C9-4D07-A4CB-08E976EC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15697-A213-4FDE-B0A3-76D20D4B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4472C-D1F1-4ADB-93C6-BCE96E06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E76BE0-7F73-4AF2-860F-A3F8D55A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BA7E-B259-4799-B063-F1E5182E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FC6718-0099-4258-8955-5967083C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710D49-9480-4A1D-BB27-5B561DD6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51A31D-C54D-44B7-87CD-8009504F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9CDB14-50E5-4B77-8DD5-7D7E8200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51AAAA-715B-415F-B3BC-8E10C196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05EB97-C80B-4DA4-8880-9E899B48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9F9EC9-19B8-4692-8113-7D9A25C0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B5DE7B-9E11-4616-B6A1-2ECC6A11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9A59E8-4A7C-4FE8-A822-1E3BDA0F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0C901A-2666-4F94-92B5-A649D168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EB8A-E10B-4D66-9F5D-95E0337B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D39192-4A4A-4603-BE2B-941CE099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0AC374-3075-4BCA-933D-750DC64E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9290B2-6621-4A5C-9E27-9F7D37B2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8D9D0E-BFA4-4DCF-995C-A392B702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42D4DA-165A-4DAD-B811-5726AFA8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53B79C-D109-4F90-8298-6DC90F3F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DFC8CC-67AB-4D56-AE9C-7FC00212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7DF0BA-3452-4052-955B-D854FD2A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DA28A-9CB1-46B5-8F7E-7EDF66D6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4F7E96-FD23-4640-BBE7-65DED5F8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0D299-9A79-48A5-ADBA-7733E6DF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76F7-F88E-46AA-B23D-826FF560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B33226-3055-4122-848C-F582BF15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A1A1EC-15BB-40E2-9029-FC27E16A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2A21FE-D36F-433A-9CCF-6C0438BC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5BD23D-2F3E-446F-9228-1AF30003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AA3FC5-0973-413C-8DB1-017044C1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BFF7F7-7F4B-4191-80A8-22875908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48263B-4A09-46FB-B29D-F9D204C9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FF0E7A-4784-4D02-99CF-40B42ED5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A4F26C-4FCB-42FC-BA52-6A4458B3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E6BA3C-CD03-46D9-9608-B2055F44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DB7D-CAA7-42BA-BB18-9FC26C47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C71346-9C77-405B-8E13-80895444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E250DE-3A99-4684-828C-095F9E72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ED6E76-4B63-4528-BE9D-8DA728A2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649DDF-0179-4DEC-8EDC-DC77B028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D3E78D-B07D-4A1C-B2EB-CC4E9A82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D425ED-5C94-41E9-9DBC-92668ABB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A96B8D-7D08-4210-830C-799E4B9B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2E1774-A749-49D0-8A79-E5CDD767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B4C928-A889-4F27-936D-3E2460DF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30D9A6-1267-4ADA-B1B6-B113C817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E8D0-C4E9-434A-ACB8-6F9DF1DE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F8222A-F980-445D-9E11-EA47FA29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7AAD43-7F06-4F56-BF63-80A5A0D2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43287E-F8D6-4053-B5FB-99E6C506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813BA4-C927-4C1F-B2D1-EA952D88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27682E-A44B-4B5F-AB71-963E3613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B290D1-3B9E-420A-8DFC-CDDB2652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703FE3-8177-4F38-B8AC-DB301CC3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44761F-E6B9-422D-BE71-288D1C66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05981B-0B16-44A4-8B31-587F1E4A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0DC1DB-26F3-4911-80CD-FC99CD82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7670-8FDA-4C08-9319-FD7393B5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68E768-CED6-42CC-BB04-026E605D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AA8C30-49C7-4776-9C03-CA37EFF1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D672A0-108E-4CD1-B078-7D3039C5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25BD26-3665-437C-AC3B-98691200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9E131B-2E1B-437F-ABD6-C9BD7BC4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B49414-0ABB-4EF1-A616-7BC8BCCF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B47092-E03B-44FF-B93B-E8F8373F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F69368-B501-43A4-8E38-ABB0102B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553EA8-0510-45FD-B61F-97187A83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F56A85-DDE2-49A9-9F6B-EC5BEB68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C840-F293-4E3C-8443-88EEE25E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39D792-3214-4585-B774-1C787255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9DAC19-816A-4F6D-B926-40D94240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0014FA-C5FD-4AD5-83A0-05A54E2A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D3132A-9FEA-4BAA-9495-7FD0EA84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F7943E-7A3A-49AD-ABB7-C593BCC8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08DB0B-2732-4531-A14B-B61E4423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F00EA3-B781-420F-8301-B4853027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63D070-B5AD-4799-91F0-D7844D74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3D42B4-5A14-4906-990C-A34845AB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DEDCC2-D81A-4586-B8AB-C479DEC3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C83C6-AFCC-4156-B03A-CA55284D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1FEC05-293B-4167-A617-52D6BCB9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00FC65-5FD3-4C1E-A852-B6CB9586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DE255C-F04B-4EAD-BF13-D9989FE1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447AB4-26D0-4ED5-823E-9A85415F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D8C5D3-9085-4270-84AE-E837C279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53D1DD-1907-40E8-926D-1F9D8683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434E94-71AA-4CEE-B4EE-83B4F186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B5E550-4DA9-4986-A343-F2CC53C7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07EA95-10E9-4B49-86E2-608605E1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05F082-CF0A-4EE0-8050-E2974816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6921C-25F6-4A4F-A8A7-AB2B1409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935BB8-DE5F-46D9-B57B-EA7CB0E8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55CC09-B830-4E54-BFA1-5DFD1890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085CD3-A2B7-4B47-A46B-726DB348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C8E266-D9B8-4277-9EFA-AB20533B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2F8261-DD56-42ED-8446-1E47413B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434915-0280-455E-8944-D8DA8B96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BCB053-79BE-458F-B2A3-7E10EAE6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487889-D4BE-4A4B-92C3-9FCA38B7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DBF84D-C460-458F-AA65-7E9293FA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FFC746-9CA2-4BAD-BE15-956A4B1E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C40F9-F485-4934-A2E4-5B45656E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E3FF0D-8B98-4087-956F-F39FBCCE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B30BD6-AB3C-4A58-A80D-152F8D49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35F3D1-183B-49E8-A631-72D75E59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0F7750-E5B4-443C-BD51-9FE5DEAA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37DBB4-56B1-4EF4-951C-744578E6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25F105-79CE-4AF6-8C2D-4EF41F83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F959AD-E24E-40B2-9C99-23E890DF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A4FC42-8A2A-4E29-A0CE-4064316B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7B087B-C638-40BB-BDD7-9C9C8DDF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9FAD15-14CD-4458-A5F8-56C228A1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DA95A-E82F-4459-BBEF-4263B78C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5EB166-150F-4E64-B7C1-888155E3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0BA819-8999-4E46-8F6A-AF83777E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66E8DD-2028-4904-B8C0-C725080F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24FB58-AC64-4F3E-8361-ADD38F73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CE0CF2-3E70-41CB-BEAE-5BA41CBE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409231-0752-4745-ADDD-749F2B43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B8DE9B-F347-4C20-B40E-B3A3ACF3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4D4ACD-34DC-43FF-96F3-3F01032C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11A26C-BB17-4857-8850-21BD7FC8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14D873-6C8A-4A0D-866C-A473B62C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ECFEB-7AD5-46B2-915C-8B77B669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ADA70D-BE79-4B3B-893A-79ED4836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A3B129-957D-43B3-A5A5-45F90395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EF9EBA-83A0-4C00-92D7-4A238274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2C3808-9C9A-47A6-A9B7-08E02F49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45E893-9650-49E9-8576-5A01AA94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ADB8CB-231B-43C7-9C51-EECA263B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96C93C-2C07-4013-98B4-06E9645E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C4DC8A-8685-4A12-B778-95B5A678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F8FEC9-0AE8-409E-8E54-537AC493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E31AE2-78BB-422A-A747-474B6D7A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78775-D0CE-4BC1-8CD3-3519F9B1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1EDD8-313C-40EB-95C6-52CFAAE8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A2FC96-C6E0-4B4E-9E3F-DCCCC155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0A0A091-D80F-421B-A78A-905184B6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DEB9FB1-5C44-44D5-9095-880E1EBA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A5A64C7-1EFA-428D-8F13-148B0821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3926731-E275-47A2-987A-D02F41E3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1E51D9C-B0DE-406C-B518-EBFD867A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450A783-D872-4A54-A1E8-83256E0C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E99F47D-7F33-44F5-B9D0-8DB8EDA4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71C4F6F-7D32-423D-AE4C-FCED8CC6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50A90BF-0519-4B9D-95E3-AB0718C7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A73A5-EF98-49ED-A499-9F0363CC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4AADF42-5EA1-4FAB-AAC4-F322A0FE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C70D8F1-BDBE-49F0-A679-C52C5E65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1D77945-466E-47EF-BBEB-0744F5B4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04FC70-9590-4C9A-B226-D2C1296A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F5D834-8133-4429-A3D6-4B11B2D0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919BE3-A1DF-4EE1-A304-DB98AF14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3FED5D-A642-4944-9144-8CAFE87F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A774F6-E5C2-4D7D-9F08-86F87EAF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77BFA0-B30C-4A6D-8ABE-31297691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CC67FD-966E-4534-8027-1DF647F9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A5E1B-4A76-491E-9230-9995415B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22C4F1-7FB1-47FC-858B-DA19B69D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E92BD3-64F8-4A36-9CC4-0EBDE1DA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4C6027-0855-4188-8DB1-92965FE3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17ADD3-1F32-4536-9C3A-F29F0D2F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6374B8-8063-4D0E-BB44-A4A44116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E7F41F-4710-46ED-9AD8-6048C976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A5A86B-FB69-45E5-8F1B-5211698E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E20113-53DC-4E5E-8D84-E68CBA48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D8A738-4C40-4474-A629-CBDA6147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5F6838-49E5-4254-9A9D-0A9ED66F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1C7A0-CD57-4911-BBEA-AB42B5FF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F6E554-874E-4A21-BF10-33856076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B56AB6-3ECD-4338-B14C-60968F0D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EE4960-3211-49F0-983E-61059A1F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64C69D-0BAB-4DB1-BEE9-87AE420C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303803-4B4D-469D-A877-B5821F2E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EA2940-73CB-45A2-BBCA-57BF666B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30AD15-00AC-46F6-9C2E-C6936A0D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DAF57F-02A4-4B35-8D0F-86520691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F63771-8FFD-45BE-B3BE-CE14B79B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806BC9-9144-4266-A18B-2FCCFA39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0A03D-0784-4284-B441-557F5648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25FC5E-040A-4CC2-82DB-8CF4309C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241F59-C0DC-4CFC-95F4-CF52A51E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60F331-1B4D-4638-8F29-A20E26B3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B279C9-B15D-44BB-B455-B50B4302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A88A70-41ED-4CD8-A481-C27F24D9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E6C3A7E-17C2-4030-B4DC-5FFDAD8B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ED2B93-3E27-42F0-8279-575CD41F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E34482-0BD6-494E-86C6-6FB369AB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FD8634-4351-4C1E-B8AD-0FA79AB5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6B44B2-E285-4735-8CE3-7E1F1ABA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DDBE8-0AF6-41E3-AC03-98120988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6B0D4D-7E11-4C99-964B-9C51D9E2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3AD6EF-9D70-48F0-A97C-DD0A93C5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AC6F31-3B81-42E0-9A12-81421650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12D6D7-A990-4769-8088-516F7257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F27E88-EE5D-484C-93C7-C2C22F5C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6564A6-4BDE-451F-A602-BA9978DC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DED331-2790-422D-91C5-BAFC69DF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3B35779-5694-41DC-B7B0-5C3FB91A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6E080E-344E-4E12-BC7A-1FC8ADC9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F9DD68-74B8-4797-ACFA-F31659AE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6FD5F-DA14-463B-B6FA-62238449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2FB0F0-95C0-4F50-8361-ACCCBD5F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BF8C00-F2D3-4B79-AB3C-83E73036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9783BA-36F0-4F52-965C-7A4C040E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B341CF-54B8-4345-B927-E4A35039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F4625E-B46C-4E82-8A71-5BA7B354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1C0EE3-DF74-4C65-8912-E5DE9EA6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963848-FE04-49DC-81E6-216B9796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5A0AF3-D5E2-4E0A-916B-9C27FF0A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252669-C923-47F2-A6AF-8F650AEC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3D6834-F263-4A63-B3D2-34D96BF4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7727E9-1454-4222-8265-B5ECFF31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AEB40F-4673-48AC-8ADC-B1543780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3FCF23-E74C-4E52-BCF3-A8E79870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5BBBFA-67C2-4630-9DE2-A8FBEE08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F960C4-B717-40D7-B6D5-14DF6394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0D8E05D-4B90-4F8C-BB6F-4F532603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D51B14-6123-4871-B7D8-B1CF7433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7E903A-E9C0-46E6-9F81-14B8F735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0E34DE-1743-4E12-97F8-A70EE16D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3F9426-9262-43E0-B1EA-C836C0FB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75CF87-0182-41A5-B6B8-E8EB3605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0C233C-5234-4E76-8C99-088C6107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F8E9A4-4F28-4A4A-86A5-AC3F3975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84EC94-4A2A-4C7F-9E88-74F80E40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F47D07-70E3-49C8-818E-148429CB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FEB3216-4EA6-4F1E-8B1E-813D7B1F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61CEDF-1231-4EA2-AE82-569DB4AD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6B96C4-69D8-47F4-83EB-B75C818F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1DF1B95-20EA-43C5-9BBA-71557FAF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FEB751-859C-49A8-8BBF-61CF4E56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C2A600D-1420-41C5-AFC5-090B9EEC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C7DA9CB-5C9F-4D93-898D-6EB74070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C529F8-4329-443A-B1D7-AED5ED2E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2DFBC35-E835-41CA-B23F-58C58653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2B3FAF-9AC2-4323-837C-DC422857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E17CF3B-4315-4A0A-992F-C0C13383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0FA957-30C6-425A-B6F9-68A27399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397814B-2BBC-436A-8C74-59BD5997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6681F2-0861-4A9A-9F59-503A0C04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EF2AD6-486A-4667-A50F-125C46F9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9BEF3E-C52B-4A46-A31A-E14AC6B1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4E7792-2284-4B41-B0EF-5CAB954A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B43E5F-0316-4B0C-AFBE-C67B960E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AF46B-6B97-4BDE-A97F-63CEFA6B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C855C5-0EEC-4811-9E06-8CC8E4BA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C4176A-99F5-4AE4-B29D-1585A588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112354-D2CA-4BF3-989E-C5149766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E5FBCE-D6FC-4870-BA87-C2A1C501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BE0350-1213-4476-921D-791D8E7B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3618EC-0278-4944-9246-E8FA6835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AE8B7B-C1A3-45DC-8F5D-C4CF6615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CB4FA5-2B1B-488B-8012-D36C3710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74DE94-AB1A-4DCE-BC39-61946927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5E5D78-B44E-419D-BC0C-07F14800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350FBF-4B79-407B-B244-5AF04023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4B7A6E-791F-4695-BC65-5CA6F41B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FCFC0ED-4CFB-4358-9E3E-CC400539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172520-F1DF-4C75-B52C-377E8E5A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A1D4A8-9016-45EC-ADD0-3C6FC719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ECEEB62-E960-40AC-A02D-278955B5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7E0EE7F-34DC-485F-AFF0-5322278E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F0674A-5608-4932-B817-B73CC245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5D33DA-2D5C-4DA9-8171-1DC644B8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81A67DF-960B-4739-B723-E2A8B55F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CAAD6C-39BB-4DA7-9342-04A925BA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5E298FC-BDE5-47FA-88AC-38ADEA4B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A25A48-A0DB-4443-BFCE-2E86AF6E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F0252AB-48CA-48E6-8E14-EFBCFBF4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322463-869F-4D2F-B999-C176D0B7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63A09A-6B99-4BE7-9EDB-3DBC664F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8E46AD-7A81-4CC8-AAB3-863AA7C7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26A3AA4-201C-4DB9-B7EE-0A5942D1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07E481-BDC7-414E-8FA3-CF74AA34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89F1FEF-910C-44D5-99EA-54514AAF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36EEB4-2ABB-4C8E-AFFC-B56ABE30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D3FEF35-BB80-4AC8-A93C-73B8E9B2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36255C1-1DA1-4781-8C81-78589A66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C5E354-6428-451F-AFB7-1F812D2E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7514D2-F7B1-45BB-8F97-12F3EE5D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3FAE6C7-9A38-4382-9B3E-85A6A1C1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ADA3427-8416-4578-924D-4AEDD0C2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D802FB3-4EC4-4C33-8382-44ADDB62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6DF1DA5-5318-41E3-98B8-68DF6B2F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1422ED5-9B12-4690-8704-B38DF093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51F40E-5896-4A62-BD9A-1EE38CE7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8F6B32-7D66-47E1-9454-7787A772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6253D5B-1ADB-4403-A2BB-176ED1F3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0508F60-E09F-4F9E-A144-E302ECED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24CFF6-F159-4F7C-A9BA-FD56B38C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C579436-D105-425F-9461-187AE56A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6CEED87-3F64-4CE6-B3F9-9C6F6A50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D330A2D-5967-414A-BD13-231DD890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61EBC4-F8FD-4569-8FBB-72AFCBA0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FC11CDA-9F3E-4347-BB91-6D37A4E1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8FD823D-A75E-44E2-81DC-B88769C3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EE14A81-1ABE-4CA1-8208-2527214B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0EB5420-EF5D-492F-9501-4D49038B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ECDA52D-EE47-48D8-8E5D-56B42E6D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71BA8F0-1147-466A-AD56-9125C136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8E6FAD-9342-4E4F-ADCC-F8A73F11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9ACD82B-5C3D-41D4-BBB6-DF7C519D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0B15CA8-847B-4271-AA19-EF2C72C6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FD88EDA-F40C-4E55-BBD0-AD3F69E3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0258D0D-F760-4CBB-B851-55098C9B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C5B5300-1593-4DC7-BBE7-D1573440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30A0DB3-260B-4382-90A7-2B3E6D20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F5D07BF-86D0-4B99-AD9A-AE247EF0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474B18-6131-43FA-BF96-7B128EEE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FAFA1B-BD4E-4FAB-BDC2-CE650E98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B3465-5A1E-4616-8D9A-C3061990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606FA5-D558-4DB0-98A0-138D3B15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11288-F3D1-4A6D-BFC1-31FACD5D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558862-3EAE-4CE6-A073-F65CEE3A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535074-B515-4F36-A459-3319D9C6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6A7402-CD14-4A2E-BA6D-FBCAF019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0AB69C-17C6-4C8F-9B38-E973B60B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0B3F9C-30AB-43B0-BC1D-B9CDE33F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F5481-458A-4811-99E5-6EA86898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968EEE-47F5-4DE3-ADB2-7C37749B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106FE4-96EB-46CA-B669-FE17D267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79853-B4B4-4215-BB74-FF37AC20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55C7F7-98FB-48B9-B33A-86619288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BA2B5-C8F0-4898-9531-44C233EF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FD702D-8686-4772-AAB4-26A0F3A4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B477B4-CCDA-4ADA-B430-0567E73F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9ED274-5716-4BA4-BBC3-D6997020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79219B-B9A7-4097-9A01-645350BF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7C11DA-45AA-40C0-AE76-A7777B8F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D125B7-E2C2-43EC-8481-CBE6ED90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550FE7-36DF-4E85-8C2A-8583465B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D386B6-FAD4-40DE-88BA-96436A72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4D8ADF-76D5-4A37-BD56-182411BA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2F7208-964F-4425-95BB-A203F551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8CC67-0CE6-4B40-BBC3-519A3CEE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624828-69E2-4D24-AAF5-0E8C04C5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6BFD0-F9D1-4937-9A22-095A9B00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9653E2-C847-4C84-A72F-162484C0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104E38-3A36-4BD5-A872-B541777F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5909A6-1774-43DA-87CD-227C3EA4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EE480A-19EA-4494-B5BB-2945CBDC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0BF5F6-5ED6-4064-AD3B-AC9CD9ED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7993B0-CA1A-4B1B-9245-C82029CF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436676-A2E7-4138-84AC-03442902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49F685-57B3-482C-A7FF-50AD8AD7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BDCBE-D1FF-4482-B04A-EDAAC241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DEF38F-C2A5-497C-A375-43E7DCFD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B50BE0-0239-4E7D-ABF8-0C4448BA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6CAC2B-9C84-450D-A643-C59D8C5E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1B191-95DD-4F65-AA40-C6A9445C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8F79DB-E77E-4223-B6BD-FB50C80E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904DC4-1D23-4770-A8EC-C475B9FA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C4EA74-B879-4B9A-8959-6CB81FF5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810BCC-335F-42DE-B1A0-55FEA5F5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678F52-CE5F-4F45-9B08-DEB44E28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2B7DF7-F115-45AE-B716-95C15383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0DE4B-8D31-439F-9B46-AC3BDCA6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986460-FDEC-4A1D-A6CC-C3792797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EEF669-5C22-4274-8978-773523D3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4F42AE-43CD-491C-A971-03EE7661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B6F3F8-35A5-42EB-B95D-AB188312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E0F8F1-39C6-476E-ABD0-DBEF6A42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4A74B8-04FA-4AC1-BAF3-A2C3ABE4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7AE4DC-A601-414D-8D50-81AE62A9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CD3E5E-5D69-4724-B704-4940D660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AEFA66-1D69-4CB2-A078-411D2A21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381AC8-72D2-4EAE-B392-BC5DC3F1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B19B-42EF-4857-AF77-32DB7BC22AE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EE95-687B-46BC-9D71-5534915109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497B-B096-49A8-B132-BD1560785E0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EABD-2C47-4F8C-95E3-C4974842E3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E915-FB9A-4C89-8BFB-D6FCF6BBBE1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3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8204-2BFA-4A53-9853-4E7ECF828A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D080-F394-4DF0-9ABB-8EFFF1CE2FC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3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77DE-16C6-469E-BE50-3AA4D3A93D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CD1D-F4EC-40E7-AFA7-48B7B28F0FF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sldNum" idx="3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FE86-1D66-4C43-87A9-43D5B609D3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4BDD-F305-4717-A942-ADAC855EFEB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sldNum" idx="4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43CB-574F-4612-B53C-61850FB975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2DA6-7CDF-46AC-923E-AAFF4853633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39D5-4678-440C-941A-9FE4289F34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D4CC-FFEF-4A3A-B15B-F2FEDC5203A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2782-B795-4B92-ABF7-93BF3D353D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E589-2BD2-40A9-B0AB-906D16E31AD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93CF-9F0A-4B30-AF14-358642A278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41A9-52BA-457F-A017-9D6021A4AE7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F4AD-6244-4CB2-ABDF-FD53EA5A21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73F6-BD92-48DA-8975-36D7C591EDC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B6CB-A9D8-4994-AF8A-CD9FF00A9F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0C9E-E4ED-4B4A-8036-7600064DEDE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0363-BEC1-456A-9E6C-147589A56A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D438-86F3-4532-BC1A-5B0D7044D34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8B8E-671E-43E1-A9CE-F9BA417200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16D7-3C8C-409B-B1A2-8F41614CDC3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BF88-A26F-45DF-AC08-04CD01E3A5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0799-6044-4675-B614-2F8F2D78B0F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6A99-CA38-4213-BAC7-20624B62C6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C98B-3450-4104-812F-33BBFF9E550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3BC1-B75C-4E16-9A52-F4CD1CC748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06B3-43CF-473E-8FCC-B3F6538D3FF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1119-F0D7-44FC-9737-AD8B2E2EC2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4FC4-BFEA-4E02-9C9D-E56F4C338D8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E07E-99DE-4E13-ADD7-51D82FB17B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7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AEBD-B780-43F4-A681-70AB5979387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7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2B7A-384C-488A-9876-310C2DA48D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ftr" idx="7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E931-4251-4AE8-BF89-A6CF294E7B7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99C6-3171-4834-8421-630BCA7601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FBAB-C925-4406-BF95-1972E9E459D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4D3C-44B3-4125-A135-BF10D440C3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BADC-F6F0-43DC-B18F-FB83839B408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F91C-AC51-461E-BE0E-45A0DB3A57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23E4-9698-472F-BF85-CB402FB248A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0513-6D65-48CC-AA79-976CC46F30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258A-B476-44F1-A992-72AD249DE09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7CF8-31BC-4C0E-ABBC-84C4DDF5DA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BF3C-8D5F-4D5D-87D3-9FFA2ACC756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0BB7-BD8D-4570-8F21-CD73D09857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7E9B-9235-4953-9907-62DFAE8E785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614F-90D8-4ED4-B3ED-34B5347E21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ABAE-6643-4E05-8558-90CF98EDE58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17BA-BD84-4CC6-96BA-7F187E5533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E0A6-9E82-4802-9020-EA270618AF6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D67C-95E3-491F-8238-EE25FA8352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04F9-D8E6-41EC-BB63-79ACDF0820D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72DC-B38B-42F6-839B-E2C66A7EC3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FE74-A860-47A9-AB58-486D3C104F0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0101-E6F5-44D6-8F43-73A5E86C76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831C-76F7-4742-B37C-96AEA61BC77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0FFC-80D6-45FC-8A8A-17C01458A5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43D8-67EE-483E-ACB6-03EF92DF868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C623-7F9F-47A1-AB14-CDDE2078FC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7A79-0FB9-4194-B058-C2BA6025F23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7DCD-3447-48E1-99F0-AE2E071F30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E431-2A53-49E0-956D-4AE6CB69446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3DCA-F010-4479-8B3B-914E8BA946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41D9-54E7-4491-939A-D589FA850C8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7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88A8-6A9F-4819-9B38-F671F82150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3D0D-2D5F-4F02-B34D-8C97876D3FD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20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9A52-EF37-4E1F-B037-5892660F16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0B2B-67FF-443B-861D-625DBFFD8D4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2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5B5D-F746-4A1B-8370-62E6229043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7336-6905-432E-B8D5-6643D34DB1F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2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6A16-01C7-4142-B17F-F87FEC2487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Прямоугольник 2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AutoShape 5"/>
          <p:cNvSpPr/>
          <p:nvPr/>
        </p:nvSpPr>
        <p:spPr>
          <a:xfrm>
            <a:off x="0" y="1523880"/>
            <a:ext cx="9144000" cy="3200400"/>
          </a:xfrm>
          <a:prstGeom prst="roundRect">
            <a:avLst>
              <a:gd name="adj" fmla="val 824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нцеп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нформационно-просветительского проек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Мы - потомки героев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6"/>
          <p:cNvSpPr/>
          <p:nvPr/>
        </p:nvSpPr>
        <p:spPr>
          <a:xfrm>
            <a:off x="0" y="103320"/>
            <a:ext cx="9144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епартамент образования и науки Тюменской обла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Прямоугольник 24"/>
          <p:cNvSpPr/>
          <p:nvPr/>
        </p:nvSpPr>
        <p:spPr>
          <a:xfrm>
            <a:off x="0" y="0"/>
            <a:ext cx="3279600" cy="68580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B0E4-629F-4C6E-BEAE-06FF03CB43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Скругленный прямоугольник 16"/>
          <p:cNvSpPr/>
          <p:nvPr/>
        </p:nvSpPr>
        <p:spPr>
          <a:xfrm>
            <a:off x="-11160" y="641520"/>
            <a:ext cx="3260880" cy="1573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цепция информационно-просветительск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Мы - потомки героев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Прямоугольник 18"/>
          <p:cNvSpPr/>
          <p:nvPr/>
        </p:nvSpPr>
        <p:spPr>
          <a:xfrm>
            <a:off x="4680" y="2225520"/>
            <a:ext cx="32385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alibri"/>
              </a:rPr>
              <a:t>апрель 2016 г. - май 202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Прямоугольник 2"/>
          <p:cNvSpPr/>
          <p:nvPr/>
        </p:nvSpPr>
        <p:spPr>
          <a:xfrm>
            <a:off x="3524400" y="2214720"/>
            <a:ext cx="535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развитие интереса и популяризация знаний о ключевых исторических событиях и лицах Великой Отечественной вой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активизация просветительской работы среди обучающихся через востребованные детьми и молодёжью формы и методы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 Light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использование информационных ресурсов региональных СМИ в гражданско-патриотическом воспитании детей и молодё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Прямоугольник 4"/>
          <p:cNvSpPr/>
          <p:nvPr/>
        </p:nvSpPr>
        <p:spPr>
          <a:xfrm>
            <a:off x="3770280" y="22212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Прямоугольник 5"/>
          <p:cNvSpPr/>
          <p:nvPr/>
        </p:nvSpPr>
        <p:spPr>
          <a:xfrm>
            <a:off x="3794040" y="633240"/>
            <a:ext cx="527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формирование у обучающихся гражданского самосознания, сохранение памяти о героическом прошлом своей страны и Тюм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Прямоугольник 6"/>
          <p:cNvSpPr/>
          <p:nvPr/>
        </p:nvSpPr>
        <p:spPr>
          <a:xfrm>
            <a:off x="3795120" y="1819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Равнобедренный треугольник 44"/>
          <p:cNvSpPr/>
          <p:nvPr/>
        </p:nvSpPr>
        <p:spPr>
          <a:xfrm rot="5400000">
            <a:off x="3540240" y="34992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Равнобедренный треугольник 49"/>
          <p:cNvSpPr/>
          <p:nvPr/>
        </p:nvSpPr>
        <p:spPr>
          <a:xfrm rot="5400000">
            <a:off x="3559320" y="195480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Прямая соединительная линия 54"/>
          <p:cNvSpPr/>
          <p:nvPr/>
        </p:nvSpPr>
        <p:spPr>
          <a:xfrm flipH="1">
            <a:off x="3274920" y="0"/>
            <a:ext cx="28800" cy="685800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Прямоугольник 4"/>
          <p:cNvSpPr/>
          <p:nvPr/>
        </p:nvSpPr>
        <p:spPr>
          <a:xfrm>
            <a:off x="3887640" y="50292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Прямоугольник 5"/>
          <p:cNvSpPr/>
          <p:nvPr/>
        </p:nvSpPr>
        <p:spPr>
          <a:xfrm>
            <a:off x="3911760" y="5440320"/>
            <a:ext cx="49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дети школьного возраста, студенческая и рабочая молодежь, родители, педагоги, общественные организации, государственные учреждения различных проф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Равнобедренный треугольник 43"/>
          <p:cNvSpPr/>
          <p:nvPr/>
        </p:nvSpPr>
        <p:spPr>
          <a:xfrm rot="5400000">
            <a:off x="3658320" y="515664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Прямая соединительная линия 10"/>
          <p:cNvSpPr/>
          <p:nvPr/>
        </p:nvSpPr>
        <p:spPr>
          <a:xfrm>
            <a:off x="3911760" y="1676520"/>
            <a:ext cx="46227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Прямая соединительная линия 51"/>
          <p:cNvSpPr/>
          <p:nvPr/>
        </p:nvSpPr>
        <p:spPr>
          <a:xfrm>
            <a:off x="3911760" y="4952880"/>
            <a:ext cx="46227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Прямоугольник 3"/>
          <p:cNvSpPr/>
          <p:nvPr/>
        </p:nvSpPr>
        <p:spPr>
          <a:xfrm>
            <a:off x="246240" y="3475080"/>
            <a:ext cx="278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 Light"/>
              </a:rPr>
              <a:t>Тематические на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Прямоугольник 19"/>
          <p:cNvSpPr/>
          <p:nvPr/>
        </p:nvSpPr>
        <p:spPr>
          <a:xfrm>
            <a:off x="522360" y="4319640"/>
            <a:ext cx="245412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Великая Отечественная война: ключевые события и исторические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Тюменский край в годы Великой Отечественной 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Прямая соединительная линия 20"/>
          <p:cNvSpPr/>
          <p:nvPr/>
        </p:nvSpPr>
        <p:spPr>
          <a:xfrm>
            <a:off x="598320" y="3048120"/>
            <a:ext cx="23781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Номер слайда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FCA4-2D8F-49C8-8B32-AE1B0D2F8F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 Box 2"/>
          <p:cNvSpPr/>
          <p:nvPr/>
        </p:nvSpPr>
        <p:spPr>
          <a:xfrm>
            <a:off x="144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аты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Прямоугольник 19"/>
          <p:cNvSpPr/>
          <p:nvPr/>
        </p:nvSpPr>
        <p:spPr>
          <a:xfrm>
            <a:off x="3525840" y="685800"/>
            <a:ext cx="25462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6600"/>
                </a:solidFill>
                <a:latin typeface="Calibri"/>
              </a:rPr>
              <a:t>Сайты образовательных организа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Прямоугольник 20"/>
          <p:cNvSpPr/>
          <p:nvPr/>
        </p:nvSpPr>
        <p:spPr>
          <a:xfrm>
            <a:off x="152280" y="685800"/>
            <a:ext cx="29718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597a0"/>
                </a:solidFill>
                <a:latin typeface="Calibri"/>
              </a:rPr>
              <a:t>Площадки популярных социальных с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Прямоугольник 22"/>
          <p:cNvSpPr/>
          <p:nvPr/>
        </p:nvSpPr>
        <p:spPr>
          <a:xfrm>
            <a:off x="6378480" y="685800"/>
            <a:ext cx="27655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Образовательные и иные заинтересованные орган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Straight Connector 28"/>
          <p:cNvSpPr/>
          <p:nvPr/>
        </p:nvSpPr>
        <p:spPr>
          <a:xfrm>
            <a:off x="727200" y="1571760"/>
            <a:ext cx="1695240" cy="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Straight Connector 28"/>
          <p:cNvSpPr/>
          <p:nvPr/>
        </p:nvSpPr>
        <p:spPr>
          <a:xfrm>
            <a:off x="3984480" y="1566720"/>
            <a:ext cx="1695600" cy="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Straight Connector 28"/>
          <p:cNvSpPr/>
          <p:nvPr/>
        </p:nvSpPr>
        <p:spPr>
          <a:xfrm>
            <a:off x="7004160" y="1566720"/>
            <a:ext cx="1695240" cy="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Прямоугольник 34"/>
          <p:cNvSpPr/>
          <p:nvPr/>
        </p:nvSpPr>
        <p:spPr>
          <a:xfrm>
            <a:off x="393840" y="1758960"/>
            <a:ext cx="2730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597a0"/>
                </a:solidFill>
                <a:latin typeface="Calibri Light"/>
                <a:ea typeface="Arial"/>
              </a:rPr>
              <a:t>Проведение конкурсов видеороликов, плакатов, стихотворных, песенных и иных художественных произведений юных автор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597a0"/>
                </a:solidFill>
                <a:latin typeface="Calibri Light"/>
                <a:ea typeface="Arial"/>
              </a:rPr>
              <a:t>Презентации исследовательских работ, выполненных школьниками и студентами индивидуально, в соавторстве, совместно со взрослы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597a0"/>
                </a:solidFill>
                <a:latin typeface="Calibri Light"/>
                <a:ea typeface="Arial"/>
              </a:rPr>
              <a:t>Организация отчетно-новостной площадки - форума для предоставления широкой публике информации о наиболее интересных и удачных мероприятия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Прямоугольник 35"/>
          <p:cNvSpPr/>
          <p:nvPr/>
        </p:nvSpPr>
        <p:spPr>
          <a:xfrm>
            <a:off x="3519360" y="1690560"/>
            <a:ext cx="26528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6600"/>
                </a:solidFill>
                <a:latin typeface="Calibri Light"/>
                <a:ea typeface="Arial"/>
              </a:rPr>
              <a:t>Создание интерактивных «копилок» видеоматериалов, ссылок на тематические порталы, методических презентаций, документальных и иных материалов для использования в работе педагогами и деть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6600"/>
                </a:solidFill>
                <a:latin typeface="Calibri Light"/>
                <a:ea typeface="Arial"/>
              </a:rPr>
              <a:t>Новостные площадки акций, проектов, отражающих специфику учреждений, территории, историю жителей родного города, сел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6600"/>
                </a:solidFill>
                <a:latin typeface="Calibri Light"/>
                <a:ea typeface="Arial"/>
              </a:rPr>
              <a:t>Виртуальные музейные «окна», основанные на работах детей и молодёжи совместно с родителями, общественными и иными организациями и учрежд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Прямоугольник 36"/>
          <p:cNvSpPr/>
          <p:nvPr/>
        </p:nvSpPr>
        <p:spPr>
          <a:xfrm>
            <a:off x="6504120" y="1758960"/>
            <a:ext cx="251460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24b50"/>
                </a:solidFill>
                <a:latin typeface="Calibri Light"/>
                <a:ea typeface="Arial"/>
              </a:rPr>
              <a:t>Обновление («перезагрузка») работы районных, городских, школьных музеев (музейных комнат), библиоте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24b50"/>
                </a:solidFill>
                <a:latin typeface="Calibri Light"/>
                <a:ea typeface="Arial"/>
              </a:rPr>
              <a:t>Работа дискуссионных взросло - детских площадок с последующим отражением материалов на сайтах, организация и проведение конкурсных мероприятий совместно со СМИ, массовых акций, открытых совместных занятий по заявленной тематике, флеш-мобов и др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Прямоугольник 3"/>
          <p:cNvSpPr/>
          <p:nvPr/>
        </p:nvSpPr>
        <p:spPr>
          <a:xfrm>
            <a:off x="0" y="0"/>
            <a:ext cx="3129120" cy="6848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Прямоугольник 3"/>
          <p:cNvSpPr/>
          <p:nvPr/>
        </p:nvSpPr>
        <p:spPr>
          <a:xfrm>
            <a:off x="71280" y="2430360"/>
            <a:ext cx="307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онно-методиче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6" name="Group 38" descr=""/>
          <p:cNvPicPr/>
          <p:nvPr/>
        </p:nvPicPr>
        <p:blipFill>
          <a:blip r:embed="rId1"/>
          <a:stretch/>
        </p:blipFill>
        <p:spPr>
          <a:xfrm>
            <a:off x="3309840" y="396720"/>
            <a:ext cx="208080" cy="206640"/>
          </a:xfrm>
          <a:prstGeom prst="rect">
            <a:avLst/>
          </a:prstGeom>
          <a:ln w="0">
            <a:noFill/>
          </a:ln>
        </p:spPr>
      </p:pic>
      <p:sp>
        <p:nvSpPr>
          <p:cNvPr id="1607" name="Прямоугольник 5"/>
          <p:cNvSpPr/>
          <p:nvPr/>
        </p:nvSpPr>
        <p:spPr>
          <a:xfrm>
            <a:off x="3625920" y="304920"/>
            <a:ext cx="527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направление в общеобразовательные организации перечня ключевых событий (дат), личностей, подготовка кратких информационных материалов по содержанию заявленных в проекте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Прямоугольник 34"/>
          <p:cNvSpPr/>
          <p:nvPr/>
        </p:nvSpPr>
        <p:spPr>
          <a:xfrm>
            <a:off x="5486400" y="1376280"/>
            <a:ext cx="3276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ДОН ТО совместно с ТОГИР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9" name="Group 38" descr=""/>
          <p:cNvPicPr/>
          <p:nvPr/>
        </p:nvPicPr>
        <p:blipFill>
          <a:blip r:embed="rId2"/>
          <a:stretch/>
        </p:blipFill>
        <p:spPr>
          <a:xfrm>
            <a:off x="3365640" y="2163600"/>
            <a:ext cx="206280" cy="208080"/>
          </a:xfrm>
          <a:prstGeom prst="rect">
            <a:avLst/>
          </a:prstGeom>
          <a:ln w="0">
            <a:noFill/>
          </a:ln>
        </p:spPr>
      </p:pic>
      <p:sp>
        <p:nvSpPr>
          <p:cNvPr id="1610" name="Прямоугольник 5"/>
          <p:cNvSpPr/>
          <p:nvPr/>
        </p:nvSpPr>
        <p:spPr>
          <a:xfrm>
            <a:off x="3625920" y="2057400"/>
            <a:ext cx="52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постоянное методическое сопровождение работы педагогов очно и дистанционно в рамках реализации мероприятий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Прямоугольник 39"/>
          <p:cNvSpPr/>
          <p:nvPr/>
        </p:nvSpPr>
        <p:spPr>
          <a:xfrm>
            <a:off x="6000840" y="2757600"/>
            <a:ext cx="27651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ТОГИР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2" name="Group 38" descr=""/>
          <p:cNvPicPr/>
          <p:nvPr/>
        </p:nvPicPr>
        <p:blipFill>
          <a:blip r:embed="rId3"/>
          <a:stretch/>
        </p:blipFill>
        <p:spPr>
          <a:xfrm>
            <a:off x="3389400" y="3535200"/>
            <a:ext cx="207720" cy="208080"/>
          </a:xfrm>
          <a:prstGeom prst="rect">
            <a:avLst/>
          </a:prstGeom>
          <a:ln w="0">
            <a:noFill/>
          </a:ln>
        </p:spPr>
      </p:pic>
      <p:sp>
        <p:nvSpPr>
          <p:cNvPr id="1613" name="Прямоугольник 5"/>
          <p:cNvSpPr/>
          <p:nvPr/>
        </p:nvSpPr>
        <p:spPr>
          <a:xfrm>
            <a:off x="3641760" y="3429000"/>
            <a:ext cx="54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подготовка и реализация циклов тематических программ, видеосюжетов, радиопередач, мультимедийных и видеоуроков по тематике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Прямоугольник 44"/>
          <p:cNvSpPr/>
          <p:nvPr/>
        </p:nvSpPr>
        <p:spPr>
          <a:xfrm>
            <a:off x="6031080" y="4313160"/>
            <a:ext cx="27651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ДИП ТО совместно со С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5" name="Group 38" descr=""/>
          <p:cNvPicPr/>
          <p:nvPr/>
        </p:nvPicPr>
        <p:blipFill>
          <a:blip r:embed="rId4"/>
          <a:stretch/>
        </p:blipFill>
        <p:spPr>
          <a:xfrm>
            <a:off x="3389400" y="5175360"/>
            <a:ext cx="207720" cy="207720"/>
          </a:xfrm>
          <a:prstGeom prst="rect">
            <a:avLst/>
          </a:prstGeom>
          <a:ln w="0">
            <a:noFill/>
          </a:ln>
        </p:spPr>
      </p:pic>
      <p:sp>
        <p:nvSpPr>
          <p:cNvPr id="1616" name="Прямоугольник 5"/>
          <p:cNvSpPr/>
          <p:nvPr/>
        </p:nvSpPr>
        <p:spPr>
          <a:xfrm>
            <a:off x="3651120" y="5075280"/>
            <a:ext cx="52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проведение конкурсных семейно-школьных и молодёжных мероприятий муниципального и регионального уров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Прямоугольник 49"/>
          <p:cNvSpPr/>
          <p:nvPr/>
        </p:nvSpPr>
        <p:spPr>
          <a:xfrm>
            <a:off x="6031080" y="5861160"/>
            <a:ext cx="27651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СМИ, ДИП ТО, ДОН 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Прямая соединительная линия 53"/>
          <p:cNvSpPr/>
          <p:nvPr/>
        </p:nvSpPr>
        <p:spPr>
          <a:xfrm flipH="1">
            <a:off x="3106800" y="0"/>
            <a:ext cx="22320" cy="684864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Прямоугольник 3"/>
          <p:cNvSpPr/>
          <p:nvPr/>
        </p:nvSpPr>
        <p:spPr>
          <a:xfrm>
            <a:off x="0" y="0"/>
            <a:ext cx="3129120" cy="6848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1" name="Group 38" descr=""/>
          <p:cNvPicPr/>
          <p:nvPr/>
        </p:nvPicPr>
        <p:blipFill>
          <a:blip r:embed="rId1"/>
          <a:stretch/>
        </p:blipFill>
        <p:spPr>
          <a:xfrm>
            <a:off x="5425920" y="231840"/>
            <a:ext cx="212760" cy="206280"/>
          </a:xfrm>
          <a:prstGeom prst="rect">
            <a:avLst/>
          </a:prstGeom>
          <a:ln w="0">
            <a:noFill/>
          </a:ln>
        </p:spPr>
      </p:pic>
      <p:sp>
        <p:nvSpPr>
          <p:cNvPr id="1622" name="Прямоугольник 5"/>
          <p:cNvSpPr/>
          <p:nvPr/>
        </p:nvSpPr>
        <p:spPr>
          <a:xfrm>
            <a:off x="3152880" y="668160"/>
            <a:ext cx="23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Киноуроки Великой Побед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Прямоугольник 34"/>
          <p:cNvSpPr/>
          <p:nvPr/>
        </p:nvSpPr>
        <p:spPr>
          <a:xfrm>
            <a:off x="5718240" y="1811160"/>
            <a:ext cx="3276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ЗАО «Сибинформбюр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Прямоугольник 3"/>
          <p:cNvSpPr/>
          <p:nvPr/>
        </p:nvSpPr>
        <p:spPr>
          <a:xfrm>
            <a:off x="239760" y="1862280"/>
            <a:ext cx="278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Тематическое на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Прямая соединительная линия 51"/>
          <p:cNvSpPr/>
          <p:nvPr/>
        </p:nvSpPr>
        <p:spPr>
          <a:xfrm>
            <a:off x="473040" y="3021120"/>
            <a:ext cx="237816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Прямоугольник 52"/>
          <p:cNvSpPr/>
          <p:nvPr/>
        </p:nvSpPr>
        <p:spPr>
          <a:xfrm>
            <a:off x="425520" y="3200400"/>
            <a:ext cx="24541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Великая Отечественная война: ключевые события </a:t>
            </a:r>
            <a:br>
              <a:rPr sz="1600"/>
            </a:b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и исторические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Прямая соединительная линия 53"/>
          <p:cNvSpPr/>
          <p:nvPr/>
        </p:nvSpPr>
        <p:spPr>
          <a:xfrm flipH="1">
            <a:off x="3106800" y="0"/>
            <a:ext cx="22320" cy="684864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Прямоугольник 4"/>
          <p:cNvSpPr/>
          <p:nvPr/>
        </p:nvSpPr>
        <p:spPr>
          <a:xfrm>
            <a:off x="3441600" y="13644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Равнобедренный треугольник 54"/>
          <p:cNvSpPr/>
          <p:nvPr/>
        </p:nvSpPr>
        <p:spPr>
          <a:xfrm rot="5400000">
            <a:off x="3240360" y="23724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Прямоугольник 4"/>
          <p:cNvSpPr/>
          <p:nvPr/>
        </p:nvSpPr>
        <p:spPr>
          <a:xfrm>
            <a:off x="5649840" y="14760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Прямоугольник 5"/>
          <p:cNvSpPr/>
          <p:nvPr/>
        </p:nvSpPr>
        <p:spPr>
          <a:xfrm>
            <a:off x="5381640" y="577800"/>
            <a:ext cx="345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Цикл фильмов и программ, посвященных знаковым событиям Великой Отечественной войны для показов и обсуждений в образовательных организац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Прямоугольник 5"/>
          <p:cNvSpPr/>
          <p:nvPr/>
        </p:nvSpPr>
        <p:spPr>
          <a:xfrm>
            <a:off x="3274920" y="2492280"/>
            <a:ext cx="207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едиапро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Уроки Победы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Прямоугольник 59"/>
          <p:cNvSpPr/>
          <p:nvPr/>
        </p:nvSpPr>
        <p:spPr>
          <a:xfrm>
            <a:off x="5781600" y="3149640"/>
            <a:ext cx="3276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ВГТРК ГТРК «Регион - Тюмен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Прямоугольник 5"/>
          <p:cNvSpPr/>
          <p:nvPr/>
        </p:nvSpPr>
        <p:spPr>
          <a:xfrm>
            <a:off x="5367240" y="2230560"/>
            <a:ext cx="34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Создание совместно со школьниками видеосюжетов для уроков истории по изучению тем Великой Отечественной 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Прямоугольник 5"/>
          <p:cNvSpPr/>
          <p:nvPr/>
        </p:nvSpPr>
        <p:spPr>
          <a:xfrm>
            <a:off x="3057480" y="359244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Единые мультимедийны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ро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Прямоугольник 62"/>
          <p:cNvSpPr/>
          <p:nvPr/>
        </p:nvSpPr>
        <p:spPr>
          <a:xfrm>
            <a:off x="5821200" y="4554360"/>
            <a:ext cx="327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Прямоугольник 5"/>
          <p:cNvSpPr/>
          <p:nvPr/>
        </p:nvSpPr>
        <p:spPr>
          <a:xfrm>
            <a:off x="5418000" y="3568680"/>
            <a:ext cx="3497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Проведение единых мультимедийных уроков совместно с региональным центром Президентской библиотеки имени Б.Н. Ельц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Прямоугольник 5"/>
          <p:cNvSpPr/>
          <p:nvPr/>
        </p:nvSpPr>
        <p:spPr>
          <a:xfrm>
            <a:off x="3057480" y="515448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диопроект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Наша Победа.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о рассказ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 войн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Прямоугольник 65"/>
          <p:cNvSpPr/>
          <p:nvPr/>
        </p:nvSpPr>
        <p:spPr>
          <a:xfrm>
            <a:off x="5843520" y="6135840"/>
            <a:ext cx="3276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b50"/>
                </a:solidFill>
                <a:latin typeface="Calibri"/>
              </a:rPr>
              <a:t>ВГТРК ГТРК «Регион - Тюмен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Прямоугольник 5"/>
          <p:cNvSpPr/>
          <p:nvPr/>
        </p:nvSpPr>
        <p:spPr>
          <a:xfrm>
            <a:off x="5427720" y="4952880"/>
            <a:ext cx="3487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Радиовещание корреспондентов - участников фестиваля детских радиопрограмм «Птенец» на радиостанциях: «Радио России - «Регион - Тюмень», Вести ФМ», «Мая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Прямоугольник 3"/>
          <p:cNvSpPr/>
          <p:nvPr/>
        </p:nvSpPr>
        <p:spPr>
          <a:xfrm>
            <a:off x="0" y="0"/>
            <a:ext cx="2558880" cy="6848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Номер слайда 1"/>
          <p:cNvSpPr/>
          <p:nvPr/>
        </p:nvSpPr>
        <p:spPr>
          <a:xfrm>
            <a:off x="8763120" y="6534000"/>
            <a:ext cx="30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3" name="Group 38" descr=""/>
          <p:cNvPicPr/>
          <p:nvPr/>
        </p:nvPicPr>
        <p:blipFill>
          <a:blip r:embed="rId1"/>
          <a:stretch/>
        </p:blipFill>
        <p:spPr>
          <a:xfrm>
            <a:off x="4541760" y="85680"/>
            <a:ext cx="206280" cy="206280"/>
          </a:xfrm>
          <a:prstGeom prst="rect">
            <a:avLst/>
          </a:prstGeom>
          <a:ln w="0">
            <a:noFill/>
          </a:ln>
        </p:spPr>
      </p:pic>
      <p:sp>
        <p:nvSpPr>
          <p:cNvPr id="1644" name="Прямоугольник 5"/>
          <p:cNvSpPr/>
          <p:nvPr/>
        </p:nvSpPr>
        <p:spPr>
          <a:xfrm>
            <a:off x="2530440" y="652320"/>
            <a:ext cx="192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едиапрое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Детям - о войн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Прямоугольник 34"/>
          <p:cNvSpPr/>
          <p:nvPr/>
        </p:nvSpPr>
        <p:spPr>
          <a:xfrm>
            <a:off x="5195880" y="692280"/>
            <a:ext cx="3887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АНО «Тюменская область сегодн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Прямоугольник 3"/>
          <p:cNvSpPr/>
          <p:nvPr/>
        </p:nvSpPr>
        <p:spPr>
          <a:xfrm>
            <a:off x="76320" y="18622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Тематическое на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Calibri Light"/>
              </a:rPr>
              <a:t>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Прямая соединительная линия 51"/>
          <p:cNvSpPr/>
          <p:nvPr/>
        </p:nvSpPr>
        <p:spPr>
          <a:xfrm>
            <a:off x="76320" y="3006720"/>
            <a:ext cx="2377800" cy="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рямоугольник 52"/>
          <p:cNvSpPr/>
          <p:nvPr/>
        </p:nvSpPr>
        <p:spPr>
          <a:xfrm>
            <a:off x="25560" y="3211560"/>
            <a:ext cx="24541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- </a:t>
            </a:r>
            <a:r>
              <a:rPr b="0" lang="ru-RU" sz="1600" spc="-1" strike="noStrike">
                <a:solidFill>
                  <a:srgbClr val="224b50"/>
                </a:solidFill>
                <a:latin typeface="Calibri Light"/>
                <a:ea typeface="Arial"/>
              </a:rPr>
              <a:t>Тюменский край в годы Великой Отечественной вой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Прямая соединительная линия 53"/>
          <p:cNvSpPr/>
          <p:nvPr/>
        </p:nvSpPr>
        <p:spPr>
          <a:xfrm flipH="1">
            <a:off x="2557080" y="0"/>
            <a:ext cx="11160" cy="685152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рямоугольник 4"/>
          <p:cNvSpPr/>
          <p:nvPr/>
        </p:nvSpPr>
        <p:spPr>
          <a:xfrm>
            <a:off x="2793960" y="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Равнобедренный треугольник 54"/>
          <p:cNvSpPr/>
          <p:nvPr/>
        </p:nvSpPr>
        <p:spPr>
          <a:xfrm rot="5400000">
            <a:off x="2631240" y="8604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Прямоугольник 4"/>
          <p:cNvSpPr/>
          <p:nvPr/>
        </p:nvSpPr>
        <p:spPr>
          <a:xfrm>
            <a:off x="4768920" y="468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Прямоугольник 5"/>
          <p:cNvSpPr/>
          <p:nvPr/>
        </p:nvSpPr>
        <p:spPr>
          <a:xfrm>
            <a:off x="4433760" y="304920"/>
            <a:ext cx="466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Уроки - встречи с журналистами газеты  в школах, где готовились материалы проекта «Народная памя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Прямоугольник 5"/>
          <p:cNvSpPr/>
          <p:nvPr/>
        </p:nvSpPr>
        <p:spPr>
          <a:xfrm>
            <a:off x="2490840" y="1846440"/>
            <a:ext cx="20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етевой подпроект «Улица геро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Прямоугольник 59"/>
          <p:cNvSpPr/>
          <p:nvPr/>
        </p:nvSpPr>
        <p:spPr>
          <a:xfrm>
            <a:off x="5821200" y="2341440"/>
            <a:ext cx="3276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ИА «Тюменская ли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Прямоугольник 5"/>
          <p:cNvSpPr/>
          <p:nvPr/>
        </p:nvSpPr>
        <p:spPr>
          <a:xfrm>
            <a:off x="4433760" y="1752480"/>
            <a:ext cx="4600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Создание инфографических материалов и видеосюжетов о героях войны, именами которых названы улицы, на интернет - ресурсах школ и в социальных се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Прямоугольник 5"/>
          <p:cNvSpPr/>
          <p:nvPr/>
        </p:nvSpPr>
        <p:spPr>
          <a:xfrm>
            <a:off x="2610000" y="2733840"/>
            <a:ext cx="1823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В Сибири не было войны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Прямоугольник 5"/>
          <p:cNvSpPr/>
          <p:nvPr/>
        </p:nvSpPr>
        <p:spPr>
          <a:xfrm>
            <a:off x="4433760" y="2666880"/>
            <a:ext cx="4600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Разработка социальных проектов о земляках – участниках войны, трудовом вкладе в Победу, учителях-фронтовиках, выпускниках 1941-1945 годов.</a:t>
            </a: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Публикация лучших работ в рубрике «Уголок России» в газете «Тюменская правд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Прямоугольник 5"/>
          <p:cNvSpPr/>
          <p:nvPr/>
        </p:nvSpPr>
        <p:spPr>
          <a:xfrm>
            <a:off x="4433760" y="944640"/>
            <a:ext cx="4600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Уроки - встречи тюменских байкеров со школьниками с возложением цветов к памятникам погибш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Прямоугольник 26"/>
          <p:cNvSpPr/>
          <p:nvPr/>
        </p:nvSpPr>
        <p:spPr>
          <a:xfrm>
            <a:off x="5176800" y="1300320"/>
            <a:ext cx="3888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Мотоклуб «Ночные вол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Прямоугольник 27"/>
          <p:cNvSpPr/>
          <p:nvPr/>
        </p:nvSpPr>
        <p:spPr>
          <a:xfrm>
            <a:off x="5821200" y="3554280"/>
            <a:ext cx="3276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АНО «Тюменская правд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Прямоугольник 5"/>
          <p:cNvSpPr/>
          <p:nvPr/>
        </p:nvSpPr>
        <p:spPr>
          <a:xfrm>
            <a:off x="2562120" y="3948120"/>
            <a:ext cx="2021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к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Узнай Героя - земля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Прямоугольник 5"/>
          <p:cNvSpPr/>
          <p:nvPr/>
        </p:nvSpPr>
        <p:spPr>
          <a:xfrm>
            <a:off x="4433760" y="3981600"/>
            <a:ext cx="4600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Проведение в рамках акции конкурса на лучший альбом, стенгазету, музейную экспозицию, урок памяти, посвященные землякам - Героям Советского Союза, полным кавалерам ордена Слав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Прямоугольник 37"/>
          <p:cNvSpPr/>
          <p:nvPr/>
        </p:nvSpPr>
        <p:spPr>
          <a:xfrm>
            <a:off x="4592520" y="4971960"/>
            <a:ext cx="45054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Совет ветеранов войны, труда и правоохранительны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Прямоугольник 5"/>
          <p:cNvSpPr/>
          <p:nvPr/>
        </p:nvSpPr>
        <p:spPr>
          <a:xfrm>
            <a:off x="2660760" y="5559480"/>
            <a:ext cx="189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дпрое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Отечества достойные сын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Прямоугольник 5"/>
          <p:cNvSpPr/>
          <p:nvPr/>
        </p:nvSpPr>
        <p:spPr>
          <a:xfrm>
            <a:off x="4502160" y="5334120"/>
            <a:ext cx="4649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Проведение конкурса музыкально-литературных композиций на краеведческом материале; конкурсов музеев и сочинений, посвященных 105 годовщине со дня рождения легендарного разведчика Н.И. Кузнецова; конкурсов чтецов; театрализованных постановок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Прямоугольник 40"/>
          <p:cNvSpPr/>
          <p:nvPr/>
        </p:nvSpPr>
        <p:spPr>
          <a:xfrm>
            <a:off x="4748040" y="6386400"/>
            <a:ext cx="4158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Департамент образования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4b50"/>
                </a:solidFill>
                <a:latin typeface="Calibri"/>
              </a:rPr>
              <a:t>Ветеранские общественны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узнецова Наталья Александровна</dc:creator>
  <dc:description/>
  <dc:language>en-US</dc:language>
  <cp:lastModifiedBy>User</cp:lastModifiedBy>
  <cp:lastPrinted>2015-12-14T06:58:34Z</cp:lastPrinted>
  <dcterms:modified xsi:type="dcterms:W3CDTF">2016-03-28T04:19:41Z</dcterms:modified>
  <cp:revision>10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