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0" y="94312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5"/>
          </p:nvPr>
        </p:nvSpPr>
        <p:spPr>
          <a:xfrm>
            <a:off x="384768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fld id="{84FF4B18-821D-4A22-81C2-636B4902FAD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4804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AB887-7219-46F8-8153-D9D10F9AD48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4804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863D2-2F34-4041-A01D-18883BB9B06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6EC-DA5F-435E-AC30-8847E568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26D-AB2E-464A-A8CC-E5ECF417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263-5C90-4391-A0EE-36141448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F98-B31C-4A7D-A6D7-70C15F6F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602-5615-4221-BCB9-1F2A621C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F84-1754-400C-BB94-A954ABC5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8F2-2653-4300-A661-58A43DB8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9E8-F3CB-4B97-AB01-09D42938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E7A-BFF0-4226-9234-207D0CD0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DF9-E34B-45C1-BE8E-081A4C29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B62-F456-475E-ACF7-58F1FCB5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15B-F65C-446F-A0C7-FFF4332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0B205D-B468-4F70-B3CD-5472E1C81168}" type="datetime"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2640" y="624492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19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CF1396-2251-4D44-B832-04F5D87322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"/>
          <p:cNvSpPr/>
          <p:nvPr/>
        </p:nvSpPr>
        <p:spPr>
          <a:xfrm>
            <a:off x="250920" y="1915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c0000"/>
                </a:solidFill>
                <a:latin typeface="Verdana"/>
                <a:ea typeface="Times New Roman"/>
              </a:rPr>
              <a:t>Сводный график проведения независимой оценки качества образования во 2 полугодии 2018-2019 уч. г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8893080" y="6518160"/>
            <a:ext cx="250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760883-FE46-4F2C-899E-BD30ED25A9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82520" y="1125360"/>
          <a:ext cx="8642520" cy="4945320"/>
        </p:xfrm>
        <a:graphic>
          <a:graphicData uri="http://schemas.openxmlformats.org/drawingml/2006/table">
            <a:tbl>
              <a:tblPr/>
              <a:tblGrid>
                <a:gridCol w="939960"/>
                <a:gridCol w="2609640"/>
                <a:gridCol w="1354320"/>
                <a:gridCol w="1515960"/>
                <a:gridCol w="2222640"/>
              </a:tblGrid>
              <a:tr h="36540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ме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орма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циональные исследования качества образ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зическая куль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.04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ыборка ОУ определяется Р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российские проверочные рабо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ctr" pos="73836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кружающий м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ществозн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еограф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остранны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-05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ществозна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-05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зик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4" name="Rectangle 13"/>
          <p:cNvSpPr/>
          <p:nvPr/>
        </p:nvSpPr>
        <p:spPr>
          <a:xfrm>
            <a:off x="2394000" y="1596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250920" y="2628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c0000"/>
                </a:solidFill>
                <a:latin typeface="Verdana"/>
                <a:ea typeface="Times New Roman"/>
              </a:rPr>
              <a:t>Сводный график проведения независимой оценки качества образования во 2 полугодии 2018-2019 уч. г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8893080" y="6518160"/>
            <a:ext cx="250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334611-9A56-4BB5-9131-52A05146D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2394000" y="1596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322200" y="1176480"/>
          <a:ext cx="8642520" cy="4983120"/>
        </p:xfrm>
        <a:graphic>
          <a:graphicData uri="http://schemas.openxmlformats.org/drawingml/2006/table">
            <a:tbl>
              <a:tblPr/>
              <a:tblGrid>
                <a:gridCol w="939960"/>
                <a:gridCol w="2609640"/>
                <a:gridCol w="1354320"/>
                <a:gridCol w="1515960"/>
                <a:gridCol w="2222640"/>
              </a:tblGrid>
              <a:tr h="38016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ме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орма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российские проверочные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-05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-05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36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-15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остранны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-8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-15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-15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-15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-22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иолог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-22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мплексные метапредметные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итательская грам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-26.02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курс-исследование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нансовая грам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-04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петиционные экза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02.-11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дания-аналоги ОГЭ/КИМ на электронном носител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дания-аналоги ЕГЭ/КИМ на электронном носител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 (П, Б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8:58:48Z</dcterms:created>
  <dc:creator>Vladimir</dc:creator>
  <dc:description/>
  <dc:language>en-US</dc:language>
  <cp:lastModifiedBy>Пользователь</cp:lastModifiedBy>
  <cp:lastPrinted>2019-01-16T16:00:29Z</cp:lastPrinted>
  <dcterms:modified xsi:type="dcterms:W3CDTF">2019-01-28T09:26:54Z</dcterms:modified>
  <cp:revision>1355</cp:revision>
  <dc:subject/>
  <dc:title>Проблемы современной семьи</dc:title>
</cp:coreProperties>
</file>