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690-B2FD-4B4C-8B6E-FCF9C82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412-2155-4E7D-B304-F4799CDB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80F-150D-4C2F-BA8F-3B34079C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208-2784-416A-A0BA-61570A5E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A0C1-7A58-4D40-B2DB-C61AC782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6F99-90BC-4C33-864D-1D279B99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6B31-02D4-4152-B0CA-459D9275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F1A1-D0BD-44B2-B9FB-C6DFC3C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A11-5687-4315-B387-79D9E9A7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33BB-A8F0-4765-8C5D-56C83699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91F-A73C-4B1D-BF44-707A1DD8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60B-0FDA-4646-86D0-1042BE47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972-2341-4403-A6F6-4FBC630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8F8-B1D6-40D4-AC97-95C06344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6354-85DA-4CBF-953C-79F90558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9D3-73A2-4FD9-B0F8-29F292BB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D71D-FD4B-4ADE-B36C-D720A66B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2D28-D630-4639-A66D-0214656B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6F30-7CAE-4EC8-90B3-6507DDA7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14E2-12C5-45E4-8D2D-05E0EEAE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755A-F08C-4E41-883A-B2BA6233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3DD4-965C-4A3F-86D7-B3DD7472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8CC-3FD0-4B69-8414-F6766555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ECBF-4FBD-414C-A012-8C6961F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66BC-967E-4ADF-B465-7010E088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6DA5-DEF9-4787-9D5E-4354488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8003B-E91D-4E43-A2A4-03D97D8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48CD-DCD3-4A22-819A-1DCE980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9107F-414F-4486-B69F-59B0FBFC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DFD1-48EE-4A4A-A818-08CAD9ED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34ED-9FBD-471E-8C30-5A3D9D6E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E4DE-68BE-4CEF-95AB-588EFE7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BA61-E5CD-4203-B820-1B94BA35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A1E-1383-438A-A7F1-9AB775F4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B383-F4D9-4717-8DD6-7A9EA0A2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F2D85-023D-4519-9399-895A3629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2901-1115-4A88-834E-A274BB37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4BC0-3E9C-46BA-9E5F-1932FF41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CD96-AAB7-47EA-A544-053A9B0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4427-46C0-4675-9011-2A0BD3F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0763-8916-4451-9BD4-CDEFD98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8C23-81A0-42CD-AD8B-89460365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B00B0-E3BB-4F21-854E-D81BFB83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F0C9-E77E-4927-A3EF-5A788254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5D8-20C8-4CBE-B7AB-7E91A632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05E0E-0C48-4A90-9BF4-A9CEFF37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B6A5-62E8-4315-97BD-F0D95F6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7CEC-61D8-48FD-89DB-E0A99259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D05BB-630D-4386-AD63-8B471C9F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D67D-308B-4900-A983-87BC37D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50BA-5080-4B71-BABC-ED3FC60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0471-CF84-43D5-844F-606468B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249CB-D3B5-467F-9CB5-BAA50446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E06C9-C77A-4952-B3A3-15BCA6A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F228-D6AF-46A7-8120-CFCFA315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1D4-A097-4B64-9826-D167133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548D-1DD4-4E32-BEF8-012C43BF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FDCF-1B42-4E6B-96BA-4073214A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3BCD2-1804-476F-9012-0BCAB2C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E34F-6DDB-4879-A4CD-85D52DB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F0710-1589-4288-BC78-FB6312F0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8170-7B17-4981-AB87-B894E690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3B308-CFE6-4070-9267-27114A3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C14E-6CE3-4742-92BD-EFD5D438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C8F41-67EB-4565-8998-49645D9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E07A3-4153-4669-99AE-0944C59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86F-8A5D-47D4-BD1A-BB16E73D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BAD6-E0ED-4933-AB02-6A339EE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7BA06-3372-4937-AC72-5ED04974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CD01E-A595-466A-8CA7-4EE9A118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7486D-C0CF-4A7B-8E12-DD4FD87B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32B82-7970-4EA9-A837-5567A09A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53A6-BA20-4585-A697-8A60FCBC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259FC-0127-430A-867F-892C268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05D4-3188-42E3-9807-53171021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312C0-82F7-4757-9E8A-57A4FD94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DE2F-EB13-4FCE-9988-0F01DA59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959-61F9-4548-95C8-EE52057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4F4B-785E-4ACA-991B-1538560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91515-752B-4D13-9EDA-5224031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1FA50-98E8-48BE-9ACE-5940A07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4E731-DFE5-4BEF-9A6C-8533A97A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6C1ED-210B-4A05-83BE-4155806E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B8A-9A94-4C97-BD3F-E5AF164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2F22-AFCE-4A99-9E8E-24469A363EE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CF50-FA73-43FC-AFD9-54C2F3BDCA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3ECC-33B3-4598-AB22-08767D5ABA0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4725-AC0D-46CF-8123-BFA191D01E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84B-0CED-4D9D-A4C7-4C95212A87A1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D90B-6F2C-43BB-BD30-35563A3623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F2FE-BA34-47EB-8A26-E6D89F843C5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C743-4A49-4D9C-956B-179642A4729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E071-846C-471A-80E3-A2B8A2C2585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3EEA-908F-4D30-93F8-ED0718722B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38F6-787D-44CC-AB21-C77BA4FC9A7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4D5-9076-4061-872B-0C2B781B8A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7C5C-EB74-4A30-8A99-13730921E38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A6C-C2B6-4393-962F-4794E230145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Ольга\Desktop\i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114300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стые руки – залог здоровь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Рисунок 1" descr=""/>
          <p:cNvPicPr/>
          <p:nvPr/>
        </p:nvPicPr>
        <p:blipFill>
          <a:blip r:embed="rId2"/>
          <a:stretch/>
        </p:blipFill>
        <p:spPr>
          <a:xfrm>
            <a:off x="57240" y="0"/>
            <a:ext cx="9093240" cy="693432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"/>
          <p:cNvSpPr/>
          <p:nvPr/>
        </p:nvSpPr>
        <p:spPr>
          <a:xfrm>
            <a:off x="91440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Tahoma"/>
              </a:rPr>
              <a:t>Чистые руки – залог здоровь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0" descr="F:\DCIM\100CANON\IMG_1318.JPG"/>
          <p:cNvPicPr/>
          <p:nvPr/>
        </p:nvPicPr>
        <p:blipFill>
          <a:blip r:embed="rId1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Ольга\Desktop\detskie-kartinki-dlya-prezintatsiy-13344-large.jpg"/>
          <p:cNvPicPr/>
          <p:nvPr/>
        </p:nvPicPr>
        <p:blipFill>
          <a:blip r:embed="rId2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" descr=""/>
          <p:cNvPicPr/>
          <p:nvPr/>
        </p:nvPicPr>
        <p:blipFill>
          <a:blip r:embed="rId3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Рисунок 1" descr=""/>
          <p:cNvPicPr/>
          <p:nvPr/>
        </p:nvPicPr>
        <p:blipFill>
          <a:blip r:embed="rId2"/>
          <a:stretch/>
        </p:blipFill>
        <p:spPr>
          <a:xfrm>
            <a:off x="1371600" y="586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609480" y="1066680"/>
            <a:ext cx="8305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Calibri"/>
              </a:rPr>
              <a:t>15 октября – Всемирный день чистых рук. </a:t>
            </a:r>
            <a:r>
              <a:rPr b="0" lang="ru-RU" sz="4000" spc="-1" strike="noStrike">
                <a:solidFill>
                  <a:srgbClr val="444444"/>
                </a:solidFill>
                <a:latin typeface="Candara"/>
                <a:ea typeface="Calibri"/>
              </a:rPr>
              <a:t> Этот необычный праздник был придуман девять лет назад, чтобы предупредить людей о неприятных и даже опасных последствиях несоблюдения простых правил гигиен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609480" y="10666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Знаете ли вы, что: на наших руках от кончиков пальцев до локтей может находиться от 2 млн до 140 млн бактерий; на руках бактерии и микробы могут оставаться живыми до 3 часов; мокрые руки передают в 1000 раз больше бактерий, чем сухие; под часами или браслетом на руке прячутся миллионы 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имптомы болезней «грязных рук» боль в животе; частая тошнота, рвота; воспалительные заболевания желудочно-кишечного тракта; утомляемость, раздражительность, тревожный сон; аллергические состояния; резкое снижение массы те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огда следует мыть руки: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работой с продуктами питания (особенно тщательно перед разделыванием мяса и после него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, как приниматься за ед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осещения любых общественных мест: магазинов, детской площадки, автобусов и другого транспорт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рикосновения к деньгам – на них скапливается максимальное количество бактери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физического контакта с животными или их отходам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того, как убрали квартир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на руках есть любое очевидное загрязнение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до и после любой медицинской процедуры: обработки ран, перевязке, массаж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 как ставите  линзы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возвращения домой с любой прогулки, даже если не посещали общественные места, поскольку в любом случае, прикасались к кнопке лифта, перилам или ручке входной двер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контакта с больными людьми (в особенности, болеющими инфекциями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вы чихаете или кашляете, прикрывая рот рукой. Бактерии осядут на ладони, их нужно обязательно смыть, чтобы не заражать других людей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85640" y="3352680"/>
            <a:ext cx="408636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85640" y="228600"/>
            <a:ext cx="8209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1 ФБУЗ «Центр гигиены и эпидемиологии в Тюменской области» посетили корреспонденты тюменского интернет издания «72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» с целью – проверить чистоту рук и предметов ежедневного пользования. После небольшого инструктажа посетителей сотрудники лаборатории отобрали смывы со всех поверхностей: с мобильного телефона, с грязных и чистых рук, с фотоаппарата, с компьютерной клавиатуры, с бумажных и металлических денег. Смывы с поверхностей помещены в пробирки со стерильными питательными средами для ускорения роста микроорганизмов, если таковые обнаружатся в исследуемом материа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79920" y="335268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7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47840" y="3184560"/>
            <a:ext cx="40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F:\DCIM\100CANON\IMG_1326.JPG"/>
          <p:cNvPicPr/>
          <p:nvPr/>
        </p:nvPicPr>
        <p:blipFill>
          <a:blip r:embed="rId4"/>
          <a:stretch/>
        </p:blipFill>
        <p:spPr>
          <a:xfrm>
            <a:off x="485640" y="152280"/>
            <a:ext cx="4010040" cy="2928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7" descr="F:\DCIM\100CANON\IMG_1300.JPG"/>
          <p:cNvPicPr/>
          <p:nvPr/>
        </p:nvPicPr>
        <p:blipFill>
          <a:blip r:embed="rId5"/>
          <a:stretch/>
        </p:blipFill>
        <p:spPr>
          <a:xfrm>
            <a:off x="4579920" y="152280"/>
            <a:ext cx="412452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так, что же у нас получилось? Как оказалось, самыми грязными, судя по результатам нашего эксперимента, оказались руки после поездки в автобусе.  Кроме того, специалисты обнаружили на ладонях стафилококк гемолитический, который является опасной, но довольно распространенной бактерией. Сделав смыв с фотоаппарата, лаборанты увидели золотистого стафилококка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51360" cy="38102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3"/>
          <a:stretch/>
        </p:blipFill>
        <p:spPr>
          <a:xfrm>
            <a:off x="4408560" y="1295280"/>
            <a:ext cx="4278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w072003004</dc:creator>
  <dc:description/>
  <dc:language>en-US</dc:language>
  <cp:lastModifiedBy>1</cp:lastModifiedBy>
  <dcterms:modified xsi:type="dcterms:W3CDTF">2018-10-11T11:49:59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