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D4F-53A3-44DC-9044-39EF637C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DEF-B2D6-4171-A5DF-4918E0B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968-9B95-47DD-8D51-0BE1C4DD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727-C3BF-4C75-839B-8E1A993F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3F5-B51D-46FD-ADFB-18DC078C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E50-D3D6-4C1F-8E51-0A38D87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B46-D086-4655-A9CF-F2F9D149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1BF-227C-48BD-86D5-DD71F65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81AE-1C70-4C27-8711-8D2E050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0D2E-1F9B-4751-98BF-AD780CFC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6DC-E2E9-42FA-9860-73C0B896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FB7-D45E-4CC1-B32D-1F9031D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AAE-12AE-4DEC-9CDB-066808C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1356-C748-46BC-B91B-AA26723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8CB-5E83-4B70-B22D-45408C03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A5B2-BB0C-45F0-9C82-C9DF0B2C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E417-2375-4C17-8ED7-EA9F42CA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AF1A-8B83-4E6B-8DDD-3DDE972C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D144-2219-4088-8F45-A4FBCD13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7A46-CD7C-4152-B5FF-52CBAB60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C7E4-C5DF-42FC-B542-3A3A7580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DE12-3E2C-406E-B4DA-B1DD13D8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B5C-68D8-451C-A92E-512E40D2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9DE2-9D65-42D5-844D-BC18F78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39C1-9CAE-4F23-9D92-2A3ADB99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B1F3-6607-4D85-9F70-CA4E27E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E6E6-76CC-41C1-8394-0025E19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02A7-1E66-4761-A8B8-D885A658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74E6-3D85-4D5C-B7DF-DBDAC4F9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932C-E08C-4D8C-A0B6-16F973B0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4476-F888-42D4-8DF5-8696138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10E1-E027-4CE6-9DD3-80EAD5D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3966-BD64-48D7-825D-84CFF6E5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3ED-073A-4143-B887-F4937F1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A463-EB7E-47B0-B895-A28537CC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1C56-E80A-455E-8AAE-C992044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8BA6-8779-492E-B6A3-48D8B8D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4240-BD65-43BC-957E-04B816AB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69D8-F708-4AE0-A4C3-38A36C2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4FBE-C0A4-447A-8A38-7ECBFC02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75F3-16DD-4DCB-8DBB-8851CBA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371D-5307-4048-9452-F34316AB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5C50-980D-411C-B421-31354D34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4D52-9AE6-466D-974F-AB432A6A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EE3-AB61-4B61-B58B-BE48322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C278-7F2E-44B7-A40C-5560044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41BC-7A9D-43E4-9477-0A2CA8F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AF33-3C82-4E1F-A839-E7C7BE4C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573C-3CFF-4448-ABBC-8B3EA245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0C21-89E1-4668-B209-3E9E0A3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4155-5E43-4DA6-A769-CCC89E8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B9C2-4379-4FF3-9429-83D58E8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E124-25DC-4293-A769-3BD12BC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E7E6-99EA-481A-B013-CC3DD78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5049-0AF3-401F-A7A8-F8F9D869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4A0-6879-481F-B1CD-3A25BDEA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7999-D0E9-4903-BC60-75B4B046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1113-4CE9-42D2-A407-D546D021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F712-F708-4D5E-9C74-5CF1F917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996C-14EB-49CC-A415-9D7357F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2C25-3736-438D-B452-1C64C657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AE63-F35C-497F-8775-89287A0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E3BD-F24A-4E50-92EE-C7C01BB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976B-EF96-43B4-9566-55173D9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6C37-6276-4582-812D-D0F3C35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2C59-0A0B-41AA-8273-9AA1A82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5EB-C46A-409D-B124-111A85E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F4E3-E7A8-4D42-8BA1-8BA712E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D625-ABD0-4F4D-9EFE-F7384451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38FC-F3B9-4EFC-9F63-F723BA0E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BD7BA-8565-420B-A23B-00EBDF8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4FAB-DF11-4979-8DB0-7D78879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944A-B3E7-4CEA-BFEC-6865F18B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D667C-4096-46FD-B4A8-F9383765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248B-A89A-439B-A88D-9A4BE35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FA18-1669-4E48-A734-DB66C94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EC60E-D398-4031-BC66-1D71938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3A4-0551-41B8-BCC4-819B12D2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5CCE-186F-4ACC-8348-07736FE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F92E-ACAC-4CC5-A7E1-73EE8BB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60E3-FB73-4573-8910-C0F1C72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5B28-1253-4E51-90EC-B9C1B201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86E5-066E-4894-99BD-46158918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434-49DB-498D-8546-EF3E35C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956E-0396-4855-A231-3509EE3A57E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5AE-C346-4E15-A41F-3FFCED0C00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ADA9-E928-4EF1-BC1D-20CADE76CF4B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658-1F1C-4D4B-9468-8463BAFAC5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580C-5C4C-4F2D-A9DC-AFDD3DC9C83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05F-647E-466B-BEFF-86AB3FF444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D82-A42B-4A7A-AA46-C1F4443D40D3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B39-8FEB-4A3D-A749-D09EB85DAD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D841-9B9C-46E5-A753-42DE63B6BBC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3E4-7153-4854-99BE-A1130F3B6A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E3A-5D2C-41E5-A374-6C90D544007C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1D9-4D31-4FD2-876D-07B197B926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B9C-6F73-4B62-BE21-3568753FC98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285-5E46-425D-AAC9-5CEACB2ED3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11430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стые руки – залог здоровь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"/>
          <p:cNvSpPr/>
          <p:nvPr/>
        </p:nvSpPr>
        <p:spPr>
          <a:xfrm>
            <a:off x="91440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Tahoma"/>
              </a:rPr>
              <a:t>Чистые руки – залог здоровь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0" descr="F:\DCIM\100CANON\IMG_1318.JPG"/>
          <p:cNvPicPr/>
          <p:nvPr/>
        </p:nvPicPr>
        <p:blipFill>
          <a:blip r:embed="rId1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Ольга\Desktop\detskie-kartinki-dlya-prezintatsiy-13344-large.jpg"/>
          <p:cNvPicPr/>
          <p:nvPr/>
        </p:nvPicPr>
        <p:blipFill>
          <a:blip r:embed="rId2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1371600" y="586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609480" y="1066680"/>
            <a:ext cx="8305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Calibri"/>
              </a:rPr>
              <a:t>15 октября – Всемирный день чистых рук. </a:t>
            </a:r>
            <a:r>
              <a:rPr b="0" lang="ru-RU" sz="4000" spc="-1" strike="noStrike">
                <a:solidFill>
                  <a:srgbClr val="444444"/>
                </a:solidFill>
                <a:latin typeface="Candara"/>
                <a:ea typeface="Calibri"/>
              </a:rPr>
              <a:t> Этот необычный праздник был придуман десять лет назад, чтобы предупредить людей о неприятных и даже опасных последствиях несоблюдения простых правил гигие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609480" y="10666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Знаете ли вы, что: на наших руках от кончиков пальцев до локтей может находиться от 2 млн до 140 млн бактерий; на руках бактерии и микробы могут оставаться живыми до 3 часов; мокрые руки передают в 1000 раз больше бактерий, чем сухие; под часами или браслетом на руке прячутся миллионы 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имптомы болезней «грязных рук» боль в животе; частая тошнота, рвота; воспалительные заболевания желудочно-кишечного тракта; утомляемость, раздражительность, тревожный сон; аллергические состояния; резкое снижение массы те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гда следует мыть руки: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работой с продуктами питания (особенно тщательно перед разделыванием мяса и после него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, как приниматься за ед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осещения любых общественных мест: магазинов, детской площадки, автобусов и другого транспорт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рикосновения к деньгам – на них скапливается максимальное количество бактери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физического контакта с животными или их отходам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того, как убрали квартир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на руках есть любое очевидное загрязнение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до и после любой медицинской процедуры: обработки ран, перевязке, массаж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 как ставите  линзы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возвращения домой с любой прогулки, даже если не посещали общественные места, поскольку в любом случае, прикасались к кнопке лифта, перилам или ручке входной двер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контакта с больными людьми (в особенности, болеющими инфекциями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вы чихаете или кашляете, прикрывая рот рукой. Бактерии осядут на ладони, их нужно обязательно смыть, чтобы не заражать других люде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85640" y="3352680"/>
            <a:ext cx="408636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85640" y="228600"/>
            <a:ext cx="8209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1 ФБУЗ «Центр гигиены и эпидемиологии в Тюменской области» посетили корреспонденты тюменского интернет издания «72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» с целью – проверить чистоту рук и предметов ежедневного пользования. После небольшого инструктажа посетителей сотрудники лаборатории отобрали смывы со всех поверхностей: с мобильного телефона, с грязных и чистых рук, с фотоаппарата, с компьютерной клавиатуры, с бумажных и металлических денег. Смывы с поверхностей помещены в пробирки со стерильными питательными средами для ускорения роста микроорганизмов, если таковые обнаружатся в исследуемом материа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79920" y="335268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47840" y="3184560"/>
            <a:ext cx="40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F:\DCIM\100CANON\IMG_1326.JPG"/>
          <p:cNvPicPr/>
          <p:nvPr/>
        </p:nvPicPr>
        <p:blipFill>
          <a:blip r:embed="rId4"/>
          <a:stretch/>
        </p:blipFill>
        <p:spPr>
          <a:xfrm>
            <a:off x="485640" y="152280"/>
            <a:ext cx="4010040" cy="2928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F:\DCIM\100CANON\IMG_1300.JPG"/>
          <p:cNvPicPr/>
          <p:nvPr/>
        </p:nvPicPr>
        <p:blipFill>
          <a:blip r:embed="rId5"/>
          <a:stretch/>
        </p:blipFill>
        <p:spPr>
          <a:xfrm>
            <a:off x="4579920" y="152280"/>
            <a:ext cx="412452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так, что же у нас получилось? Как оказалось, самыми грязными, судя по результатам нашего эксперимента, оказались руки после поездки в автобусе.  Кроме того, специалисты обнаружили на ладонях стафилококк гемолитический, который является опасной, но довольно распространенной бактерией. Сделав смыв с фотоаппарата, лаборанты увидели золотистого стафилококка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51360" cy="3810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3"/>
          <a:stretch/>
        </p:blipFill>
        <p:spPr>
          <a:xfrm>
            <a:off x="4408560" y="1295280"/>
            <a:ext cx="4278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072003004</dc:creator>
  <dc:description/>
  <dc:language>en-US</dc:language>
  <cp:lastModifiedBy>user</cp:lastModifiedBy>
  <dcterms:modified xsi:type="dcterms:W3CDTF">2019-10-07T11:28:00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