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47C7-0255-4E29-975A-AA54E405E8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5807-07CD-45F8-A161-8297B574AD98}" type="slidenum">
              <a:rPr b="0" i="1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EEA-1CD8-4BBD-A1D7-5241637F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382-4CF5-4960-9F8E-0E50BE51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06BB9-A5AF-4303-8006-2554318E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3F59C-3DD3-4BBB-A110-7AC52A81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43770-E757-433C-B713-FA0F2BBB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A2ED7-0F53-41C5-9DA0-C3A71BEE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AD452-CEF6-43EE-848B-C3690666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5E05B-EE03-4896-84FC-87989673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72E1D-0E2E-410A-BA3C-CE17755F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AF0D6-0898-47B4-BCE4-B63D2F18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E4419-43DE-4345-A864-77C07135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7019C-E21B-4DFF-9369-0A07347D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1B7-4F12-43A6-A88D-9B8B0EAE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390E4-FDDF-4412-9D65-848923AB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FFE40-01AD-499D-B485-95832351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52033-931B-4112-8962-C7063B8D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B537D-B287-41B6-AAA6-A4661652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8FA85-2AB0-4203-81EA-EC5C8047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E7993-D435-4D9B-AAB7-353B6B4C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7E6D0-C818-4735-A5BC-19FAE3B3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3FA3D-59F7-4DB0-A8B6-F4C27D50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7E091-40C4-406C-AF4E-CE15E545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B39AF-1352-4291-8A75-F38AB4B3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0FA-924D-4570-8881-A6FA26F2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3D4FB-8FAE-429E-846C-A3277DCE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3C839-58FE-4F08-862B-E5C0F512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4A95F-E73F-4FD8-AE4D-D6E8D28E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042F7-DCF6-421A-99D7-E1FA1C02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DB1AB-0308-4B5D-8B9B-6B99B4A0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99B18-D22E-48AF-9652-DF2A09C0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82074-7480-4A80-8601-5253E4D7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A65F4-1D62-4F41-A28B-2B1581D4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AE75E-05FB-42A9-8DB6-9869379C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C7318-8B25-4E77-A7A9-40C21115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5FCA5-CB7D-4843-BBC6-D4E25C45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DA5DE-295D-4B06-9A63-6B8B94B9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56AAE-D4F6-4941-9347-DE2C7EE8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AEA-32C5-4DA5-AAC8-1266A5BB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E8BA-85D9-4CB1-9C55-0303F2D9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B0F6-F808-4612-BB0D-6CCC6287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E8B6-F22D-49C5-9771-3AE21C9E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3299-E908-4862-9F04-738F340B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D309-01E8-4A8C-9BCF-AA27EEF2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09E-90C5-4C33-9FA2-8A641BA2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3452-2CFE-4F89-9702-31E1D085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A51D-08D0-47B3-A96D-988051AA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27DD-305D-4F98-B48A-13EDAD80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8205-00C7-435E-9AB6-D8D03108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0436-1AB4-4DE2-9AA9-C8DF9E36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0DAB-916E-443D-8047-711727E0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6004-283A-4FD2-9F0C-28B3DD00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51F3D-F5B5-43B8-B8D9-D2286889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2958-B849-4543-A309-217EE25F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8D22-E21F-4FF0-B497-80D2EB30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386-3DCA-4673-8194-E333CBF9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08D5B-CE36-4189-BA1F-28C8882F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B58C-B057-4C11-ADB8-6C3AA9CF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7EE6-3B30-4F23-91E1-B7108E6B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004C-2E92-43F2-857B-C02D01D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B0770-60CB-4553-A755-C34CB658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BF7B-144A-4ECA-B8E2-B955F480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9760-F132-4E4A-B36E-863DA4FD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CEB16-946F-4CD0-8C29-FC22E203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08EF-395B-45F2-87CA-F8BCE3CA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ABB0A-C8FF-44BD-88E6-24BB7771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659-E1A0-42A1-B80C-9AB2455C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3A15-A7FE-4A20-8549-3AD1CBE5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62415-2356-43DE-BF30-F9265DF8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B59E4-1A0B-4275-89A4-F578D819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E483-E02B-4573-8950-D65AB054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A0AF1-521C-470D-821C-3716213E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3970C-8373-427A-BE8C-F7FE28CF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B9663-7D7E-4671-B16C-78760E92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23E7-318A-4A7D-AE5F-B82C7653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20BFC-3880-4A25-BDCF-96B90B43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F695D-2E94-4FB3-B999-2ED64F0A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F6B-130C-4089-8FCA-22C02309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CFB0F-5205-478A-8B28-F0072C26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DB240-5A18-4E6B-9CAB-765A5712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F3C89-335E-45E6-8313-3EA469BC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F3FDA-A518-400A-9EC9-60CDF5EF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E1843-1427-4BDD-A1E3-E9260EFB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6F201-4509-48EB-BC7C-5513B51A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1A931-67F1-4DEB-A9D5-4859282F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AF37F-C537-43B9-83D7-05C05D8F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6E07E-BE14-4047-93CF-A9F36834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F862E-4B7E-4D6C-87A0-CF055392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1A9-C8D7-4E09-B464-0C90AEC4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88067-112D-4DB0-9DD0-712998F9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C8B2B-B8F1-42E5-939C-F59C04D3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4D5E7-24A6-4E36-B61B-35877AE4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55681-EAB1-4EB7-A119-754728A6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C5083-ACAD-49A5-8E45-AADB2262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CE9B2-1888-43EE-AD5C-CADAE753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81248-4CD0-4D00-ACE9-1C99542E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3B2D8-7116-4408-AB37-E0EA2F02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B809D-8FA4-4086-AFF4-581FED78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F1707-5939-474B-BEAD-6C06B09B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971-9077-419F-9673-9FF0E83D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F4998-7BB0-45D1-B7FC-BCF3532B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7B4E0-3517-4DC5-8B3B-7A203390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1917A-2C67-43BA-9B79-6751BA83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BC4FD-5A19-40AE-B055-884BAC79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CF86F-A9BF-4234-A61E-22F5856C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A5A79-9236-483A-8EC4-38B374E0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9E8BC-7831-4A13-AC3C-2CD4516E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D0968-D171-4812-A603-50FB39BC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A8FA9-F439-4ECA-A2B4-BA9F6648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0CF30-C74F-4A89-B160-175D4B2A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E5F-2D61-4C41-9BE3-31D0C471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E9D32-D5CA-42F6-9C68-F6758906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072A6-CD38-4F0D-B730-3F0D27C1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85A3A-4B4F-42EA-9D7C-C215CDC7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1A839-B1F8-43DF-B0CA-EBAA298E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DE6B9-7648-4421-8717-8FB0E0D4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25373-8CB1-49EE-BB74-E3CE6F50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35E9E-F51A-4287-84FE-24C27D33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C5C21-B390-40FA-9EF3-E1BE8A28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E354F-A722-4D89-A282-82513689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C9B78-566A-4D38-BEBD-8ABDE59C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2C1C-24E5-4F36-8B96-74E4C852F5B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5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5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9FBD-E4C7-4A72-9502-E89B2823C1E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0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3059-7DC0-45A7-A110-7E12054A009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485A-DE37-4B13-9977-C431AA1B914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7BCB-D209-4542-8A64-E77241F96FA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7E78-9C5A-4B78-AD19-6AD0D72676C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E5F7-6910-438D-86AA-93FC1FF494B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06C1-063A-4ECC-8950-0012B3E2CD5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B009-07C2-4BFA-9419-7E67655AF3C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40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5B61-3192-4A30-9BBA-A085317B3E5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3"/>
          <p:cNvSpPr/>
          <p:nvPr/>
        </p:nvSpPr>
        <p:spPr>
          <a:xfrm>
            <a:off x="1857240" y="15001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Картинка улыбки</a:t>
            </a: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2" name="Picture 26" descr="http://t0.gstatic.com/images?q=tbn:ANd9GcT-Sc4yLL8sgxUnMdITTcHqScpo3cR7uqZilUCgn8LBn4WDqols"/>
          <p:cNvPicPr/>
          <p:nvPr/>
        </p:nvPicPr>
        <p:blipFill>
          <a:blip r:embed="rId1"/>
          <a:stretch/>
        </p:blipFill>
        <p:spPr>
          <a:xfrm>
            <a:off x="928800" y="0"/>
            <a:ext cx="6357960" cy="64292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0"/>
          <p:cNvSpPr/>
          <p:nvPr/>
        </p:nvSpPr>
        <p:spPr>
          <a:xfrm>
            <a:off x="7572240" y="1571760"/>
            <a:ext cx="1000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Н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А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С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Т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Р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О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Н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И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3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WordArt 5"/>
          <p:cNvSpPr txBox="1"/>
          <p:nvPr/>
        </p:nvSpPr>
        <p:spPr>
          <a:xfrm>
            <a:off x="2195640" y="907920"/>
            <a:ext cx="4752720" cy="4011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1619280" y="1628640"/>
            <a:ext cx="6265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Ребята, я надеюсь,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что вы будете терпимее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тноситься друг к другу.</a:t>
            </a:r>
            <a:r>
              <a:rPr b="0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6" name="WordArt 7"/>
          <p:cNvSpPr txBox="1"/>
          <p:nvPr/>
        </p:nvSpPr>
        <p:spPr>
          <a:xfrm>
            <a:off x="1403280" y="4643280"/>
            <a:ext cx="66247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 толерантны!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1"/>
          <p:cNvSpPr/>
          <p:nvPr/>
        </p:nvSpPr>
        <p:spPr>
          <a:xfrm>
            <a:off x="1000080" y="20718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387026"/>
                </a:solidFill>
                <a:latin typeface="Arial Black"/>
                <a:ea typeface="Times New Roman"/>
              </a:rPr>
              <a:t>Л</a:t>
            </a:r>
            <a:r>
              <a:rPr b="1" lang="ru-RU" sz="5400" spc="-1" strike="noStrike">
                <a:solidFill>
                  <a:srgbClr val="990099"/>
                </a:solidFill>
                <a:latin typeface="Arial Black"/>
                <a:ea typeface="Times New Roman"/>
              </a:rPr>
              <a:t>Е</a:t>
            </a:r>
            <a:r>
              <a:rPr b="1" lang="ru-RU" sz="5400" spc="-1" strike="noStrike">
                <a:solidFill>
                  <a:srgbClr val="0c9b74"/>
                </a:solidFill>
                <a:latin typeface="Arial Black"/>
                <a:ea typeface="Times New Roman"/>
              </a:rPr>
              <a:t>Р</a:t>
            </a:r>
            <a:r>
              <a:rPr b="1" lang="ru-RU" sz="5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А</a:t>
            </a:r>
            <a:r>
              <a:rPr b="1" lang="ru-RU" sz="5400" spc="-1" strike="noStrike">
                <a:solidFill>
                  <a:srgbClr val="663300"/>
                </a:solidFill>
                <a:latin typeface="Arial Black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ff0066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cc0099"/>
                </a:solidFill>
                <a:latin typeface="Arial Black"/>
                <a:ea typeface="Times New Roman"/>
              </a:rPr>
              <a:t>С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a50021"/>
                </a:solidFill>
                <a:latin typeface="Arial Black"/>
                <a:ea typeface="Times New Roman"/>
              </a:rPr>
              <a:t>Ь</a:t>
            </a:r>
            <a:endParaRPr b="0" i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-360" y="285480"/>
            <a:ext cx="5000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Толерантность –                   это способность человека терпимо относиться к тем, кто думает и поступает не так, как ты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6" name="Picture 24" descr="http://t0.gstatic.com/images?q=tbn:ANd9GcQ6dA9EcvFLTVHYUrpe4m7jNjckzZXcOLkhEWz2UcLO_BdW4gsbVA"/>
          <p:cNvPicPr/>
          <p:nvPr/>
        </p:nvPicPr>
        <p:blipFill>
          <a:blip r:embed="rId1"/>
          <a:stretch/>
        </p:blipFill>
        <p:spPr>
          <a:xfrm>
            <a:off x="5072040" y="928800"/>
            <a:ext cx="3714840" cy="4705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Rectangle 4" descr=""/>
          <p:cNvPicPr/>
          <p:nvPr/>
        </p:nvPicPr>
        <p:blipFill>
          <a:blip r:embed="rId1"/>
          <a:stretch/>
        </p:blipFill>
        <p:spPr>
          <a:xfrm>
            <a:off x="4498920" y="274680"/>
            <a:ext cx="4187880" cy="58881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toler2"/>
          <p:cNvPicPr/>
          <p:nvPr/>
        </p:nvPicPr>
        <p:blipFill>
          <a:blip r:embed="rId2"/>
          <a:stretch/>
        </p:blipFill>
        <p:spPr>
          <a:xfrm>
            <a:off x="468360" y="0"/>
            <a:ext cx="824688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7855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Arial Black"/>
              </a:rPr>
              <a:t>Толерантность – это уважение к  другому!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0" name="Picture 22" descr="http://t2.gstatic.com/images?q=tbn:ANd9GcTSYM507VTk8r6xNLEM1oWS0oNSTSqtd9Jwyju23ofpj5q8U5SaoQ"/>
          <p:cNvPicPr/>
          <p:nvPr/>
        </p:nvPicPr>
        <p:blipFill>
          <a:blip r:embed="rId1"/>
          <a:stretch/>
        </p:blipFill>
        <p:spPr>
          <a:xfrm>
            <a:off x="1857240" y="2428920"/>
            <a:ext cx="4929480" cy="4000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3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WordArt 5"/>
          <p:cNvSpPr txBox="1"/>
          <p:nvPr/>
        </p:nvSpPr>
        <p:spPr>
          <a:xfrm>
            <a:off x="428760" y="928800"/>
            <a:ext cx="8501040" cy="357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88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1643040" y="1285920"/>
            <a:ext cx="664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Arial Black"/>
                <a:ea typeface="Arial"/>
              </a:rPr>
              <a:t>ТОЛЕРАНТНОСТЬ</a:t>
            </a:r>
            <a:r>
              <a:rPr b="0" i="1" lang="ru-RU" sz="2400" spc="-1" strike="noStrike">
                <a:solidFill>
                  <a:srgbClr val="0000cc"/>
                </a:solidFill>
                <a:latin typeface="Arial Black"/>
                <a:ea typeface="Arial"/>
              </a:rPr>
              <a:t> – УВАЖЕНИЕ, ПРИНЯТИЕ ЛЮДЕЙ, КАКИМИ БЫ ОТЛИЧНЫМИ ОТ НАС ОНИ НЕ БЫЛИ. 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 Black"/>
                <a:ea typeface="Arial"/>
              </a:rPr>
              <a:t>Люди разные, это нужно понимать и принимать. 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 Black"/>
                <a:ea typeface="Arial"/>
              </a:rPr>
              <a:t>Человек имеет право быть ДРУГИМ!!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8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Заголовок 1"/>
          <p:cNvSpPr/>
          <p:nvPr/>
        </p:nvSpPr>
        <p:spPr>
          <a:xfrm>
            <a:off x="468360" y="1484280"/>
            <a:ext cx="8229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c0000"/>
                </a:solidFill>
                <a:latin typeface="Verdana"/>
              </a:rPr>
              <a:t>ТОЛЕРАНТНОСТЬ –</a:t>
            </a:r>
            <a:r>
              <a:rPr b="1" lang="ru-RU" sz="4500" spc="-1" strike="noStrike">
                <a:solidFill>
                  <a:srgbClr val="0000cc"/>
                </a:solidFill>
                <a:latin typeface="Arial Black"/>
              </a:rPr>
              <a:t> </a:t>
            </a:r>
            <a:br>
              <a:rPr sz="4500"/>
            </a:br>
            <a:r>
              <a:rPr b="1" i="1" lang="ru-RU" sz="4500" spc="-1" strike="noStrike">
                <a:solidFill>
                  <a:srgbClr val="0000cc"/>
                </a:solidFill>
                <a:latin typeface="Arial"/>
              </a:rPr>
              <a:t>это уважение, принятие и понимание многообразия мира.</a:t>
            </a:r>
            <a:endParaRPr b="0" i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2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WordArt 5"/>
          <p:cNvSpPr txBox="1"/>
          <p:nvPr/>
        </p:nvSpPr>
        <p:spPr>
          <a:xfrm>
            <a:off x="2050920" y="333360"/>
            <a:ext cx="4753080" cy="401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4" name="Прямоугольник 5"/>
          <p:cNvSpPr/>
          <p:nvPr/>
        </p:nvSpPr>
        <p:spPr>
          <a:xfrm>
            <a:off x="1785960" y="2571840"/>
            <a:ext cx="6000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 Black"/>
                <a:ea typeface="Arial"/>
              </a:rPr>
              <a:t>Ребята, вы поняли, что такое толерантность?</a:t>
            </a:r>
            <a:r>
              <a:rPr b="1" i="1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8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WordArt 5"/>
          <p:cNvSpPr txBox="1"/>
          <p:nvPr/>
        </p:nvSpPr>
        <p:spPr>
          <a:xfrm>
            <a:off x="2050920" y="549360"/>
            <a:ext cx="4753080" cy="401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1785960" y="1197000"/>
            <a:ext cx="6000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Уваже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Доброт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Сопережива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Дружб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Понима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Поддержк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Терпимость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Lyda</dc:creator>
  <dc:description/>
  <dc:language>en-US</dc:language>
  <cp:lastModifiedBy>User</cp:lastModifiedBy>
  <dcterms:modified xsi:type="dcterms:W3CDTF">2015-11-30T11:02:29Z</dcterms:modified>
  <cp:revision>122</cp:revision>
  <dc:subject/>
  <dc:title>Беседа о толерантности  для учащихся 1-2 класса.</dc:title>
</cp:coreProperties>
</file>