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C08A-51DD-4A82-97BB-1A7DFB67C6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4E5B-EAE2-4811-805F-31EDB7CDF2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A281-6566-4438-B184-720C3C7513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ustomShape 2"/>
          <p:cNvSpPr/>
          <p:nvPr/>
        </p:nvSpPr>
        <p:spPr>
          <a:xfrm>
            <a:off x="3852720" y="9429840"/>
            <a:ext cx="294480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37F8-4207-4696-BCAF-AFD354F098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987A-73EB-4A79-B3AA-0A55EF190F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80C-D3E4-4CAE-BC3F-CD54C237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9E1-81D3-4202-A211-51F65C6D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10C-F853-45D0-B9BB-FEA19268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C1E-10C5-4F9B-A3A0-4BBB917D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2088-66D6-43A3-816D-809BE099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8065-85C7-4E77-8E28-4E5F9834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6EDB-9542-497C-AC51-BCB6EB5E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6A11-FAB5-4428-BAAD-B9645A6F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51F1-93EA-4D6E-A8C2-53416C5A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4584-0FC0-47A7-AA5A-DB0F78DA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F9DA-9618-46F1-A2B9-3535887A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3A9-FEE2-49B7-BDC7-A19B14C9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D2F4-2C0A-4A55-A02F-292588ED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9B78-277B-448B-9A9A-E3E80612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A26A-1040-47A3-9EB6-C228F7D3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C0A2-4E0D-42D8-828D-9005A376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DECF-21F0-448E-9127-C22E014B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15E-22B8-4CC7-B97B-179791FE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6B3-9C2F-4EEB-98DD-4F5F6344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C1F-68C8-4477-94F1-26818C50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B5E-3247-4569-94BA-1F0D6022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76D-5197-4056-8E8B-0BEA910C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7AB-5813-4139-A61C-B687F384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DAC6-5EF1-4B5B-957E-C4020C01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61E5-E43C-4357-8DC2-CA5051EAF7BB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F2C3-B959-4306-9813-A65DBDAF431C}" type="datetime">
              <a:rPr b="0" lang="ru-RU" sz="24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27DD-5BC2-492E-BD6B-1DB592D84E64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iig.su/%22%20%5Ct%20%22_top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zdorovoe.menu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6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468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17236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Региональный стандарт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обеспечения бесплатным питанием в 1-4 классах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6659640" y="11826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Тюм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17 августа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9"/>
          <p:cNvSpPr/>
          <p:nvPr/>
        </p:nvSpPr>
        <p:spPr>
          <a:xfrm>
            <a:off x="8710560" y="1197000"/>
            <a:ext cx="0" cy="21081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304920" y="979560"/>
            <a:ext cx="86565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формирование среды, способствующей повышению информированности граждан об основных принципах здорового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нлайн-обучение педагогов, родителей, учеников 5-11 клас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учение представленного информационного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полнение самостоятельной работы, тес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вместная работа родителей с детьми по формированию режима дня и рациона питания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уровня сложност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1 - для 5-6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2 - для 7-9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- для 10-11 классов, педагогов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Срок: до 01.10.2020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b3"/>
                </a:solidFill>
                <a:latin typeface="Arial"/>
                <a:ea typeface="Calibri, sans-serif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Calibri, sans-serif"/>
                <a:hlinkClick r:id="rId1"/>
              </a:rPr>
              <a:t>http://www.niig.su/</a:t>
            </a:r>
            <a:r>
              <a:rPr b="0" lang="ru-RU" sz="1300" spc="-1" strike="noStrike">
                <a:solidFill>
                  <a:srgbClr val="0066b3"/>
                </a:solidFill>
                <a:latin typeface="Arial"/>
                <a:ea typeface="Microsoft YaHei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04920" y="182520"/>
            <a:ext cx="8686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Проект по реализации всероссийской просветительской програм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«Основы здорового питания»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76320" y="5715000"/>
            <a:ext cx="896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*Проект в рамках ФП «Формирование системы мотивации граждан к здоровому образу жизни и отка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от вредных привычек (Укрепление общественного здоровья)» нацпроекта «Демограф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Координатор - Роспотребнадз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"/>
          <p:cNvSpPr/>
          <p:nvPr/>
        </p:nvSpPr>
        <p:spPr>
          <a:xfrm>
            <a:off x="208080" y="2095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  <a:ea typeface="Verdana"/>
              </a:rPr>
              <a:t>Задачи, требующие конкретизации «на мест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"/>
          <p:cNvSpPr/>
          <p:nvPr/>
        </p:nvSpPr>
        <p:spPr>
          <a:xfrm>
            <a:off x="345960" y="863640"/>
            <a:ext cx="85694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Муниципальные органы управления образование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Организация бесплатного горячего питания 1-4 классов в муниципальных и государственных школах в соответствии 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еречнем мероприятий (Дорожной картой), утвержденного приказом Департамента от 10.07.2020 №325/ОД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Региональным стандартом оказания услуги по обеспечению горячим питанием обучающихся по образовательным программам начального общего образования (1-4 классы) в государственных и муниципальных образовательных организациях, расположенных в Тюменской обла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овершенствование организации школьного питания в основной и средней школе (вариативность, специализированные меню, «Учет питания», современное материально-техническое оснащение пищеблоков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Контроль и мониторинг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Образовательные организац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Выполнение всех обязательных требований к организации бесплатного горячего питания 1-4 класс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роведение информационно-просветительской работы с родительской общественностью по вопросам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</a:t>
            </a:r>
            <a:r>
              <a:rPr b="0" i="1" lang="ru-RU" sz="1600" spc="-1" strike="noStrike">
                <a:solidFill>
                  <a:srgbClr val="1f4e79"/>
                </a:solidFill>
                <a:latin typeface="Verdana"/>
                <a:ea typeface="Times New Roman"/>
              </a:rPr>
              <a:t>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8729640" y="6453360"/>
            <a:ext cx="38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ustomShape 1"/>
          <p:cNvSpPr/>
          <p:nvPr/>
        </p:nvSpPr>
        <p:spPr>
          <a:xfrm>
            <a:off x="304920" y="131760"/>
            <a:ext cx="8685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егиональный стандарт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казания услуги по обеспечению горячим питанием обучающихся по образовательным программам НОО                                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(приказ ДОН 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ustomShape 2"/>
          <p:cNvSpPr/>
          <p:nvPr/>
        </p:nvSpPr>
        <p:spPr>
          <a:xfrm>
            <a:off x="406440" y="15238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stomShape 3"/>
          <p:cNvSpPr/>
          <p:nvPr/>
        </p:nvSpPr>
        <p:spPr>
          <a:xfrm>
            <a:off x="338040" y="112860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stomShape 4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stomShape 5"/>
          <p:cNvSpPr/>
          <p:nvPr/>
        </p:nvSpPr>
        <p:spPr>
          <a:xfrm>
            <a:off x="735120" y="1012680"/>
            <a:ext cx="804384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едеральный закон от 01.03.2020 №47-ФЗ «О внесении изменений в Федеральный закон «О качестве и безопасности пищевых продуктов и статью 37 ФЗ «Об образовании в РФ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нПиН 2.4.5.2409-08 «Санитарно-эпидемиологические требования к организации питания обучающихся в общеобразовательных учреждениях, учреждениях начального и среднего профессионального образования», утвержденные постановлением Главного государственного санитарного врача РФ от 23.07.2008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Тюменской области от 30.09.2013 №423-п  «Об утверждении Положения об обеспечении питанием обучающихся государственных и муниципальных организаций, расположенных в Тюменской обла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ические рекомендации 2.4.0179-20 «Рекомендации по организации питания обучающихся общеобразовательных организаций. МР 2.4.0179-20», утвержденные руководителем Федеральной службы по надзору в сфере защиты прав потребителей и благополучия человека,  Главным государственным санитарным врачом РФ 18.05.20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рожная карта по организации бесплатного горячего питания обучающихся, утвержденная приказом Департамента образования и науки Тюменской области от 10.07.2020 №325/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глашение между Минпросвещением России и Правительством Тюменской области о предоставлении субсидии из федерального бюджета бюджету субъекта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stomShape 6"/>
          <p:cNvSpPr/>
          <p:nvPr/>
        </p:nvSpPr>
        <p:spPr>
          <a:xfrm>
            <a:off x="266760" y="171756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ustomShape 7"/>
          <p:cNvSpPr/>
          <p:nvPr/>
        </p:nvSpPr>
        <p:spPr>
          <a:xfrm>
            <a:off x="299880" y="1738440"/>
            <a:ext cx="26064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ustomShape 8"/>
          <p:cNvSpPr/>
          <p:nvPr/>
        </p:nvSpPr>
        <p:spPr>
          <a:xfrm>
            <a:off x="392040" y="345744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ustomShape 9"/>
          <p:cNvSpPr/>
          <p:nvPr/>
        </p:nvSpPr>
        <p:spPr>
          <a:xfrm>
            <a:off x="349200" y="28814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ustomShape 10"/>
          <p:cNvSpPr/>
          <p:nvPr/>
        </p:nvSpPr>
        <p:spPr>
          <a:xfrm>
            <a:off x="384120" y="44146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ustomShape 11"/>
          <p:cNvSpPr/>
          <p:nvPr/>
        </p:nvSpPr>
        <p:spPr>
          <a:xfrm>
            <a:off x="349200" y="371952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ustomShape 12"/>
          <p:cNvSpPr/>
          <p:nvPr/>
        </p:nvSpPr>
        <p:spPr>
          <a:xfrm>
            <a:off x="249120" y="490680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ustomShape 13"/>
          <p:cNvSpPr/>
          <p:nvPr/>
        </p:nvSpPr>
        <p:spPr>
          <a:xfrm>
            <a:off x="349200" y="49388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ustomShape 13"/>
          <p:cNvSpPr/>
          <p:nvPr/>
        </p:nvSpPr>
        <p:spPr>
          <a:xfrm>
            <a:off x="380880" y="5776920"/>
            <a:ext cx="26064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stomShape 2"/>
          <p:cNvSpPr/>
          <p:nvPr/>
        </p:nvSpPr>
        <p:spPr>
          <a:xfrm>
            <a:off x="609480" y="1398600"/>
            <a:ext cx="8352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всех обучающихся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дин раз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списочному состав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обучающихся с ОВЗ, детей-инвалидов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ва раза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приказу руководителя ОО по факту выявления обстоятельств в течение г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ustomShape 3"/>
          <p:cNvSpPr/>
          <p:nvPr/>
        </p:nvSpPr>
        <p:spPr>
          <a:xfrm>
            <a:off x="685800" y="5178600"/>
            <a:ext cx="79707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заявлению родителей (законных представителей) обучающиес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ополнительно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обеспечиваются двух- или трехразовым питанием (с учетом продолжительности пребывания ребенка в школе)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за счет средств родителей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(законных представителей) обучающихс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ustomShape 4"/>
          <p:cNvSpPr/>
          <p:nvPr/>
        </p:nvSpPr>
        <p:spPr>
          <a:xfrm>
            <a:off x="685800" y="1060560"/>
            <a:ext cx="643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обходимо создать условия для питания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- </a:t>
            </a: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вариант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457200" y="11239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457200" y="5181480"/>
            <a:ext cx="0" cy="144792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stomShape 7"/>
          <p:cNvSpPr/>
          <p:nvPr/>
        </p:nvSpPr>
        <p:spPr>
          <a:xfrm>
            <a:off x="111240" y="228600"/>
            <a:ext cx="9032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marL="712800" indent="-712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Цель: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ff0000"/>
                </a:solidFill>
                <a:latin typeface="Calibri"/>
              </a:rPr>
              <a:t>укрепление здоровья, обеспечение безопасности, качества, доступности, совершенствование организации пит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stomShape 8"/>
          <p:cNvSpPr/>
          <p:nvPr/>
        </p:nvSpPr>
        <p:spPr>
          <a:xfrm>
            <a:off x="523800" y="2590920"/>
            <a:ext cx="82249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ВАЖ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При зачислении обучающегося в 1-4 классы в течение учебного года горячее питание предоставляется </a:t>
            </a: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с первого его учебного д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Основание для у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 с ОВЗ - заключение психолого-медико-педагогической коми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-инвалидов - справка, подтверждающая факт установления инвалид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stomShape 3"/>
          <p:cNvSpPr/>
          <p:nvPr/>
        </p:nvSpPr>
        <p:spPr>
          <a:xfrm>
            <a:off x="609480" y="114300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водят мониторинг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обучающихся 1-4 классов, получающих горячее пит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 использованием модуля «Учет питания» АИС «Электронная школа ТО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учитываю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 представляемые родителями сведения о состоянии здоровья обучающегося (в том числе об изменении, уточнении, снятии диагноза либо изменении иных сведений) и обусловленные состоянием здоровья специальные потребности в питании (диетическое питание, исключение из рациона отдельных продуктов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уют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формационно-просветительскую работу по формированию культуры здорового питания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аю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на сайте сведения о порядке организации питания, включая примерное и фактическое мен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еду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учет экономии* бюджетных средств, сложившейся за счет пропусков учебных дней обучающимися по причинам карантина, болезни, актированных дней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stomShape 4"/>
          <p:cNvSpPr/>
          <p:nvPr/>
        </p:nvSpPr>
        <p:spPr>
          <a:xfrm>
            <a:off x="457200" y="642960"/>
            <a:ext cx="3740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разовательные организ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380880" y="64296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stomShape 6"/>
          <p:cNvSpPr/>
          <p:nvPr/>
        </p:nvSpPr>
        <p:spPr>
          <a:xfrm>
            <a:off x="338040" y="4654440"/>
            <a:ext cx="84139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*Сложившаяся экономия на основании приказа руководителя ОО направляется на осуществление мероприятий по улучшению организации питания всех категорий обучающихся и (или) обучающихся из малоимущих семей, а также обучающихся из семей, находящихся в трудной жизненной ситуа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 исключением экономии бюджетных средств, передаваемых в местные бюджеты из областного бюджета в форм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бсидий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на обеспечение питанием обучающихся 1-4 классов,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длежащих возврату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доход областного бюджета в соответствии с Правилами формирования, предоставления и распределения субсидий из областного бюджета местным бюджетам, утвержденными Правительством Тюме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stomShape 3"/>
          <p:cNvSpPr/>
          <p:nvPr/>
        </p:nvSpPr>
        <p:spPr>
          <a:xfrm>
            <a:off x="4164120" y="1209600"/>
            <a:ext cx="47876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существляет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олько в дни учебных занятий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ез права получения компенсаций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юджетного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финансирования за пропущенные дни и отказ от предлагаем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Формат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ухих пайков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именим только в случае временной невозможности организовать горячее питание (авария на пищеблоке, отсутствие электричества и т.п.), либо при обучении ребенка на дому по медицинским показания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став сухого пайка определяется и согласовывается с родителями, исходя из примерного меню. С учетом заболевани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пускается замена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коропортящихся и запрещенных ребенку продукт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бучающих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1-ую или 2-ую смены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должно быть одинаковым по стоимости, с учетом «суточного» режима питания, в том числе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ма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stomShape 4"/>
          <p:cNvSpPr/>
          <p:nvPr/>
        </p:nvSpPr>
        <p:spPr>
          <a:xfrm>
            <a:off x="450720" y="519120"/>
            <a:ext cx="3740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обенности организации пит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380880" y="53352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stomShape 9"/>
          <p:cNvSpPr/>
          <p:nvPr/>
        </p:nvSpPr>
        <p:spPr>
          <a:xfrm>
            <a:off x="152280" y="579132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Предприятия или предприниматели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, оказывающие услуги общественного питания и/или поставки продуктов, отвечают за их качество и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Users\User\Desktop\часы.jpg"/>
          <p:cNvPicPr/>
          <p:nvPr/>
        </p:nvPicPr>
        <p:blipFill>
          <a:blip r:embed="rId1"/>
          <a:stretch/>
        </p:blipFill>
        <p:spPr>
          <a:xfrm>
            <a:off x="30240" y="1447920"/>
            <a:ext cx="4167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ustomShape 2"/>
          <p:cNvSpPr/>
          <p:nvPr/>
        </p:nvSpPr>
        <p:spPr>
          <a:xfrm>
            <a:off x="798480" y="3957480"/>
            <a:ext cx="7848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держи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одного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новного горячего блюда (поочередно в течение учебной недели с учетом выбора родителей из предложенных вариантов меню),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апиток и хлеб - ежедневно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ustomShape 3"/>
          <p:cNvSpPr/>
          <p:nvPr/>
        </p:nvSpPr>
        <p:spPr>
          <a:xfrm>
            <a:off x="735120" y="4997520"/>
            <a:ext cx="7975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Необходимо использ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дукты повышенной пищевой ценности, в том числе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богащенные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продукты (макро- и микроэлементами, пищевыми волокнами и биологически активными вещества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ищевые продукты с ограниченным содержанием жира, сахара и с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ustomShape 4"/>
          <p:cNvSpPr/>
          <p:nvPr/>
        </p:nvSpPr>
        <p:spPr>
          <a:xfrm>
            <a:off x="401760" y="2030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609480" y="873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627120" y="2209680"/>
            <a:ext cx="0" cy="4143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ustomShape 7"/>
          <p:cNvSpPr/>
          <p:nvPr/>
        </p:nvSpPr>
        <p:spPr>
          <a:xfrm>
            <a:off x="798480" y="790560"/>
            <a:ext cx="7826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атор питания разрабатывает, согласовывает в установленном порядке, утверждае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2 вариантов меню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меню для детей, нуждающихся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пециализированном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питании (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тдельный раздел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меню), обеспечивает возможность выбора блюд  детьми и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609480" y="4876920"/>
            <a:ext cx="0" cy="14475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ustomShape 9"/>
          <p:cNvSpPr/>
          <p:nvPr/>
        </p:nvSpPr>
        <p:spPr>
          <a:xfrm>
            <a:off x="833400" y="2120760"/>
            <a:ext cx="81280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Специализированное питание организуется на основании отдельного, согласованного руководителями ОО и территориального органа Роспотребнадзора, меню (с использованием утвержденных Главным государственным врачом РФ Методических рекомендаций МР 2.4.0162-19 «Особенности организации питания детей, страдающих сахарным диабетом и иными заболеваниями, сопровождающимися ограничениями в питании в образовательных и оздоровительных организациях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stomShape 2"/>
          <p:cNvSpPr/>
          <p:nvPr/>
        </p:nvSpPr>
        <p:spPr>
          <a:xfrm>
            <a:off x="576360" y="3240000"/>
            <a:ext cx="81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algn="just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аспорт пищеблока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заполняется/обновляется каждой образовательной организацией (включая структурные подразделения и филиал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algn="r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ежегодно до 20 авг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stomShape 3"/>
          <p:cNvSpPr/>
          <p:nvPr/>
        </p:nvSpPr>
        <p:spPr>
          <a:xfrm>
            <a:off x="792000" y="743040"/>
            <a:ext cx="7975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верки комиссией в соста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руководитель образовательной организации, администратор питания (при наличии), медицинский работник, представители органа государственно-общественного управления, родительской обще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реже 1 раза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по результатам составляются акты, справки, рекоменд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stomShape 4"/>
          <p:cNvSpPr/>
          <p:nvPr/>
        </p:nvSpPr>
        <p:spPr>
          <a:xfrm>
            <a:off x="380880" y="2109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609480" y="819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47640" y="3384720"/>
            <a:ext cx="0" cy="41400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662040" y="490536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ustomShape 8"/>
          <p:cNvSpPr/>
          <p:nvPr/>
        </p:nvSpPr>
        <p:spPr>
          <a:xfrm>
            <a:off x="790560" y="4746600"/>
            <a:ext cx="78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изводственный контроль, включающий проведение лабораторных и инструментальных исслед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ustomShape 9"/>
          <p:cNvSpPr/>
          <p:nvPr/>
        </p:nvSpPr>
        <p:spPr>
          <a:xfrm>
            <a:off x="76320" y="57150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Ответствен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за организацию питанием возлагается на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руководителя 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"/>
          <p:cNvSpPr/>
          <p:nvPr/>
        </p:nvSpPr>
        <p:spPr>
          <a:xfrm>
            <a:off x="-324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3840" y="228240"/>
            <a:ext cx="81723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нформационно-просветительская работа по формированию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культуры здорового питания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914400" y="1066680"/>
            <a:ext cx="792468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щеобразовательная организация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вместно с организатором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я, общественными и иными заинтересованными организациями (сообществами) осуществляет информационно-просветительскую работу по популяризации школьного питания и формированию культуры здорового питания любыми доступными способ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рганизаци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«горячих линий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» по вопросам горячего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акции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для детей с родителями с целью повышения имиджа «школьной столовой», в том числе через разъяснения состава школьного меню, выбора продуктов питания, изготавливаемых блю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иалоговые площадки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обсуждению роли «домашних привычек» в питании, необходимости качественного дополнения рациона школьного питания составом домашних блю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ение информации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едствах массовой коммуникации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на  официальных Интернет-сайтах шк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Проведение и освещение мероприятий, направленных на формирование культуры здорового питания в семье в рамках реализации проектов «Здоровое питание от А до Я», «Основы здорового пит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62120" y="1143000"/>
            <a:ext cx="0" cy="83808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762120" y="269568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762120" y="47815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762120" y="54673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609480" y="996840"/>
            <a:ext cx="815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научить взрослых и детей управлять своим здоровьем и телом, осознанно подходить к выбору продуктов питания и обращать внимание на количество и качество потребляемой пи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ражает современные тенденции правильного питания детей и психофизиологические аспекты ожирения у детей, способствует формированию правильных пищевых привычек у детей в сочетании с освоением и применением ИКТ в образовательном проце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требованиям ФГОС НОО на основании 5 самых популярных УМК для использования на уроках «Окружающий мир» или на внеурочных занят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детей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уроков по здоровому питанию в начальной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одителе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лайн-курс по вопросам правильного питания, механизмам формирования здоровых привычек у ребенка через увлекательные интерактивные уроки о вредности снеков, фастфудов и гази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zdorovoe.men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тфор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ustomShape 4"/>
          <p:cNvSpPr/>
          <p:nvPr/>
        </p:nvSpPr>
        <p:spPr>
          <a:xfrm>
            <a:off x="365040" y="182520"/>
            <a:ext cx="841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роект по внедрению интерактивного курс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«Здоровое питание от А до 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7:36:38Z</dcterms:created>
  <dc:creator>Веселин Роман Андреевич</dc:creator>
  <dc:description/>
  <dc:language>en-US</dc:language>
  <cp:lastModifiedBy>User</cp:lastModifiedBy>
  <cp:lastPrinted>2020-08-15T11:46:40Z</cp:lastPrinted>
  <dcterms:modified xsi:type="dcterms:W3CDTF">2020-08-15T11:48:14Z</dcterms:modified>
  <cp:revision>358</cp:revision>
  <dc:subject/>
  <dc:title>Основные показатели прогноза социально-экономического развития  Тюменской области на 2017 год и на плановый период 2018 и 2019 г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9-03-27T00:00:00Z</vt:filetime>
  </property>
  <property fmtid="{D5CDD505-2E9C-101B-9397-08002B2CF9AE}" pid="3" name="Creator">
    <vt:lpwstr>Microsoft® PowerPoint® 2016</vt:lpwstr>
  </property>
  <property fmtid="{D5CDD505-2E9C-101B-9397-08002B2CF9AE}" pid="4" name="LastSaved">
    <vt:filetime>2019-04-02T00:00:00Z</vt:filetime>
  </property>
</Properties>
</file>