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D62-B551-49B2-9D35-67C45F9F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4A0-933E-4B06-89DF-3D478581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570-E44F-4AEC-BA06-4DC2ECDA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C49-2B1F-4071-8B88-191A89DB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99E-2C30-4DBB-90B3-339D38ED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D98-94A2-4AD5-8735-3F6EF19A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7C1-9C8B-41A8-9BA5-680E4A1F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763-3121-4350-B861-C8EEAA23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53E-0CB0-402A-AC67-6D239C87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239-E74E-48A4-A52E-9D14730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2F0-C428-4604-887B-4D8D4143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F7E-76EB-4FA0-B53F-34794E61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5412-2E57-4E9D-9A31-40E917624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do5.ru/materials/novoe-v-yege-po-matematike" TargetMode="External"/><Relationship Id="rId3" Type="http://schemas.openxmlformats.org/officeDocument/2006/relationships/hyperlink" Target="http://www.nado5.ru/materials/novoe-v-yege-po-matematike" TargetMode="External"/><Relationship Id="rId4" Type="http://schemas.openxmlformats.org/officeDocument/2006/relationships/hyperlink" Target="http://www.nado5.ru/materials/novoe-v-yege-po-matematike" TargetMode="External"/><Relationship Id="rId5" Type="http://schemas.openxmlformats.org/officeDocument/2006/relationships/hyperlink" Target="http://www.nado5.ru/materials/novoe-v-yege-po-matematike" TargetMode="External"/><Relationship Id="rId6" Type="http://schemas.openxmlformats.org/officeDocument/2006/relationships/hyperlink" Target="http://www.nado5.ru/materials/novoe-v-yege-po-matematike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971640" y="2565360"/>
            <a:ext cx="734544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НА СМЕСИ И СПЛ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6"/>
          <p:cNvGrpSpPr/>
          <p:nvPr/>
        </p:nvGrpSpPr>
        <p:grpSpPr>
          <a:xfrm>
            <a:off x="6877080" y="5084640"/>
            <a:ext cx="1008000" cy="1438200"/>
            <a:chOff x="6877080" y="5084640"/>
            <a:chExt cx="1008000" cy="1438200"/>
          </a:xfrm>
        </p:grpSpPr>
        <p:sp>
          <p:nvSpPr>
            <p:cNvPr id="44" name="Freeform 45"/>
            <p:cNvSpPr/>
            <p:nvPr/>
          </p:nvSpPr>
          <p:spPr>
            <a:xfrm>
              <a:off x="6877080" y="5091480"/>
              <a:ext cx="1008000" cy="1431360"/>
            </a:xfrm>
            <a:prstGeom prst="pie">
              <a:avLst/>
            </a:prstGeom>
            <a:gradFill rotWithShape="0">
              <a:gsLst>
                <a:gs pos="0">
                  <a:srgbClr val="09ffff"/>
                </a:gs>
                <a:gs pos="100000">
                  <a:srgbClr val="0000da"/>
                </a:gs>
              </a:gsLst>
              <a:lin ang="5400000"/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6887880" y="6291000"/>
              <a:ext cx="986760" cy="108720"/>
            </a:xfrm>
            <a:prstGeom prst="pie">
              <a:avLst/>
            </a:pr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0"/>
            <p:cNvSpPr/>
            <p:nvPr/>
          </p:nvSpPr>
          <p:spPr>
            <a:xfrm>
              <a:off x="7033680" y="5084640"/>
              <a:ext cx="664560" cy="141840"/>
            </a:xfrm>
            <a:prstGeom prst="pie">
              <a:avLst/>
            </a:prstGeom>
            <a:solidFill>
              <a:srgbClr val="00ffff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52"/>
            <p:cNvGrpSpPr/>
            <p:nvPr/>
          </p:nvGrpSpPr>
          <p:grpSpPr>
            <a:xfrm>
              <a:off x="6877080" y="5773320"/>
              <a:ext cx="1008000" cy="249480"/>
              <a:chOff x="6877080" y="5773320"/>
              <a:chExt cx="1008000" cy="249480"/>
            </a:xfrm>
          </p:grpSpPr>
          <p:sp>
            <p:nvSpPr>
              <p:cNvPr id="48" name="Freeform 53"/>
              <p:cNvSpPr/>
              <p:nvPr/>
            </p:nvSpPr>
            <p:spPr>
              <a:xfrm>
                <a:off x="6877080" y="5773320"/>
                <a:ext cx="1008000" cy="2494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4"/>
              <p:cNvSpPr/>
              <p:nvPr/>
            </p:nvSpPr>
            <p:spPr>
              <a:xfrm>
                <a:off x="6878160" y="5882040"/>
                <a:ext cx="988200" cy="1350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5"/>
              <p:cNvSpPr/>
              <p:nvPr/>
            </p:nvSpPr>
            <p:spPr>
              <a:xfrm>
                <a:off x="6878160" y="5774400"/>
                <a:ext cx="98820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61"/>
            <p:cNvSpPr/>
            <p:nvPr/>
          </p:nvSpPr>
          <p:spPr>
            <a:xfrm>
              <a:off x="6877080" y="5461200"/>
              <a:ext cx="991080" cy="2498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2"/>
            <p:cNvSpPr/>
            <p:nvPr/>
          </p:nvSpPr>
          <p:spPr>
            <a:xfrm>
              <a:off x="6878160" y="5567400"/>
              <a:ext cx="977040" cy="13788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3"/>
            <p:cNvSpPr/>
            <p:nvPr/>
          </p:nvSpPr>
          <p:spPr>
            <a:xfrm>
              <a:off x="6878160" y="5462640"/>
              <a:ext cx="974160" cy="1242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63"/>
          <p:cNvGrpSpPr/>
          <p:nvPr/>
        </p:nvGrpSpPr>
        <p:grpSpPr>
          <a:xfrm>
            <a:off x="7452000" y="4550760"/>
            <a:ext cx="1311480" cy="1067760"/>
            <a:chOff x="7452000" y="4550760"/>
            <a:chExt cx="1311480" cy="1067760"/>
          </a:xfrm>
        </p:grpSpPr>
        <p:grpSp>
          <p:nvGrpSpPr>
            <p:cNvPr id="55" name="Group 162"/>
            <p:cNvGrpSpPr/>
            <p:nvPr/>
          </p:nvGrpSpPr>
          <p:grpSpPr>
            <a:xfrm>
              <a:off x="7452000" y="4550760"/>
              <a:ext cx="1311480" cy="1067760"/>
              <a:chOff x="7452000" y="4550760"/>
              <a:chExt cx="1311480" cy="1067760"/>
            </a:xfrm>
          </p:grpSpPr>
          <p:sp>
            <p:nvSpPr>
              <p:cNvPr id="56" name="Freeform 135"/>
              <p:cNvSpPr/>
              <p:nvPr/>
            </p:nvSpPr>
            <p:spPr>
              <a:xfrm rot="17366400">
                <a:off x="7741080" y="4518360"/>
                <a:ext cx="732960" cy="1132200"/>
              </a:xfrm>
              <a:prstGeom prst="pie">
                <a:avLst/>
              </a:prstGeom>
              <a:gradFill rotWithShape="0">
                <a:gsLst>
                  <a:gs pos="0">
                    <a:srgbClr val="0000da"/>
                  </a:gs>
                  <a:gs pos="100000">
                    <a:srgbClr val="09ffff"/>
                  </a:gs>
                </a:gsLst>
                <a:lin ang="4236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0"/>
              <p:cNvSpPr/>
              <p:nvPr/>
            </p:nvSpPr>
            <p:spPr>
              <a:xfrm>
                <a:off x="7524720" y="4653000"/>
                <a:ext cx="209880" cy="480600"/>
              </a:xfrm>
              <a:prstGeom prst="pie">
                <a:avLst/>
              </a:prstGeom>
              <a:solidFill>
                <a:srgbClr val="00ffff"/>
              </a:soli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9"/>
              <p:cNvSpPr/>
              <p:nvPr/>
            </p:nvSpPr>
            <p:spPr>
              <a:xfrm>
                <a:off x="7728120" y="5142600"/>
                <a:ext cx="940680" cy="103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0"/>
              <p:cNvSpPr/>
              <p:nvPr/>
            </p:nvSpPr>
            <p:spPr>
              <a:xfrm>
                <a:off x="7722720" y="5060880"/>
                <a:ext cx="943560" cy="90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18"/>
              <p:cNvSpPr/>
              <p:nvPr/>
            </p:nvSpPr>
            <p:spPr>
              <a:xfrm>
                <a:off x="7719840" y="5062320"/>
                <a:ext cx="955440" cy="18396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Freeform 136"/>
            <p:cNvSpPr/>
            <p:nvPr/>
          </p:nvSpPr>
          <p:spPr>
            <a:xfrm>
              <a:off x="8422920" y="4921920"/>
              <a:ext cx="225720" cy="667800"/>
            </a:xfrm>
            <a:prstGeom prst="pie">
              <a:avLst/>
            </a:pr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64"/>
          <p:cNvSpPr/>
          <p:nvPr/>
        </p:nvSpPr>
        <p:spPr>
          <a:xfrm>
            <a:off x="3995640" y="43657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В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4"/>
          <p:cNvSpPr/>
          <p:nvPr/>
        </p:nvSpPr>
        <p:spPr>
          <a:xfrm>
            <a:off x="1547640" y="404640"/>
            <a:ext cx="624708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КОУ «Зыряно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аринский район Алтай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7"/>
          <p:cNvSpPr/>
          <p:nvPr/>
        </p:nvSpPr>
        <p:spPr>
          <a:xfrm>
            <a:off x="2700360" y="5589720"/>
            <a:ext cx="3808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Степин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89"/>
          <p:cNvGrpSpPr/>
          <p:nvPr/>
        </p:nvGrpSpPr>
        <p:grpSpPr>
          <a:xfrm>
            <a:off x="324000" y="4508640"/>
            <a:ext cx="3023640" cy="1095480"/>
            <a:chOff x="324000" y="4508640"/>
            <a:chExt cx="3023640" cy="1095480"/>
          </a:xfrm>
        </p:grpSpPr>
        <p:grpSp>
          <p:nvGrpSpPr>
            <p:cNvPr id="66" name="Group 190"/>
            <p:cNvGrpSpPr/>
            <p:nvPr/>
          </p:nvGrpSpPr>
          <p:grpSpPr>
            <a:xfrm>
              <a:off x="324000" y="4508640"/>
              <a:ext cx="3023640" cy="1059840"/>
              <a:chOff x="324000" y="4508640"/>
              <a:chExt cx="3023640" cy="1059840"/>
            </a:xfrm>
          </p:grpSpPr>
          <p:sp>
            <p:nvSpPr>
              <p:cNvPr id="67" name="Freeform 191"/>
              <p:cNvSpPr/>
              <p:nvPr/>
            </p:nvSpPr>
            <p:spPr>
              <a:xfrm>
                <a:off x="324000" y="4508640"/>
                <a:ext cx="2994120" cy="646200"/>
              </a:xfrm>
              <a:prstGeom prst="pie">
                <a:avLst/>
              </a:pr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92"/>
              <p:cNvSpPr/>
              <p:nvPr/>
            </p:nvSpPr>
            <p:spPr>
              <a:xfrm>
                <a:off x="1058760" y="4743360"/>
                <a:ext cx="2288880" cy="825120"/>
              </a:xfrm>
              <a:prstGeom prst="pie">
                <a:avLst/>
              </a:pr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93"/>
              <p:cNvSpPr/>
              <p:nvPr/>
            </p:nvSpPr>
            <p:spPr>
              <a:xfrm>
                <a:off x="351360" y="4892400"/>
                <a:ext cx="792360" cy="667440"/>
              </a:xfrm>
              <a:prstGeom prst="pie">
                <a:avLst/>
              </a:pr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94"/>
              <p:cNvSpPr/>
              <p:nvPr/>
            </p:nvSpPr>
            <p:spPr>
              <a:xfrm>
                <a:off x="1296000" y="4699440"/>
                <a:ext cx="788400" cy="695160"/>
              </a:xfrm>
              <a:prstGeom prst="pie">
                <a:avLst/>
              </a:pr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195"/>
            <p:cNvSpPr/>
            <p:nvPr/>
          </p:nvSpPr>
          <p:spPr>
            <a:xfrm>
              <a:off x="632880" y="4707000"/>
              <a:ext cx="131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6"/>
            <p:cNvSpPr/>
            <p:nvPr/>
          </p:nvSpPr>
          <p:spPr>
            <a:xfrm>
              <a:off x="1743480" y="450864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97"/>
            <p:cNvSpPr/>
            <p:nvPr/>
          </p:nvSpPr>
          <p:spPr>
            <a:xfrm rot="20954400">
              <a:off x="1395360" y="5109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98"/>
            <p:cNvSpPr/>
            <p:nvPr/>
          </p:nvSpPr>
          <p:spPr>
            <a:xfrm rot="21024600">
              <a:off x="2606040" y="4838400"/>
              <a:ext cx="6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64"/>
          <p:cNvSpPr/>
          <p:nvPr/>
        </p:nvSpPr>
        <p:spPr>
          <a:xfrm>
            <a:off x="3995640" y="16286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ЕГ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50920" y="260280"/>
            <a:ext cx="8642160" cy="18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меется два сплава золота и серебра: в одном массы эт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металлов находятся в отношении 2:3, а в другом –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отношении 3:7. Сколько килограммов нужно взять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аждого сплава, чтобы получить 8 кг нового сплава,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отором золото и серебро находились бы в отношении 5:11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920" y="2205000"/>
            <a:ext cx="8569080" cy="388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987640" y="393372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2c5"/>
              </a:solidFill>
              <a:latin typeface="Arial"/>
              <a:ea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360" y="4005360"/>
            <a:ext cx="287640" cy="144360"/>
            <a:chOff x="5724360" y="4005360"/>
            <a:chExt cx="287640" cy="144360"/>
          </a:xfrm>
        </p:grpSpPr>
        <p:sp>
          <p:nvSpPr>
            <p:cNvPr id="493" name=""/>
            <p:cNvSpPr txBox="1"/>
            <p:nvPr/>
          </p:nvSpPr>
          <p:spPr>
            <a:xfrm>
              <a:off x="5724360" y="4005360"/>
              <a:ext cx="28764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5724360" y="4101840"/>
              <a:ext cx="28764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9564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8 – х)к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08720" y="422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03280" y="42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43280" y="6165720"/>
            <a:ext cx="367200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1 кг. и 7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012000" y="3284640"/>
            <a:ext cx="2592360" cy="991800"/>
            <a:chOff x="6012000" y="3284640"/>
            <a:chExt cx="2592360" cy="991800"/>
          </a:xfrm>
        </p:grpSpPr>
        <p:grpSp>
          <p:nvGrpSpPr>
            <p:cNvPr id="500" name=""/>
            <p:cNvGrpSpPr/>
            <p:nvPr/>
          </p:nvGrpSpPr>
          <p:grpSpPr>
            <a:xfrm>
              <a:off x="6012000" y="3284640"/>
              <a:ext cx="2592360" cy="960480"/>
              <a:chOff x="6012000" y="3284640"/>
              <a:chExt cx="2592360" cy="960480"/>
            </a:xfrm>
          </p:grpSpPr>
          <p:sp>
            <p:nvSpPr>
              <p:cNvPr id="501" name=""/>
              <p:cNvSpPr/>
              <p:nvPr/>
            </p:nvSpPr>
            <p:spPr>
              <a:xfrm>
                <a:off x="6012000" y="3284640"/>
                <a:ext cx="2566800" cy="5857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42000" y="3497400"/>
                <a:ext cx="1962360" cy="74772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35760" y="3632400"/>
                <a:ext cx="679320" cy="6048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45400" y="3457800"/>
                <a:ext cx="676080" cy="63000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228000" y="342756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36000" y="3284640"/>
              <a:ext cx="110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20954400">
              <a:off x="6948720" y="378756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1024600">
              <a:off x="7740720" y="35715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042920" y="2421000"/>
            <a:ext cx="2592360" cy="991800"/>
            <a:chOff x="1042920" y="2421000"/>
            <a:chExt cx="2592360" cy="991800"/>
          </a:xfrm>
        </p:grpSpPr>
        <p:grpSp>
          <p:nvGrpSpPr>
            <p:cNvPr id="510" name=""/>
            <p:cNvGrpSpPr/>
            <p:nvPr/>
          </p:nvGrpSpPr>
          <p:grpSpPr>
            <a:xfrm>
              <a:off x="1042920" y="2421000"/>
              <a:ext cx="2592360" cy="960480"/>
              <a:chOff x="1042920" y="2421000"/>
              <a:chExt cx="2592360" cy="960480"/>
            </a:xfrm>
          </p:grpSpPr>
          <p:sp>
            <p:nvSpPr>
              <p:cNvPr id="511" name=""/>
              <p:cNvSpPr/>
              <p:nvPr/>
            </p:nvSpPr>
            <p:spPr>
              <a:xfrm>
                <a:off x="1042920" y="2421000"/>
                <a:ext cx="2566800" cy="5857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672920" y="2633760"/>
                <a:ext cx="1962360" cy="74772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066680" y="2768760"/>
                <a:ext cx="679320" cy="6048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76320" y="2594160"/>
                <a:ext cx="676080" cy="63000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1258920" y="2563920"/>
              <a:ext cx="113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66920" y="2421000"/>
              <a:ext cx="110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954400">
              <a:off x="1979640" y="292392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24600">
              <a:off x="2916360" y="27079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364000" y="2421000"/>
            <a:ext cx="2592360" cy="991800"/>
            <a:chOff x="5364000" y="2421000"/>
            <a:chExt cx="2592360" cy="991800"/>
          </a:xfrm>
        </p:grpSpPr>
        <p:grpSp>
          <p:nvGrpSpPr>
            <p:cNvPr id="520" name=""/>
            <p:cNvGrpSpPr/>
            <p:nvPr/>
          </p:nvGrpSpPr>
          <p:grpSpPr>
            <a:xfrm>
              <a:off x="5364000" y="2421000"/>
              <a:ext cx="2592360" cy="960480"/>
              <a:chOff x="5364000" y="2421000"/>
              <a:chExt cx="2592360" cy="960480"/>
            </a:xfrm>
          </p:grpSpPr>
          <p:sp>
            <p:nvSpPr>
              <p:cNvPr id="521" name=""/>
              <p:cNvSpPr/>
              <p:nvPr/>
            </p:nvSpPr>
            <p:spPr>
              <a:xfrm>
                <a:off x="5364000" y="2421000"/>
                <a:ext cx="2566800" cy="5857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994000" y="2633760"/>
                <a:ext cx="1962360" cy="74772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87760" y="2768760"/>
                <a:ext cx="679320" cy="6048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197400" y="2594160"/>
                <a:ext cx="676080" cy="63000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580000" y="2563920"/>
              <a:ext cx="113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88000" y="2421000"/>
              <a:ext cx="11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954400">
              <a:off x="6300720" y="2923920"/>
              <a:ext cx="3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1024600">
              <a:off x="7308720" y="2709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826920" y="2276640"/>
            <a:ext cx="3527280" cy="1157400"/>
            <a:chOff x="826920" y="2276640"/>
            <a:chExt cx="3527280" cy="1157400"/>
          </a:xfrm>
        </p:grpSpPr>
        <p:grpSp>
          <p:nvGrpSpPr>
            <p:cNvPr id="530" name=""/>
            <p:cNvGrpSpPr/>
            <p:nvPr/>
          </p:nvGrpSpPr>
          <p:grpSpPr>
            <a:xfrm>
              <a:off x="826920" y="2276640"/>
              <a:ext cx="3527280" cy="1152000"/>
              <a:chOff x="826920" y="2276640"/>
              <a:chExt cx="3527280" cy="1152000"/>
            </a:xfrm>
          </p:grpSpPr>
          <p:sp>
            <p:nvSpPr>
              <p:cNvPr id="531" name=""/>
              <p:cNvSpPr/>
              <p:nvPr/>
            </p:nvSpPr>
            <p:spPr>
              <a:xfrm>
                <a:off x="826920" y="2276640"/>
                <a:ext cx="3492720" cy="7023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684080" y="2531880"/>
                <a:ext cx="2670120" cy="89676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58960" y="2693520"/>
                <a:ext cx="924120" cy="7254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60920" y="2484360"/>
                <a:ext cx="919800" cy="75564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1187280" y="2492280"/>
              <a:ext cx="15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82920" y="2276640"/>
              <a:ext cx="14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954400">
              <a:off x="2078280" y="2933280"/>
              <a:ext cx="4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1024600">
              <a:off x="3491280" y="2636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48360" y="2276640"/>
            <a:ext cx="3526920" cy="1157400"/>
            <a:chOff x="5148360" y="2276640"/>
            <a:chExt cx="3526920" cy="1157400"/>
          </a:xfrm>
        </p:grpSpPr>
        <p:grpSp>
          <p:nvGrpSpPr>
            <p:cNvPr id="540" name=""/>
            <p:cNvGrpSpPr/>
            <p:nvPr/>
          </p:nvGrpSpPr>
          <p:grpSpPr>
            <a:xfrm>
              <a:off x="5148360" y="2276640"/>
              <a:ext cx="3526920" cy="1152000"/>
              <a:chOff x="5148360" y="2276640"/>
              <a:chExt cx="3526920" cy="1152000"/>
            </a:xfrm>
          </p:grpSpPr>
          <p:sp>
            <p:nvSpPr>
              <p:cNvPr id="541" name=""/>
              <p:cNvSpPr/>
              <p:nvPr/>
            </p:nvSpPr>
            <p:spPr>
              <a:xfrm>
                <a:off x="5148360" y="2276640"/>
                <a:ext cx="3492360" cy="7023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05520" y="2531880"/>
                <a:ext cx="2669760" cy="89676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0400" y="2693520"/>
                <a:ext cx="924120" cy="7254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282000" y="2484360"/>
                <a:ext cx="919800" cy="75564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5508360" y="2492280"/>
              <a:ext cx="15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04000" y="2276640"/>
              <a:ext cx="149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954400">
              <a:off x="6399360" y="2933280"/>
              <a:ext cx="47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1024600">
              <a:off x="7812360" y="2636640"/>
              <a:ext cx="78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>
            <a:hlinkClick r:id="rId2" action="ppaction://hlinksldjump"/>
          </p:cNvPr>
          <p:cNvSpPr/>
          <p:nvPr/>
        </p:nvSpPr>
        <p:spPr>
          <a:xfrm>
            <a:off x="8388360" y="6093000"/>
            <a:ext cx="574560" cy="576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3794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5076720" y="5516640"/>
            <a:ext cx="3311280" cy="459720"/>
            <a:chOff x="5076720" y="5516640"/>
            <a:chExt cx="3311280" cy="459720"/>
          </a:xfrm>
        </p:grpSpPr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5076720" y="5567400"/>
                  <a:ext cx="155484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2" name=""/>
            <p:cNvSpPr/>
            <p:nvPr/>
          </p:nvSpPr>
          <p:spPr>
            <a:xfrm>
              <a:off x="6365520" y="5516640"/>
              <a:ext cx="20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-от 2 спла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084720" y="5157720"/>
            <a:ext cx="2360520" cy="459720"/>
            <a:chOff x="6084720" y="5157720"/>
            <a:chExt cx="2360520" cy="459720"/>
          </a:xfrm>
        </p:grpSpPr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6084720" y="5229000"/>
                  <a:ext cx="5461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"/>
            <p:cNvSpPr/>
            <p:nvPr/>
          </p:nvSpPr>
          <p:spPr>
            <a:xfrm>
              <a:off x="6502320" y="5157720"/>
              <a:ext cx="19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-от 1 спла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2124000" y="5229360"/>
                <a:ext cx="1811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,4</m:t>
                    </m:r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627280" y="5589720"/>
                <a:ext cx="6364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8" name=""/>
          <p:cNvGrpSpPr/>
          <p:nvPr/>
        </p:nvGrpSpPr>
        <p:grpSpPr>
          <a:xfrm>
            <a:off x="1763640" y="4508640"/>
            <a:ext cx="5543640" cy="769680"/>
            <a:chOff x="1763640" y="4508640"/>
            <a:chExt cx="5543640" cy="769680"/>
          </a:xfrm>
        </p:grpSpPr>
        <p:sp>
          <p:nvSpPr>
            <p:cNvPr id="559" name=""/>
            <p:cNvSpPr/>
            <p:nvPr/>
          </p:nvSpPr>
          <p:spPr>
            <a:xfrm>
              <a:off x="1763640" y="4652640"/>
              <a:ext cx="309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Получим уравн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4643640" y="4508640"/>
                  <a:ext cx="266364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1" name=""/>
          <p:cNvSpPr/>
          <p:nvPr/>
        </p:nvSpPr>
        <p:spPr>
          <a:xfrm rot="1243200">
            <a:off x="2926800" y="3571200"/>
            <a:ext cx="156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8-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173600">
            <a:off x="478080" y="3608640"/>
            <a:ext cx="10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979640" y="5013360"/>
            <a:ext cx="5675400" cy="698400"/>
            <a:chOff x="1979640" y="5013360"/>
            <a:chExt cx="5675400" cy="698400"/>
          </a:xfrm>
        </p:grpSpPr>
        <p:sp>
          <p:nvSpPr>
            <p:cNvPr id="564" name=""/>
            <p:cNvSpPr/>
            <p:nvPr/>
          </p:nvSpPr>
          <p:spPr>
            <a:xfrm>
              <a:off x="1979640" y="5086440"/>
              <a:ext cx="46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Масса золота в новом сплав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5" name=""/>
                <p:cNvSpPr txBox="1"/>
                <p:nvPr/>
              </p:nvSpPr>
              <p:spPr>
                <a:xfrm>
                  <a:off x="6083640" y="5013360"/>
                  <a:ext cx="15714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,5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6" name=""/>
          <p:cNvGrpSpPr/>
          <p:nvPr/>
        </p:nvGrpSpPr>
        <p:grpSpPr>
          <a:xfrm>
            <a:off x="1979640" y="5013360"/>
            <a:ext cx="5167080" cy="765000"/>
            <a:chOff x="1979640" y="5013360"/>
            <a:chExt cx="5167080" cy="765000"/>
          </a:xfrm>
        </p:grpSpPr>
        <p:sp>
          <p:nvSpPr>
            <p:cNvPr id="567" name=""/>
            <p:cNvSpPr/>
            <p:nvPr/>
          </p:nvSpPr>
          <p:spPr>
            <a:xfrm>
              <a:off x="1979640" y="5086080"/>
              <a:ext cx="42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Масса золота в перв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6083280" y="5013360"/>
                  <a:ext cx="106344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х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кг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9" name=""/>
          <p:cNvSpPr/>
          <p:nvPr/>
        </p:nvSpPr>
        <p:spPr>
          <a:xfrm rot="1241400">
            <a:off x="5941800" y="37159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5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547640" y="5013360"/>
            <a:ext cx="6035760" cy="765000"/>
            <a:chOff x="1547640" y="5013360"/>
            <a:chExt cx="6035760" cy="765000"/>
          </a:xfrm>
        </p:grpSpPr>
        <p:sp>
          <p:nvSpPr>
            <p:cNvPr id="571" name=""/>
            <p:cNvSpPr/>
            <p:nvPr/>
          </p:nvSpPr>
          <p:spPr>
            <a:xfrm>
              <a:off x="1547640" y="508644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Масса золота во втор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5795640" y="5013360"/>
                  <a:ext cx="178776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х</m:t>
                              </m:r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кг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758" dur="indefinite" restart="never" nodeType="tmRoot">
          <p:childTnLst>
            <p:seq>
              <p:cTn id="759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347 L -0.03924 0.11884 E">
                                      <p:cBhvr>
                                        <p:cTn id="776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5434E-006 L -0.22049 0.10844 E">
                                      <p:cBhvr>
                                        <p:cTn id="785" dur="1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8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50920" y="260280"/>
            <a:ext cx="864216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меется два сплава. Первый содержит 10% никеля, второй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30% никеля. Из этих двух сплавов получили третий спл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массой 200 кг, содержащий 25% никеля. На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илограммов масса первого сплава меньше массы втор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4000" y="1916280"/>
            <a:ext cx="8569080" cy="41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987640" y="306864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2c5"/>
              </a:solidFill>
              <a:latin typeface="Arial"/>
              <a:ea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867280" y="3141720"/>
            <a:ext cx="287280" cy="144360"/>
            <a:chOff x="5867280" y="3141720"/>
            <a:chExt cx="287280" cy="144360"/>
          </a:xfrm>
        </p:grpSpPr>
        <p:sp>
          <p:nvSpPr>
            <p:cNvPr id="579" name=""/>
            <p:cNvSpPr txBox="1"/>
            <p:nvPr/>
          </p:nvSpPr>
          <p:spPr>
            <a:xfrm>
              <a:off x="5867280" y="3141720"/>
              <a:ext cx="28728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5867280" y="3238200"/>
              <a:ext cx="28728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659640" y="33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4292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1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сса никеля в первом сплаве 0,1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042920" y="508464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сса никеля во втором сплаве 0,3у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43280" y="6165720"/>
            <a:ext cx="26654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на 10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611280" y="3933720"/>
                <a:ext cx="1938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392436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277080" y="2276640"/>
            <a:ext cx="2518920" cy="1296000"/>
            <a:chOff x="3277080" y="2276640"/>
            <a:chExt cx="2518920" cy="1296000"/>
          </a:xfrm>
        </p:grpSpPr>
        <p:grpSp>
          <p:nvGrpSpPr>
            <p:cNvPr id="589" name=""/>
            <p:cNvGrpSpPr/>
            <p:nvPr/>
          </p:nvGrpSpPr>
          <p:grpSpPr>
            <a:xfrm>
              <a:off x="3277080" y="2276640"/>
              <a:ext cx="2518920" cy="1296000"/>
              <a:chOff x="3277080" y="2276640"/>
              <a:chExt cx="2518920" cy="129600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3301200" y="2276640"/>
                <a:ext cx="2494440" cy="7905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3276720" y="2563560"/>
                <a:ext cx="1906920" cy="10090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112720" y="2746080"/>
                <a:ext cx="659880" cy="81612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4329000" y="2510280"/>
                <a:ext cx="657000" cy="85032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971400">
              <a:off x="4284000" y="29973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1195600">
              <a:off x="4500720" y="2492280"/>
              <a:ext cx="116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085080" y="1989000"/>
            <a:ext cx="2592360" cy="1656720"/>
            <a:chOff x="6085080" y="1989000"/>
            <a:chExt cx="2592360" cy="1656720"/>
          </a:xfrm>
        </p:grpSpPr>
        <p:grpSp>
          <p:nvGrpSpPr>
            <p:cNvPr id="597" name=""/>
            <p:cNvGrpSpPr/>
            <p:nvPr/>
          </p:nvGrpSpPr>
          <p:grpSpPr>
            <a:xfrm>
              <a:off x="6085080" y="1989000"/>
              <a:ext cx="2592360" cy="1656720"/>
              <a:chOff x="6085080" y="1989000"/>
              <a:chExt cx="2592360" cy="1656720"/>
            </a:xfrm>
          </p:grpSpPr>
          <p:sp>
            <p:nvSpPr>
              <p:cNvPr id="598" name=""/>
              <p:cNvSpPr/>
              <p:nvPr/>
            </p:nvSpPr>
            <p:spPr>
              <a:xfrm flipH="1">
                <a:off x="6110640" y="1989000"/>
                <a:ext cx="2566800" cy="10105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6084720" y="2355840"/>
                <a:ext cx="1962360" cy="12898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974000" y="2588760"/>
                <a:ext cx="679320" cy="104328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7167960" y="2287440"/>
                <a:ext cx="676080" cy="108684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rot="971400">
              <a:off x="7163640" y="29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1195600">
              <a:off x="7308720" y="23493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 rot="20301000">
            <a:off x="5004000" y="292392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0,3у к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42920" y="5516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сса никеля в новом сплаве 20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=5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(к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8360" y="3933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19774200">
            <a:off x="7885440" y="28519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50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95640" y="2276640"/>
            <a:ext cx="2518920" cy="1296000"/>
            <a:chOff x="395640" y="2276640"/>
            <a:chExt cx="2518920" cy="1296000"/>
          </a:xfrm>
        </p:grpSpPr>
        <p:grpSp>
          <p:nvGrpSpPr>
            <p:cNvPr id="609" name=""/>
            <p:cNvGrpSpPr/>
            <p:nvPr/>
          </p:nvGrpSpPr>
          <p:grpSpPr>
            <a:xfrm>
              <a:off x="395640" y="2276640"/>
              <a:ext cx="2518920" cy="1296000"/>
              <a:chOff x="395640" y="2276640"/>
              <a:chExt cx="2518920" cy="1296000"/>
            </a:xfrm>
          </p:grpSpPr>
          <p:sp>
            <p:nvSpPr>
              <p:cNvPr id="610" name=""/>
              <p:cNvSpPr/>
              <p:nvPr/>
            </p:nvSpPr>
            <p:spPr>
              <a:xfrm flipH="1">
                <a:off x="419760" y="2276640"/>
                <a:ext cx="2494440" cy="7905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395280" y="2563560"/>
                <a:ext cx="1906920" cy="10090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231280" y="2746080"/>
                <a:ext cx="659880" cy="81612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1447560" y="2510280"/>
                <a:ext cx="657000" cy="85032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 rot="971400">
              <a:off x="1402560" y="29973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21195600">
              <a:off x="1619280" y="2492280"/>
              <a:ext cx="116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 rot="20301000">
            <a:off x="2124360" y="292392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0,1х к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539640" y="4437000"/>
                <a:ext cx="2616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3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771640" y="3860640"/>
                <a:ext cx="27352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5219640" y="3860640"/>
                <a:ext cx="364644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8386920" y="4076640"/>
                <a:ext cx="5648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466560" y="4797360"/>
                <a:ext cx="19814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3276720" y="479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0 кг - масса первого спл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203640" y="51577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50 кг - масса второго спл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03640" y="5516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50 – 50 = 100 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500"/>
                            </p:stCondLst>
                            <p:childTnLst>
                              <p:par>
                                <p:cTn id="9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3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7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0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0"/>
                            </p:stCondLst>
                            <p:childTnLst>
                              <p:par>
                                <p:cTn id="9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3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000"/>
                            </p:stCondLst>
                            <p:childTnLst>
                              <p:par>
                                <p:cTn id="9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6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5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7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7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9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2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8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6000"/>
                            </p:stCondLst>
                            <p:childTnLst>
                              <p:par>
                                <p:cTn id="9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50920" y="260280"/>
            <a:ext cx="864216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ри смешивании 30 процентного раствора серной кислоты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0 процентным раствором серной кислоты получилось 4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5 процентного раствора. Сколько граммов 30 процен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раствора было взят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4000" y="1916280"/>
            <a:ext cx="8496000" cy="41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65080" y="31417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493800" y="31417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5640" y="40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851280" y="1989000"/>
            <a:ext cx="1512360" cy="2222280"/>
            <a:chOff x="3851280" y="1989000"/>
            <a:chExt cx="1512360" cy="2222280"/>
          </a:xfrm>
        </p:grpSpPr>
        <p:grpSp>
          <p:nvGrpSpPr>
            <p:cNvPr id="631" name=""/>
            <p:cNvGrpSpPr/>
            <p:nvPr/>
          </p:nvGrpSpPr>
          <p:grpSpPr>
            <a:xfrm>
              <a:off x="3924360" y="1989000"/>
              <a:ext cx="1439280" cy="2222280"/>
              <a:chOff x="3924360" y="1989000"/>
              <a:chExt cx="1439280" cy="2222280"/>
            </a:xfrm>
          </p:grpSpPr>
          <p:sp>
            <p:nvSpPr>
              <p:cNvPr id="632" name=""/>
              <p:cNvSpPr/>
              <p:nvPr/>
            </p:nvSpPr>
            <p:spPr>
              <a:xfrm>
                <a:off x="3924360" y="1989000"/>
                <a:ext cx="1433520" cy="222228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54240" y="3862800"/>
                <a:ext cx="1388160" cy="15696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151880" y="1989000"/>
                <a:ext cx="965160" cy="2210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924360" y="3057480"/>
                <a:ext cx="1437120" cy="38844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925800" y="3228120"/>
                <a:ext cx="1435680" cy="2098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25800" y="3061080"/>
                <a:ext cx="1435680" cy="19152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924360" y="2574000"/>
                <a:ext cx="1439280" cy="388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925800" y="2739240"/>
                <a:ext cx="1418760" cy="21384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25800" y="2576160"/>
                <a:ext cx="1414800" cy="19260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3851280" y="278136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95280" y="2349360"/>
            <a:ext cx="1369800" cy="1863360"/>
            <a:chOff x="395280" y="2349360"/>
            <a:chExt cx="1369800" cy="1863360"/>
          </a:xfrm>
        </p:grpSpPr>
        <p:grpSp>
          <p:nvGrpSpPr>
            <p:cNvPr id="643" name=""/>
            <p:cNvGrpSpPr/>
            <p:nvPr/>
          </p:nvGrpSpPr>
          <p:grpSpPr>
            <a:xfrm>
              <a:off x="468360" y="2349360"/>
              <a:ext cx="1296720" cy="1863360"/>
              <a:chOff x="468360" y="2349360"/>
              <a:chExt cx="1296720" cy="1863360"/>
            </a:xfrm>
          </p:grpSpPr>
          <p:sp>
            <p:nvSpPr>
              <p:cNvPr id="644" name=""/>
              <p:cNvSpPr/>
              <p:nvPr/>
            </p:nvSpPr>
            <p:spPr>
              <a:xfrm>
                <a:off x="468360" y="2349360"/>
                <a:ext cx="1291320" cy="186336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95360" y="3920760"/>
                <a:ext cx="1250640" cy="13176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73200" y="2349360"/>
                <a:ext cx="869400" cy="1854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8360" y="3245400"/>
                <a:ext cx="1294920" cy="32544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9800" y="3388320"/>
                <a:ext cx="1293480" cy="1760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9800" y="3248280"/>
                <a:ext cx="1293480" cy="160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8360" y="2840040"/>
                <a:ext cx="1296720" cy="325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69800" y="2978280"/>
                <a:ext cx="1278360" cy="1792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69800" y="2841840"/>
                <a:ext cx="1274760" cy="161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395280" y="299736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050920" y="2349360"/>
            <a:ext cx="1441080" cy="1863360"/>
            <a:chOff x="2050920" y="2349360"/>
            <a:chExt cx="1441080" cy="1863360"/>
          </a:xfrm>
        </p:grpSpPr>
        <p:grpSp>
          <p:nvGrpSpPr>
            <p:cNvPr id="655" name=""/>
            <p:cNvGrpSpPr/>
            <p:nvPr/>
          </p:nvGrpSpPr>
          <p:grpSpPr>
            <a:xfrm>
              <a:off x="2195640" y="2349360"/>
              <a:ext cx="1296360" cy="1863360"/>
              <a:chOff x="2195640" y="2349360"/>
              <a:chExt cx="1296360" cy="1863360"/>
            </a:xfrm>
          </p:grpSpPr>
          <p:sp>
            <p:nvSpPr>
              <p:cNvPr id="656" name=""/>
              <p:cNvSpPr/>
              <p:nvPr/>
            </p:nvSpPr>
            <p:spPr>
              <a:xfrm>
                <a:off x="2195640" y="2349360"/>
                <a:ext cx="1290960" cy="186336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222640" y="3920760"/>
                <a:ext cx="1250280" cy="13176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400480" y="2349360"/>
                <a:ext cx="869040" cy="1854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195640" y="3245400"/>
                <a:ext cx="1294560" cy="32544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97080" y="3388320"/>
                <a:ext cx="1293120" cy="1760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97080" y="3248280"/>
                <a:ext cx="1293120" cy="160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95640" y="2840040"/>
                <a:ext cx="1296360" cy="325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197080" y="2978280"/>
                <a:ext cx="1278000" cy="1792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197080" y="2841840"/>
                <a:ext cx="1274400" cy="161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2050920" y="299736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211640" y="40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0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484360" y="40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5867280" y="3141720"/>
                <a:ext cx="1938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796000" y="3716280"/>
                <a:ext cx="2616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3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1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651640" y="3213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8317080" y="3429000"/>
                <a:ext cx="5634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4" name=""/>
          <p:cNvGrpSpPr/>
          <p:nvPr/>
        </p:nvGrpSpPr>
        <p:grpSpPr>
          <a:xfrm>
            <a:off x="1908000" y="5084640"/>
            <a:ext cx="5472360" cy="486000"/>
            <a:chOff x="1908000" y="5084640"/>
            <a:chExt cx="5472360" cy="486000"/>
          </a:xfrm>
        </p:grpSpPr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1908000" y="5084640"/>
                  <a:ext cx="126864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3</m:t>
                      </m:r>
                      <m:r>
                        <m:t xml:space="preserve">х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6" name=""/>
            <p:cNvSpPr/>
            <p:nvPr/>
          </p:nvSpPr>
          <p:spPr>
            <a:xfrm>
              <a:off x="3059280" y="50846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ервом раство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900000" y="306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3х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1895400" y="5516640"/>
            <a:ext cx="5484960" cy="485640"/>
            <a:chOff x="1895400" y="5516640"/>
            <a:chExt cx="5484960" cy="485640"/>
          </a:xfrm>
        </p:grpSpPr>
        <p:sp>
          <p:nvSpPr>
            <p:cNvPr id="679" name=""/>
            <p:cNvSpPr/>
            <p:nvPr/>
          </p:nvSpPr>
          <p:spPr>
            <a:xfrm>
              <a:off x="3059280" y="55166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 во втором раство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1895400" y="5516640"/>
                  <a:ext cx="124164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1</m:t>
                      </m:r>
                      <m:r>
                        <m:t xml:space="preserve">у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1" name=""/>
          <p:cNvGrpSpPr/>
          <p:nvPr/>
        </p:nvGrpSpPr>
        <p:grpSpPr>
          <a:xfrm>
            <a:off x="1187280" y="4653000"/>
            <a:ext cx="6769080" cy="485640"/>
            <a:chOff x="1187280" y="4653000"/>
            <a:chExt cx="6769080" cy="485640"/>
          </a:xfrm>
        </p:grpSpPr>
        <p:sp>
          <p:nvSpPr>
            <p:cNvPr id="682" name=""/>
            <p:cNvSpPr/>
            <p:nvPr/>
          </p:nvSpPr>
          <p:spPr>
            <a:xfrm>
              <a:off x="3635280" y="465300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новом раство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1187280" y="4653000"/>
                  <a:ext cx="25099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4" name=""/>
          <p:cNvSpPr/>
          <p:nvPr/>
        </p:nvSpPr>
        <p:spPr>
          <a:xfrm>
            <a:off x="2556000" y="306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1у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27640" y="29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6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971640" y="4508640"/>
                <a:ext cx="43052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5219640" y="4508640"/>
                <a:ext cx="20113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03640" y="6165720"/>
            <a:ext cx="26654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10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050920" y="5516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0 г – 30% раствора было взя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1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6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0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4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7" dur="1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0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1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5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8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6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0920" y="260280"/>
            <a:ext cx="8642160" cy="23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меются два слитка сплава серебра и олова. Первый сл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содержит 360г серебра и 40г олова, а второй слиток – 450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серебра и 150г олова. От каждого слитка взяли по кус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сплавили их и получили 200г сплава, в котором оказ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81% серебра. Определите массу (в граммах) куска, взя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от второго слит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50920" y="2637000"/>
            <a:ext cx="8569080" cy="34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58800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5796000" y="3573360"/>
            <a:ext cx="2401920" cy="1122480"/>
            <a:chOff x="5796000" y="3573360"/>
            <a:chExt cx="2401920" cy="1122480"/>
          </a:xfrm>
        </p:grpSpPr>
        <p:grpSp>
          <p:nvGrpSpPr>
            <p:cNvPr id="696" name=""/>
            <p:cNvGrpSpPr/>
            <p:nvPr/>
          </p:nvGrpSpPr>
          <p:grpSpPr>
            <a:xfrm>
              <a:off x="5796000" y="3583080"/>
              <a:ext cx="2047320" cy="1071360"/>
              <a:chOff x="5796000" y="3583080"/>
              <a:chExt cx="2047320" cy="1071360"/>
            </a:xfrm>
          </p:grpSpPr>
          <p:sp>
            <p:nvSpPr>
              <p:cNvPr id="697" name=""/>
              <p:cNvSpPr/>
              <p:nvPr/>
            </p:nvSpPr>
            <p:spPr>
              <a:xfrm>
                <a:off x="5801400" y="3583080"/>
                <a:ext cx="2040840" cy="70164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796000" y="3855600"/>
                <a:ext cx="1603800" cy="79884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338600" y="3977280"/>
                <a:ext cx="504720" cy="66564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438240" y="3748320"/>
                <a:ext cx="518760" cy="66816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6588000" y="3790800"/>
              <a:ext cx="125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40360" y="35733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9531800">
              <a:off x="7173000" y="399852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8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332000" y="450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11640" y="4508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203640" y="429264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2c5"/>
              </a:solidFill>
              <a:latin typeface="Arial"/>
              <a:ea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5508720" y="4365720"/>
            <a:ext cx="287280" cy="144360"/>
            <a:chOff x="5508720" y="4365720"/>
            <a:chExt cx="287280" cy="144360"/>
          </a:xfrm>
        </p:grpSpPr>
        <p:sp>
          <p:nvSpPr>
            <p:cNvPr id="708" name=""/>
            <p:cNvSpPr txBox="1"/>
            <p:nvPr/>
          </p:nvSpPr>
          <p:spPr>
            <a:xfrm>
              <a:off x="5508720" y="4365720"/>
              <a:ext cx="28728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5508720" y="4462200"/>
              <a:ext cx="28728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468360" y="299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0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524720" y="306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0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692360" y="2852640"/>
            <a:ext cx="2142720" cy="1092600"/>
            <a:chOff x="1692360" y="2852640"/>
            <a:chExt cx="2142720" cy="1092600"/>
          </a:xfrm>
        </p:grpSpPr>
        <p:grpSp>
          <p:nvGrpSpPr>
            <p:cNvPr id="713" name=""/>
            <p:cNvGrpSpPr/>
            <p:nvPr/>
          </p:nvGrpSpPr>
          <p:grpSpPr>
            <a:xfrm>
              <a:off x="1692360" y="2923920"/>
              <a:ext cx="1799640" cy="936000"/>
              <a:chOff x="1692360" y="2923920"/>
              <a:chExt cx="1799640" cy="936000"/>
            </a:xfrm>
          </p:grpSpPr>
          <p:sp>
            <p:nvSpPr>
              <p:cNvPr id="714" name=""/>
              <p:cNvSpPr/>
              <p:nvPr/>
            </p:nvSpPr>
            <p:spPr>
              <a:xfrm>
                <a:off x="1697040" y="2923920"/>
                <a:ext cx="1793880" cy="61308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92360" y="3161880"/>
                <a:ext cx="1409760" cy="69804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048480" y="3268440"/>
                <a:ext cx="443520" cy="58176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256840" y="3068280"/>
                <a:ext cx="456120" cy="58392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2341440" y="3068280"/>
              <a:ext cx="11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65440" y="2852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9531800">
              <a:off x="2917800" y="3283920"/>
              <a:ext cx="863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651640" y="2852640"/>
            <a:ext cx="2142720" cy="1092600"/>
            <a:chOff x="5651640" y="2852640"/>
            <a:chExt cx="2142720" cy="1092600"/>
          </a:xfrm>
        </p:grpSpPr>
        <p:grpSp>
          <p:nvGrpSpPr>
            <p:cNvPr id="722" name=""/>
            <p:cNvGrpSpPr/>
            <p:nvPr/>
          </p:nvGrpSpPr>
          <p:grpSpPr>
            <a:xfrm>
              <a:off x="5651640" y="2923920"/>
              <a:ext cx="1799640" cy="936000"/>
              <a:chOff x="5651640" y="2923920"/>
              <a:chExt cx="1799640" cy="936000"/>
            </a:xfrm>
          </p:grpSpPr>
          <p:sp>
            <p:nvSpPr>
              <p:cNvPr id="723" name=""/>
              <p:cNvSpPr/>
              <p:nvPr/>
            </p:nvSpPr>
            <p:spPr>
              <a:xfrm>
                <a:off x="5656320" y="2923920"/>
                <a:ext cx="1793880" cy="61308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51640" y="3161880"/>
                <a:ext cx="1409760" cy="69804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07760" y="3268440"/>
                <a:ext cx="443520" cy="58176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216120" y="3068280"/>
                <a:ext cx="456120" cy="58392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6300720" y="3068280"/>
              <a:ext cx="11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24720" y="2852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9531800">
              <a:off x="6877080" y="3283920"/>
              <a:ext cx="863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5103720" y="2708280"/>
            <a:ext cx="2492280" cy="1152000"/>
            <a:chOff x="5103720" y="2708280"/>
            <a:chExt cx="2492280" cy="1152000"/>
          </a:xfrm>
        </p:grpSpPr>
        <p:grpSp>
          <p:nvGrpSpPr>
            <p:cNvPr id="731" name=""/>
            <p:cNvGrpSpPr/>
            <p:nvPr/>
          </p:nvGrpSpPr>
          <p:grpSpPr>
            <a:xfrm>
              <a:off x="5148360" y="2708280"/>
              <a:ext cx="2447640" cy="1152000"/>
              <a:chOff x="5148360" y="2708280"/>
              <a:chExt cx="2447640" cy="1152000"/>
            </a:xfrm>
          </p:grpSpPr>
          <p:sp>
            <p:nvSpPr>
              <p:cNvPr id="732" name=""/>
              <p:cNvSpPr/>
              <p:nvPr/>
            </p:nvSpPr>
            <p:spPr>
              <a:xfrm>
                <a:off x="5154840" y="2708280"/>
                <a:ext cx="2439720" cy="75456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148360" y="3001320"/>
                <a:ext cx="1917360" cy="85896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992640" y="3132360"/>
                <a:ext cx="603360" cy="71568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915880" y="2886120"/>
                <a:ext cx="620280" cy="71856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 rot="710400">
              <a:off x="6083280" y="32846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5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880200">
              <a:off x="5148000" y="3068640"/>
              <a:ext cx="8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5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56720" y="285120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64360" y="270828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187280" y="2708280"/>
            <a:ext cx="2447640" cy="1152000"/>
            <a:chOff x="1187280" y="2708280"/>
            <a:chExt cx="2447640" cy="1152000"/>
          </a:xfrm>
        </p:grpSpPr>
        <p:grpSp>
          <p:nvGrpSpPr>
            <p:cNvPr id="741" name=""/>
            <p:cNvGrpSpPr/>
            <p:nvPr/>
          </p:nvGrpSpPr>
          <p:grpSpPr>
            <a:xfrm>
              <a:off x="1187280" y="2708280"/>
              <a:ext cx="2447640" cy="1152000"/>
              <a:chOff x="1187280" y="2708280"/>
              <a:chExt cx="2447640" cy="1152000"/>
            </a:xfrm>
          </p:grpSpPr>
          <p:sp>
            <p:nvSpPr>
              <p:cNvPr id="742" name=""/>
              <p:cNvSpPr/>
              <p:nvPr/>
            </p:nvSpPr>
            <p:spPr>
              <a:xfrm>
                <a:off x="1193760" y="2708280"/>
                <a:ext cx="2439720" cy="75456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87280" y="3001320"/>
                <a:ext cx="1917360" cy="85896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31560" y="3132360"/>
                <a:ext cx="603360" cy="71568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954800" y="2886120"/>
                <a:ext cx="620280" cy="71856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2195280" y="28512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03280" y="27082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710400">
              <a:off x="2120400" y="3285720"/>
              <a:ext cx="83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6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733800">
              <a:off x="1260000" y="30682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3492360" y="6165720"/>
            <a:ext cx="26654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1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611280" y="5300640"/>
            <a:ext cx="6835680" cy="485640"/>
            <a:chOff x="611280" y="5300640"/>
            <a:chExt cx="6835680" cy="485640"/>
          </a:xfrm>
        </p:grpSpPr>
        <p:sp>
          <p:nvSpPr>
            <p:cNvPr id="752" name=""/>
            <p:cNvSpPr/>
            <p:nvPr/>
          </p:nvSpPr>
          <p:spPr>
            <a:xfrm>
              <a:off x="3125880" y="53006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еребра 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новом сплав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3" name=""/>
                <p:cNvSpPr txBox="1"/>
                <p:nvPr/>
              </p:nvSpPr>
              <p:spPr>
                <a:xfrm>
                  <a:off x="611280" y="5300640"/>
                  <a:ext cx="264456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0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2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4" name=""/>
          <p:cNvSpPr/>
          <p:nvPr/>
        </p:nvSpPr>
        <p:spPr>
          <a:xfrm rot="795600">
            <a:off x="6443280" y="4076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6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187280" y="5013360"/>
            <a:ext cx="5809320" cy="941400"/>
            <a:chOff x="1187280" y="5013360"/>
            <a:chExt cx="5809320" cy="941400"/>
          </a:xfrm>
        </p:grpSpPr>
        <mc:AlternateContent>
          <mc:Choice xmlns:a14="http://schemas.microsoft.com/office/drawing/2010/main" Requires="a14">
            <p:sp>
              <p:nvSpPr>
                <p:cNvPr id="756" name=""/>
                <p:cNvSpPr txBox="1"/>
                <p:nvPr/>
              </p:nvSpPr>
              <p:spPr>
                <a:xfrm>
                  <a:off x="1187280" y="5013360"/>
                  <a:ext cx="240192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0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7" name=""/>
            <p:cNvSpPr/>
            <p:nvPr/>
          </p:nvSpPr>
          <p:spPr>
            <a:xfrm>
              <a:off x="3492000" y="5229360"/>
              <a:ext cx="35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 первом слит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 rot="19664400">
            <a:off x="4861080" y="4076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042920" y="5013360"/>
            <a:ext cx="6046200" cy="941400"/>
            <a:chOff x="1042920" y="5013360"/>
            <a:chExt cx="6046200" cy="94140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1042920" y="5013360"/>
                  <a:ext cx="240192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0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3346920" y="5229360"/>
              <a:ext cx="374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о втором слит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 rot="19753800">
            <a:off x="2556360" y="39333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1009800">
            <a:off x="1762920" y="407664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9х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556000" y="5300640"/>
            <a:ext cx="4310280" cy="459720"/>
            <a:chOff x="2556000" y="5300640"/>
            <a:chExt cx="4310280" cy="459720"/>
          </a:xfrm>
        </p:grpSpPr>
        <p:sp>
          <p:nvSpPr>
            <p:cNvPr id="765" name=""/>
            <p:cNvSpPr/>
            <p:nvPr/>
          </p:nvSpPr>
          <p:spPr>
            <a:xfrm>
              <a:off x="3636000" y="5300640"/>
              <a:ext cx="32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 перв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56000" y="530064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0,9х(г) 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 rot="834000">
            <a:off x="3923640" y="4149360"/>
            <a:ext cx="12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75у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195640" y="5229360"/>
            <a:ext cx="4647600" cy="825480"/>
            <a:chOff x="2195640" y="5229360"/>
            <a:chExt cx="4647600" cy="825480"/>
          </a:xfrm>
        </p:grpSpPr>
        <p:sp>
          <p:nvSpPr>
            <p:cNvPr id="769" name=""/>
            <p:cNvSpPr/>
            <p:nvPr/>
          </p:nvSpPr>
          <p:spPr>
            <a:xfrm>
              <a:off x="3375360" y="5229360"/>
              <a:ext cx="346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о втор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95640" y="5229360"/>
              <a:ext cx="133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0,75у(г)-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 rot="19753800">
            <a:off x="2916720" y="328428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19664400">
            <a:off x="6950160" y="3284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11280" y="4941720"/>
                <a:ext cx="1658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11280" y="5516640"/>
                <a:ext cx="25984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9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468360" y="4941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059280" y="5013360"/>
                <a:ext cx="39589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,9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0,9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95640" y="4941720"/>
                <a:ext cx="124452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,9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6877080" y="4941720"/>
                <a:ext cx="197964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4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87283E-006 L -0.04341 0.10497 E">
                                      <p:cBhvr>
                                        <p:cTn id="1193" dur="5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87283E-006 L -0.22448 0.1156 E">
                                      <p:cBhvr>
                                        <p:cTn id="1203" dur="5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4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5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8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2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1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5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4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8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3" dur="1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6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9" dur="10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0" dur="10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3" dur="1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7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50920" y="260280"/>
            <a:ext cx="8642160" cy="23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ервый раствор содержит 40% кислоты, а второй - 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ислоты. Смешав эти растворы и добавив 5 л в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олучили 20 процентный раствор. Если бы вместо 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добавили 5 л 80 процентного раствора, то получился 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70 процентный раствор. Сколько литров 60 процен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раствора кислоты было первонача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2637000"/>
            <a:ext cx="8785440" cy="34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547640" y="3068640"/>
            <a:ext cx="936360" cy="1439640"/>
            <a:chOff x="1547640" y="3068640"/>
            <a:chExt cx="936360" cy="1439640"/>
          </a:xfrm>
        </p:grpSpPr>
        <p:grpSp>
          <p:nvGrpSpPr>
            <p:cNvPr id="784" name=""/>
            <p:cNvGrpSpPr/>
            <p:nvPr/>
          </p:nvGrpSpPr>
          <p:grpSpPr>
            <a:xfrm>
              <a:off x="1620720" y="3068640"/>
              <a:ext cx="863280" cy="1439640"/>
              <a:chOff x="1620720" y="3068640"/>
              <a:chExt cx="863280" cy="1439640"/>
            </a:xfrm>
          </p:grpSpPr>
          <p:sp>
            <p:nvSpPr>
              <p:cNvPr id="785" name=""/>
              <p:cNvSpPr/>
              <p:nvPr/>
            </p:nvSpPr>
            <p:spPr>
              <a:xfrm>
                <a:off x="1626480" y="3068640"/>
                <a:ext cx="857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62920" y="3068640"/>
                <a:ext cx="57924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626480" y="4199040"/>
                <a:ext cx="85176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620720" y="3706200"/>
                <a:ext cx="85068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620720" y="3588840"/>
                <a:ext cx="84204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620720" y="3605760"/>
                <a:ext cx="84672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626480" y="4085640"/>
                <a:ext cx="85284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626480" y="4085640"/>
                <a:ext cx="84204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626480" y="4266360"/>
                <a:ext cx="83268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1547640" y="3716280"/>
              <a:ext cx="8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700360" y="3068640"/>
            <a:ext cx="936000" cy="1439640"/>
            <a:chOff x="2700360" y="3068640"/>
            <a:chExt cx="936000" cy="1439640"/>
          </a:xfrm>
        </p:grpSpPr>
        <p:grpSp>
          <p:nvGrpSpPr>
            <p:cNvPr id="796" name=""/>
            <p:cNvGrpSpPr/>
            <p:nvPr/>
          </p:nvGrpSpPr>
          <p:grpSpPr>
            <a:xfrm>
              <a:off x="2770200" y="3068640"/>
              <a:ext cx="866160" cy="1439640"/>
              <a:chOff x="2770200" y="3068640"/>
              <a:chExt cx="866160" cy="1439640"/>
            </a:xfrm>
          </p:grpSpPr>
          <p:sp>
            <p:nvSpPr>
              <p:cNvPr id="797" name=""/>
              <p:cNvSpPr/>
              <p:nvPr/>
            </p:nvSpPr>
            <p:spPr>
              <a:xfrm>
                <a:off x="2772000" y="3068640"/>
                <a:ext cx="86436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784600" y="4287600"/>
                <a:ext cx="839160" cy="921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908800" y="3068640"/>
                <a:ext cx="585360" cy="14436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772000" y="3535200"/>
                <a:ext cx="857880" cy="13824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70200" y="3429000"/>
                <a:ext cx="85356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2700360" y="35701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3851280" y="2708280"/>
            <a:ext cx="1296360" cy="1800000"/>
            <a:chOff x="3851280" y="2708280"/>
            <a:chExt cx="1296360" cy="1800000"/>
          </a:xfrm>
        </p:grpSpPr>
        <p:grpSp>
          <p:nvGrpSpPr>
            <p:cNvPr id="804" name=""/>
            <p:cNvGrpSpPr/>
            <p:nvPr/>
          </p:nvGrpSpPr>
          <p:grpSpPr>
            <a:xfrm>
              <a:off x="3921120" y="2708280"/>
              <a:ext cx="1226520" cy="1800000"/>
              <a:chOff x="3921120" y="2708280"/>
              <a:chExt cx="1226520" cy="1800000"/>
            </a:xfrm>
          </p:grpSpPr>
          <p:sp>
            <p:nvSpPr>
              <p:cNvPr id="805" name=""/>
              <p:cNvSpPr/>
              <p:nvPr/>
            </p:nvSpPr>
            <p:spPr>
              <a:xfrm>
                <a:off x="3921120" y="2708280"/>
                <a:ext cx="1221480" cy="180000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46680" y="4225680"/>
                <a:ext cx="1182960" cy="12708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114800" y="2708280"/>
                <a:ext cx="822240" cy="17892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921120" y="3573720"/>
                <a:ext cx="1224720" cy="31428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922560" y="3711960"/>
                <a:ext cx="1223280" cy="16992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922560" y="3576600"/>
                <a:ext cx="1223280" cy="1551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921120" y="3182040"/>
                <a:ext cx="1226520" cy="31428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2560" y="3315600"/>
                <a:ext cx="1209240" cy="1731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922560" y="3183840"/>
                <a:ext cx="1205640" cy="1562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3851280" y="3211560"/>
              <a:ext cx="8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3565440" y="3645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412720" y="3645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188720" y="3645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45080" y="4437000"/>
            <a:ext cx="5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24000" y="3068640"/>
            <a:ext cx="935640" cy="1439640"/>
            <a:chOff x="324000" y="3068640"/>
            <a:chExt cx="935640" cy="1439640"/>
          </a:xfrm>
        </p:grpSpPr>
        <p:grpSp>
          <p:nvGrpSpPr>
            <p:cNvPr id="820" name=""/>
            <p:cNvGrpSpPr/>
            <p:nvPr/>
          </p:nvGrpSpPr>
          <p:grpSpPr>
            <a:xfrm>
              <a:off x="396720" y="3068640"/>
              <a:ext cx="862920" cy="1439640"/>
              <a:chOff x="396720" y="3068640"/>
              <a:chExt cx="862920" cy="1439640"/>
            </a:xfrm>
          </p:grpSpPr>
          <p:sp>
            <p:nvSpPr>
              <p:cNvPr id="821" name=""/>
              <p:cNvSpPr/>
              <p:nvPr/>
            </p:nvSpPr>
            <p:spPr>
              <a:xfrm>
                <a:off x="402480" y="3068640"/>
                <a:ext cx="85716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38560" y="3068640"/>
                <a:ext cx="57888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02480" y="4199040"/>
                <a:ext cx="85140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96720" y="3706200"/>
                <a:ext cx="85032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96720" y="3588840"/>
                <a:ext cx="84168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96720" y="3605760"/>
                <a:ext cx="84636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02480" y="4085640"/>
                <a:ext cx="85248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02480" y="4085640"/>
                <a:ext cx="84168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02480" y="4266360"/>
                <a:ext cx="8323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324000" y="37162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68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92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780000" y="4365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+у+5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950760" y="496080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4х (л) - кислоты в пер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7080" y="3933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4х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900000" y="4941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6у (л) - кислоты во втор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20720" y="39337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6у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00000" y="494172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2(х+у+5) (л) - кислоты в но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708360" y="35002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2(х+у+5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219640" y="3860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292720" y="3860640"/>
                <a:ext cx="3166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6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2" name=""/>
          <p:cNvGrpSpPr/>
          <p:nvPr/>
        </p:nvGrpSpPr>
        <p:grpSpPr>
          <a:xfrm>
            <a:off x="3924360" y="2708280"/>
            <a:ext cx="1223280" cy="1802520"/>
            <a:chOff x="3924360" y="2708280"/>
            <a:chExt cx="1223280" cy="1802520"/>
          </a:xfrm>
        </p:grpSpPr>
        <p:grpSp>
          <p:nvGrpSpPr>
            <p:cNvPr id="843" name=""/>
            <p:cNvGrpSpPr/>
            <p:nvPr/>
          </p:nvGrpSpPr>
          <p:grpSpPr>
            <a:xfrm>
              <a:off x="3924360" y="2708280"/>
              <a:ext cx="1223280" cy="1802520"/>
              <a:chOff x="3924360" y="2708280"/>
              <a:chExt cx="1223280" cy="1802520"/>
            </a:xfrm>
          </p:grpSpPr>
          <p:sp>
            <p:nvSpPr>
              <p:cNvPr id="844" name=""/>
              <p:cNvSpPr/>
              <p:nvPr/>
            </p:nvSpPr>
            <p:spPr>
              <a:xfrm>
                <a:off x="3924360" y="2708280"/>
                <a:ext cx="1220040" cy="180252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41280" y="4235040"/>
                <a:ext cx="1184040" cy="1155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117680" y="2708280"/>
                <a:ext cx="824040" cy="1800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924360" y="3985200"/>
                <a:ext cx="1223280" cy="1720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924360" y="3834720"/>
                <a:ext cx="1223280" cy="1551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24360" y="3330000"/>
                <a:ext cx="1209600" cy="17352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925800" y="3197520"/>
                <a:ext cx="1204560" cy="1569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4025520" y="3067200"/>
              <a:ext cx="112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771640" y="3068640"/>
            <a:ext cx="863640" cy="1442880"/>
            <a:chOff x="2771640" y="3068640"/>
            <a:chExt cx="863640" cy="1442880"/>
          </a:xfrm>
        </p:grpSpPr>
        <p:grpSp>
          <p:nvGrpSpPr>
            <p:cNvPr id="853" name=""/>
            <p:cNvGrpSpPr/>
            <p:nvPr/>
          </p:nvGrpSpPr>
          <p:grpSpPr>
            <a:xfrm>
              <a:off x="2771640" y="3068640"/>
              <a:ext cx="863640" cy="1442880"/>
              <a:chOff x="2771640" y="3068640"/>
              <a:chExt cx="863640" cy="1442880"/>
            </a:xfrm>
          </p:grpSpPr>
          <p:sp>
            <p:nvSpPr>
              <p:cNvPr id="854" name=""/>
              <p:cNvSpPr/>
              <p:nvPr/>
            </p:nvSpPr>
            <p:spPr>
              <a:xfrm>
                <a:off x="2771640" y="3068640"/>
                <a:ext cx="861120" cy="144288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783520" y="4290480"/>
                <a:ext cx="8359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908080" y="3068640"/>
                <a:ext cx="581760" cy="1440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771640" y="4090320"/>
                <a:ext cx="863640" cy="13752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771640" y="3970080"/>
                <a:ext cx="863640" cy="12420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771640" y="3566160"/>
                <a:ext cx="853920" cy="1389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772720" y="3460320"/>
                <a:ext cx="850320" cy="125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2843280" y="33555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8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2918160" y="3789360"/>
            <a:ext cx="5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4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708360" y="342900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7(х+у+5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292720" y="4292640"/>
                <a:ext cx="3571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6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5" name=""/>
          <p:cNvGrpSpPr/>
          <p:nvPr/>
        </p:nvGrpSpPr>
        <p:grpSpPr>
          <a:xfrm>
            <a:off x="1979640" y="5013360"/>
            <a:ext cx="4824360" cy="485640"/>
            <a:chOff x="1979640" y="5013360"/>
            <a:chExt cx="4824360" cy="485640"/>
          </a:xfrm>
        </p:grpSpPr>
        <p:sp>
          <p:nvSpPr>
            <p:cNvPr id="866" name=""/>
            <p:cNvSpPr/>
            <p:nvPr/>
          </p:nvSpPr>
          <p:spPr>
            <a:xfrm>
              <a:off x="3780000" y="50133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 в 5 литр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1979640" y="5084640"/>
                  <a:ext cx="19447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8</m:t>
                      </m:r>
                      <m:r>
                        <m:t xml:space="preserve">⋅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8" name=""/>
          <p:cNvSpPr/>
          <p:nvPr/>
        </p:nvSpPr>
        <p:spPr>
          <a:xfrm>
            <a:off x="971640" y="4941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7(х+у+5) (л) - кислоты в но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0" y="4797360"/>
                <a:ext cx="52243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4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0,6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0,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0,2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8459640" y="4149720"/>
                <a:ext cx="4716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76720" y="4869000"/>
                <a:ext cx="28814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0,4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7570800" y="4797360"/>
                <a:ext cx="13842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3635280" y="6165720"/>
            <a:ext cx="23749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2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4" dur="indefinite" restart="never" nodeType="tmRoot">
          <p:childTnLst>
            <p:seq>
              <p:cTn id="1355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35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2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5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4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8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1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4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8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9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9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8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2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611280" y="260280"/>
            <a:ext cx="799308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Литература и интернет-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39640" y="1700280"/>
            <a:ext cx="8064720" cy="453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нищева Л.О., Глазков Ю.А. и др. Еди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ый экзамен 2008. Матема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ебно-тренировочные материалы для по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ащихс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ФИПИ – М.: Интеллект-Центр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Шевкин А.В. Текстовые задачи в школьном кур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ематики. М.: Педагогический уни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Первое сентября»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Открытый банк заданий ЕГЭ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www.nado5.ru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material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novoe-v-yege-po-matema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>
            <a:hlinkClick r:id="" action="ppaction://hlinkshowjump?jump=endshow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0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2060640"/>
            <a:ext cx="8064360" cy="316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333360"/>
            <a:ext cx="734400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Способы решения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на смеси и спла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42920" y="2421000"/>
            <a:ext cx="4048560" cy="642600"/>
            <a:chOff x="1042920" y="2421000"/>
            <a:chExt cx="4048560" cy="642600"/>
          </a:xfrm>
        </p:grpSpPr>
        <p:sp>
          <p:nvSpPr>
            <p:cNvPr id="80" name="">
              <a:hlinkClick r:id="rId2" action="ppaction://hlinksldjump"/>
            </p:cNvPr>
            <p:cNvSpPr/>
            <p:nvPr/>
          </p:nvSpPr>
          <p:spPr>
            <a:xfrm>
              <a:off x="1524600" y="2421000"/>
              <a:ext cx="35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Арифметическ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>
              <a:hlinkClick r:id="rId4" action="ppaction://hlinksldjump"/>
            </p:cNvPr>
            <p:cNvSpPr/>
            <p:nvPr/>
          </p:nvSpPr>
          <p:spPr>
            <a:xfrm>
              <a:off x="1042920" y="2709720"/>
              <a:ext cx="217440" cy="213840"/>
            </a:xfrm>
            <a:prstGeom prst="ellipse">
              <a:avLst/>
            </a:prstGeom>
            <a:solidFill>
              <a:srgbClr val="00c9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042920" y="3429000"/>
            <a:ext cx="5182920" cy="642600"/>
            <a:chOff x="1042920" y="3429000"/>
            <a:chExt cx="5182920" cy="642600"/>
          </a:xfrm>
        </p:grpSpPr>
        <p:sp>
          <p:nvSpPr>
            <p:cNvPr id="83" name=""/>
            <p:cNvSpPr/>
            <p:nvPr/>
          </p:nvSpPr>
          <p:spPr>
            <a:xfrm>
              <a:off x="1467000" y="3429000"/>
              <a:ext cx="475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5" action="ppaction://hlinksldjump"/>
                </a:rPr>
                <a:t>Применение уравн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42920" y="3717720"/>
              <a:ext cx="217440" cy="214200"/>
            </a:xfrm>
            <a:prstGeom prst="ellipse">
              <a:avLst/>
            </a:prstGeom>
            <a:solidFill>
              <a:srgbClr val="00c9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042920" y="4365720"/>
            <a:ext cx="6761520" cy="642600"/>
            <a:chOff x="1042920" y="4365720"/>
            <a:chExt cx="6761520" cy="642600"/>
          </a:xfrm>
        </p:grpSpPr>
        <p:sp>
          <p:nvSpPr>
            <p:cNvPr id="86" name=""/>
            <p:cNvSpPr/>
            <p:nvPr/>
          </p:nvSpPr>
          <p:spPr>
            <a:xfrm>
              <a:off x="1553760" y="4365720"/>
              <a:ext cx="62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6" action="ppaction://hlinksldjump"/>
                </a:rPr>
                <a:t>Применение систем уравнен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42920" y="4654440"/>
              <a:ext cx="217440" cy="214560"/>
            </a:xfrm>
            <a:prstGeom prst="ellipse">
              <a:avLst/>
            </a:prstGeom>
            <a:solidFill>
              <a:srgbClr val="00c9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508720" y="5516640"/>
            <a:ext cx="649080" cy="934920"/>
            <a:chOff x="5508720" y="5516640"/>
            <a:chExt cx="649080" cy="934920"/>
          </a:xfrm>
        </p:grpSpPr>
        <p:sp>
          <p:nvSpPr>
            <p:cNvPr id="89" name=""/>
            <p:cNvSpPr/>
            <p:nvPr/>
          </p:nvSpPr>
          <p:spPr>
            <a:xfrm>
              <a:off x="5513760" y="5521320"/>
              <a:ext cx="638280" cy="930240"/>
            </a:xfrm>
            <a:custGeom>
              <a:avLst/>
              <a:gdLst/>
              <a:ahLst/>
              <a:rect l="l" t="t" r="r" b="b"/>
              <a:pathLst>
                <a:path w="1113" h="1352">
                  <a:moveTo>
                    <a:pt x="142" y="306"/>
                  </a:moveTo>
                  <a:cubicBezTo>
                    <a:pt x="124" y="309"/>
                    <a:pt x="115" y="309"/>
                    <a:pt x="98" y="318"/>
                  </a:cubicBezTo>
                  <a:cubicBezTo>
                    <a:pt x="80" y="326"/>
                    <a:pt x="52" y="336"/>
                    <a:pt x="38" y="356"/>
                  </a:cubicBezTo>
                  <a:cubicBezTo>
                    <a:pt x="22" y="375"/>
                    <a:pt x="14" y="377"/>
                    <a:pt x="8" y="437"/>
                  </a:cubicBezTo>
                  <a:cubicBezTo>
                    <a:pt x="2" y="498"/>
                    <a:pt x="3" y="632"/>
                    <a:pt x="2" y="720"/>
                  </a:cubicBezTo>
                  <a:cubicBezTo>
                    <a:pt x="2" y="806"/>
                    <a:pt x="0" y="875"/>
                    <a:pt x="2" y="958"/>
                  </a:cubicBezTo>
                  <a:cubicBezTo>
                    <a:pt x="5" y="1040"/>
                    <a:pt x="0" y="1160"/>
                    <a:pt x="14" y="1216"/>
                  </a:cubicBezTo>
                  <a:cubicBezTo>
                    <a:pt x="28" y="1272"/>
                    <a:pt x="35" y="1272"/>
                    <a:pt x="85" y="1293"/>
                  </a:cubicBezTo>
                  <a:cubicBezTo>
                    <a:pt x="135" y="1314"/>
                    <a:pt x="230" y="1331"/>
                    <a:pt x="321" y="1340"/>
                  </a:cubicBezTo>
                  <a:cubicBezTo>
                    <a:pt x="413" y="1349"/>
                    <a:pt x="536" y="1352"/>
                    <a:pt x="638" y="1348"/>
                  </a:cubicBezTo>
                  <a:cubicBezTo>
                    <a:pt x="740" y="1344"/>
                    <a:pt x="866" y="1332"/>
                    <a:pt x="936" y="1321"/>
                  </a:cubicBezTo>
                  <a:cubicBezTo>
                    <a:pt x="1006" y="1310"/>
                    <a:pt x="1032" y="1300"/>
                    <a:pt x="1059" y="1282"/>
                  </a:cubicBezTo>
                  <a:cubicBezTo>
                    <a:pt x="1086" y="1264"/>
                    <a:pt x="1088" y="1263"/>
                    <a:pt x="1097" y="1212"/>
                  </a:cubicBezTo>
                  <a:cubicBezTo>
                    <a:pt x="1106" y="1161"/>
                    <a:pt x="1109" y="1088"/>
                    <a:pt x="1111" y="978"/>
                  </a:cubicBezTo>
                  <a:cubicBezTo>
                    <a:pt x="1113" y="868"/>
                    <a:pt x="1111" y="650"/>
                    <a:pt x="1107" y="551"/>
                  </a:cubicBezTo>
                  <a:cubicBezTo>
                    <a:pt x="1103" y="452"/>
                    <a:pt x="1098" y="420"/>
                    <a:pt x="1088" y="385"/>
                  </a:cubicBezTo>
                  <a:cubicBezTo>
                    <a:pt x="1080" y="349"/>
                    <a:pt x="1065" y="353"/>
                    <a:pt x="1054" y="342"/>
                  </a:cubicBezTo>
                  <a:cubicBezTo>
                    <a:pt x="1041" y="330"/>
                    <a:pt x="1040" y="325"/>
                    <a:pt x="1017" y="318"/>
                  </a:cubicBezTo>
                  <a:cubicBezTo>
                    <a:pt x="997" y="310"/>
                    <a:pt x="948" y="304"/>
                    <a:pt x="925" y="299"/>
                  </a:cubicBezTo>
                  <a:cubicBezTo>
                    <a:pt x="902" y="293"/>
                    <a:pt x="893" y="293"/>
                    <a:pt x="877" y="289"/>
                  </a:cubicBezTo>
                  <a:cubicBezTo>
                    <a:pt x="863" y="284"/>
                    <a:pt x="847" y="278"/>
                    <a:pt x="836" y="270"/>
                  </a:cubicBezTo>
                  <a:cubicBezTo>
                    <a:pt x="825" y="262"/>
                    <a:pt x="814" y="254"/>
                    <a:pt x="810" y="244"/>
                  </a:cubicBezTo>
                  <a:cubicBezTo>
                    <a:pt x="805" y="232"/>
                    <a:pt x="800" y="218"/>
                    <a:pt x="806" y="203"/>
                  </a:cubicBezTo>
                  <a:cubicBezTo>
                    <a:pt x="813" y="189"/>
                    <a:pt x="833" y="168"/>
                    <a:pt x="847" y="154"/>
                  </a:cubicBezTo>
                  <a:cubicBezTo>
                    <a:pt x="862" y="140"/>
                    <a:pt x="884" y="133"/>
                    <a:pt x="896" y="120"/>
                  </a:cubicBezTo>
                  <a:cubicBezTo>
                    <a:pt x="909" y="107"/>
                    <a:pt x="923" y="89"/>
                    <a:pt x="923" y="76"/>
                  </a:cubicBezTo>
                  <a:cubicBezTo>
                    <a:pt x="923" y="63"/>
                    <a:pt x="932" y="50"/>
                    <a:pt x="901" y="39"/>
                  </a:cubicBezTo>
                  <a:cubicBezTo>
                    <a:pt x="869" y="29"/>
                    <a:pt x="797" y="20"/>
                    <a:pt x="736" y="13"/>
                  </a:cubicBezTo>
                  <a:cubicBezTo>
                    <a:pt x="674" y="7"/>
                    <a:pt x="603" y="0"/>
                    <a:pt x="531" y="0"/>
                  </a:cubicBezTo>
                  <a:cubicBezTo>
                    <a:pt x="458" y="0"/>
                    <a:pt x="356" y="7"/>
                    <a:pt x="298" y="16"/>
                  </a:cubicBezTo>
                  <a:cubicBezTo>
                    <a:pt x="239" y="25"/>
                    <a:pt x="200" y="38"/>
                    <a:pt x="184" y="55"/>
                  </a:cubicBezTo>
                  <a:cubicBezTo>
                    <a:pt x="169" y="72"/>
                    <a:pt x="192" y="104"/>
                    <a:pt x="202" y="121"/>
                  </a:cubicBezTo>
                  <a:cubicBezTo>
                    <a:pt x="209" y="140"/>
                    <a:pt x="225" y="149"/>
                    <a:pt x="236" y="160"/>
                  </a:cubicBezTo>
                  <a:cubicBezTo>
                    <a:pt x="249" y="172"/>
                    <a:pt x="266" y="183"/>
                    <a:pt x="276" y="192"/>
                  </a:cubicBezTo>
                  <a:cubicBezTo>
                    <a:pt x="284" y="199"/>
                    <a:pt x="288" y="201"/>
                    <a:pt x="290" y="210"/>
                  </a:cubicBezTo>
                  <a:cubicBezTo>
                    <a:pt x="291" y="219"/>
                    <a:pt x="293" y="233"/>
                    <a:pt x="287" y="244"/>
                  </a:cubicBezTo>
                  <a:cubicBezTo>
                    <a:pt x="282" y="254"/>
                    <a:pt x="272" y="263"/>
                    <a:pt x="257" y="272"/>
                  </a:cubicBezTo>
                  <a:cubicBezTo>
                    <a:pt x="243" y="282"/>
                    <a:pt x="221" y="291"/>
                    <a:pt x="202" y="296"/>
                  </a:cubicBezTo>
                  <a:cubicBezTo>
                    <a:pt x="183" y="301"/>
                    <a:pt x="159" y="302"/>
                    <a:pt x="142" y="306"/>
                  </a:cubicBezTo>
                  <a:close/>
                </a:path>
              </a:pathLst>
            </a:custGeom>
            <a:gradFill rotWithShape="0">
              <a:gsLst>
                <a:gs pos="0">
                  <a:srgbClr val="09ffff"/>
                </a:gs>
                <a:gs pos="100000">
                  <a:srgbClr val="0000da"/>
                </a:gs>
              </a:gsLst>
              <a:lin ang="5400000"/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22400" y="6297480"/>
              <a:ext cx="614520" cy="70200"/>
            </a:xfrm>
            <a:custGeom>
              <a:avLst/>
              <a:gdLst/>
              <a:ahLst/>
              <a:rect l="l" t="t" r="r" b="b"/>
              <a:pathLst>
                <a:path w="1072" h="102">
                  <a:moveTo>
                    <a:pt x="1072" y="90"/>
                  </a:moveTo>
                  <a:cubicBezTo>
                    <a:pt x="1047" y="80"/>
                    <a:pt x="1012" y="45"/>
                    <a:pt x="924" y="30"/>
                  </a:cubicBezTo>
                  <a:cubicBezTo>
                    <a:pt x="836" y="15"/>
                    <a:pt x="667" y="0"/>
                    <a:pt x="542" y="0"/>
                  </a:cubicBezTo>
                  <a:cubicBezTo>
                    <a:pt x="417" y="0"/>
                    <a:pt x="264" y="15"/>
                    <a:pt x="174" y="32"/>
                  </a:cubicBezTo>
                  <a:cubicBezTo>
                    <a:pt x="84" y="49"/>
                    <a:pt x="36" y="88"/>
                    <a:pt x="0" y="102"/>
                  </a:cubicBezTo>
                </a:path>
              </a:pathLst>
            </a:cu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08720" y="5932800"/>
              <a:ext cx="649080" cy="162360"/>
            </a:xfrm>
            <a:custGeom>
              <a:avLst/>
              <a:gdLst/>
              <a:ahLst/>
              <a:rect l="l" t="t" r="r" b="b"/>
              <a:pathLst>
                <a:path w="1132" h="236">
                  <a:moveTo>
                    <a:pt x="12" y="104"/>
                  </a:moveTo>
                  <a:cubicBezTo>
                    <a:pt x="0" y="120"/>
                    <a:pt x="21" y="138"/>
                    <a:pt x="48" y="153"/>
                  </a:cubicBezTo>
                  <a:cubicBezTo>
                    <a:pt x="75" y="168"/>
                    <a:pt x="106" y="179"/>
                    <a:pt x="174" y="192"/>
                  </a:cubicBezTo>
                  <a:cubicBezTo>
                    <a:pt x="242" y="205"/>
                    <a:pt x="349" y="226"/>
                    <a:pt x="453" y="231"/>
                  </a:cubicBezTo>
                  <a:cubicBezTo>
                    <a:pt x="557" y="236"/>
                    <a:pt x="719" y="228"/>
                    <a:pt x="799" y="223"/>
                  </a:cubicBezTo>
                  <a:cubicBezTo>
                    <a:pt x="880" y="218"/>
                    <a:pt x="894" y="211"/>
                    <a:pt x="932" y="202"/>
                  </a:cubicBezTo>
                  <a:cubicBezTo>
                    <a:pt x="969" y="193"/>
                    <a:pt x="999" y="185"/>
                    <a:pt x="1029" y="171"/>
                  </a:cubicBezTo>
                  <a:cubicBezTo>
                    <a:pt x="1059" y="157"/>
                    <a:pt x="1098" y="134"/>
                    <a:pt x="1112" y="120"/>
                  </a:cubicBezTo>
                  <a:cubicBezTo>
                    <a:pt x="1126" y="106"/>
                    <a:pt x="1132" y="103"/>
                    <a:pt x="1112" y="88"/>
                  </a:cubicBezTo>
                  <a:cubicBezTo>
                    <a:pt x="1092" y="73"/>
                    <a:pt x="1053" y="45"/>
                    <a:pt x="991" y="31"/>
                  </a:cubicBezTo>
                  <a:cubicBezTo>
                    <a:pt x="929" y="17"/>
                    <a:pt x="831" y="8"/>
                    <a:pt x="741" y="4"/>
                  </a:cubicBezTo>
                  <a:cubicBezTo>
                    <a:pt x="651" y="0"/>
                    <a:pt x="525" y="1"/>
                    <a:pt x="448" y="4"/>
                  </a:cubicBezTo>
                  <a:cubicBezTo>
                    <a:pt x="371" y="7"/>
                    <a:pt x="335" y="12"/>
                    <a:pt x="280" y="20"/>
                  </a:cubicBezTo>
                  <a:cubicBezTo>
                    <a:pt x="226" y="27"/>
                    <a:pt x="165" y="41"/>
                    <a:pt x="120" y="55"/>
                  </a:cubicBezTo>
                  <a:cubicBezTo>
                    <a:pt x="75" y="69"/>
                    <a:pt x="24" y="88"/>
                    <a:pt x="12" y="104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4747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15560" y="6006960"/>
              <a:ext cx="632880" cy="84600"/>
            </a:xfrm>
            <a:custGeom>
              <a:avLst/>
              <a:gdLst/>
              <a:ahLst/>
              <a:rect l="l" t="t" r="r" b="b"/>
              <a:pathLst>
                <a:path w="1104" h="123">
                  <a:moveTo>
                    <a:pt x="0" y="16"/>
                  </a:moveTo>
                  <a:cubicBezTo>
                    <a:pt x="8" y="22"/>
                    <a:pt x="15" y="40"/>
                    <a:pt x="43" y="52"/>
                  </a:cubicBezTo>
                  <a:cubicBezTo>
                    <a:pt x="71" y="64"/>
                    <a:pt x="117" y="79"/>
                    <a:pt x="167" y="89"/>
                  </a:cubicBezTo>
                  <a:cubicBezTo>
                    <a:pt x="218" y="99"/>
                    <a:pt x="284" y="107"/>
                    <a:pt x="348" y="113"/>
                  </a:cubicBezTo>
                  <a:cubicBezTo>
                    <a:pt x="413" y="118"/>
                    <a:pt x="487" y="123"/>
                    <a:pt x="559" y="123"/>
                  </a:cubicBezTo>
                  <a:cubicBezTo>
                    <a:pt x="632" y="123"/>
                    <a:pt x="722" y="120"/>
                    <a:pt x="786" y="113"/>
                  </a:cubicBezTo>
                  <a:cubicBezTo>
                    <a:pt x="851" y="105"/>
                    <a:pt x="903" y="90"/>
                    <a:pt x="947" y="79"/>
                  </a:cubicBezTo>
                  <a:cubicBezTo>
                    <a:pt x="991" y="67"/>
                    <a:pt x="1025" y="52"/>
                    <a:pt x="1051" y="39"/>
                  </a:cubicBezTo>
                  <a:cubicBezTo>
                    <a:pt x="1077" y="26"/>
                    <a:pt x="1093" y="8"/>
                    <a:pt x="1104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7720" y="5933520"/>
              <a:ext cx="628560" cy="70920"/>
            </a:xfrm>
            <a:custGeom>
              <a:avLst/>
              <a:gdLst/>
              <a:ahLst/>
              <a:rect l="l" t="t" r="r" b="b"/>
              <a:pathLst>
                <a:path w="1096" h="103">
                  <a:moveTo>
                    <a:pt x="1096" y="91"/>
                  </a:moveTo>
                  <a:cubicBezTo>
                    <a:pt x="1085" y="85"/>
                    <a:pt x="1061" y="64"/>
                    <a:pt x="1028" y="52"/>
                  </a:cubicBezTo>
                  <a:cubicBezTo>
                    <a:pt x="995" y="40"/>
                    <a:pt x="944" y="29"/>
                    <a:pt x="896" y="21"/>
                  </a:cubicBezTo>
                  <a:cubicBezTo>
                    <a:pt x="847" y="13"/>
                    <a:pt x="792" y="5"/>
                    <a:pt x="735" y="3"/>
                  </a:cubicBezTo>
                  <a:cubicBezTo>
                    <a:pt x="678" y="0"/>
                    <a:pt x="610" y="1"/>
                    <a:pt x="551" y="1"/>
                  </a:cubicBezTo>
                  <a:cubicBezTo>
                    <a:pt x="491" y="1"/>
                    <a:pt x="432" y="1"/>
                    <a:pt x="379" y="5"/>
                  </a:cubicBezTo>
                  <a:cubicBezTo>
                    <a:pt x="325" y="9"/>
                    <a:pt x="270" y="18"/>
                    <a:pt x="225" y="26"/>
                  </a:cubicBezTo>
                  <a:cubicBezTo>
                    <a:pt x="179" y="34"/>
                    <a:pt x="135" y="45"/>
                    <a:pt x="102" y="55"/>
                  </a:cubicBezTo>
                  <a:cubicBezTo>
                    <a:pt x="69" y="66"/>
                    <a:pt x="43" y="81"/>
                    <a:pt x="26" y="89"/>
                  </a:cubicBezTo>
                  <a:cubicBezTo>
                    <a:pt x="9" y="97"/>
                    <a:pt x="5" y="100"/>
                    <a:pt x="0" y="103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8160" y="5516640"/>
              <a:ext cx="429480" cy="92160"/>
            </a:xfrm>
            <a:custGeom>
              <a:avLst/>
              <a:gdLst/>
              <a:ahLst/>
              <a:rect l="l" t="t" r="r" b="b"/>
              <a:pathLst>
                <a:path w="475" h="103">
                  <a:moveTo>
                    <a:pt x="5" y="57"/>
                  </a:moveTo>
                  <a:cubicBezTo>
                    <a:pt x="0" y="49"/>
                    <a:pt x="8" y="37"/>
                    <a:pt x="25" y="29"/>
                  </a:cubicBezTo>
                  <a:cubicBezTo>
                    <a:pt x="42" y="21"/>
                    <a:pt x="76" y="16"/>
                    <a:pt x="107" y="11"/>
                  </a:cubicBezTo>
                  <a:cubicBezTo>
                    <a:pt x="138" y="6"/>
                    <a:pt x="180" y="2"/>
                    <a:pt x="213" y="1"/>
                  </a:cubicBezTo>
                  <a:cubicBezTo>
                    <a:pt x="246" y="0"/>
                    <a:pt x="279" y="1"/>
                    <a:pt x="307" y="3"/>
                  </a:cubicBezTo>
                  <a:cubicBezTo>
                    <a:pt x="335" y="5"/>
                    <a:pt x="357" y="9"/>
                    <a:pt x="379" y="13"/>
                  </a:cubicBezTo>
                  <a:cubicBezTo>
                    <a:pt x="401" y="17"/>
                    <a:pt x="422" y="19"/>
                    <a:pt x="437" y="25"/>
                  </a:cubicBezTo>
                  <a:cubicBezTo>
                    <a:pt x="452" y="31"/>
                    <a:pt x="471" y="42"/>
                    <a:pt x="473" y="49"/>
                  </a:cubicBezTo>
                  <a:cubicBezTo>
                    <a:pt x="475" y="56"/>
                    <a:pt x="464" y="60"/>
                    <a:pt x="449" y="67"/>
                  </a:cubicBezTo>
                  <a:cubicBezTo>
                    <a:pt x="434" y="74"/>
                    <a:pt x="410" y="83"/>
                    <a:pt x="381" y="89"/>
                  </a:cubicBezTo>
                  <a:cubicBezTo>
                    <a:pt x="352" y="95"/>
                    <a:pt x="316" y="99"/>
                    <a:pt x="277" y="101"/>
                  </a:cubicBezTo>
                  <a:cubicBezTo>
                    <a:pt x="238" y="103"/>
                    <a:pt x="186" y="102"/>
                    <a:pt x="149" y="99"/>
                  </a:cubicBezTo>
                  <a:cubicBezTo>
                    <a:pt x="112" y="96"/>
                    <a:pt x="79" y="87"/>
                    <a:pt x="55" y="80"/>
                  </a:cubicBezTo>
                  <a:cubicBezTo>
                    <a:pt x="31" y="73"/>
                    <a:pt x="11" y="66"/>
                    <a:pt x="5" y="57"/>
                  </a:cubicBezTo>
                  <a:close/>
                </a:path>
              </a:pathLst>
            </a:custGeom>
            <a:solidFill>
              <a:srgbClr val="00ffff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51280" y="5373720"/>
            <a:ext cx="2518920" cy="1202400"/>
            <a:chOff x="2051280" y="5373720"/>
            <a:chExt cx="2518920" cy="1202400"/>
          </a:xfrm>
        </p:grpSpPr>
        <p:grpSp>
          <p:nvGrpSpPr>
            <p:cNvPr id="96" name=""/>
            <p:cNvGrpSpPr/>
            <p:nvPr/>
          </p:nvGrpSpPr>
          <p:grpSpPr>
            <a:xfrm>
              <a:off x="2051280" y="5373720"/>
              <a:ext cx="2518920" cy="1150560"/>
              <a:chOff x="2051280" y="5373720"/>
              <a:chExt cx="2518920" cy="115056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2075400" y="5373720"/>
                <a:ext cx="2494440" cy="70164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050920" y="5628600"/>
                <a:ext cx="1906920" cy="8956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886920" y="5790240"/>
                <a:ext cx="659880" cy="72432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3103200" y="5581080"/>
                <a:ext cx="657000" cy="75456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rot="971400">
              <a:off x="3043800" y="6008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195600">
              <a:off x="3273120" y="556668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96000" y="2781360"/>
            <a:ext cx="3097080" cy="3240000"/>
          </a:xfrm>
          <a:custGeom>
            <a:avLst/>
            <a:gdLst>
              <a:gd name="textAreaLeft" fmla="*/ 151200 w 3097080"/>
              <a:gd name="textAreaRight" fmla="*/ 2945880 w 3097080"/>
              <a:gd name="textAreaTop" fmla="*/ 151200 h 3240000"/>
              <a:gd name="textAreaBottom" fmla="*/ 3088800 h 3240000"/>
            </a:gdLst>
            <a:ahLst/>
            <a:rect l="textAreaLeft" t="textAreaTop" r="textAreaRight" b="textAreaBottom"/>
            <a:pathLst>
              <a:path w="21600" h="22597">
                <a:moveTo>
                  <a:pt x="3600" y="0"/>
                </a:moveTo>
                <a:arcTo wR="3600" hR="3600" stAng="16200000" swAng="-5400000"/>
                <a:lnTo>
                  <a:pt x="0" y="18997"/>
                </a:lnTo>
                <a:arcTo wR="3600" hR="3600" stAng="10800000" swAng="-5400000"/>
                <a:lnTo>
                  <a:pt x="18000" y="22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 сосуд, содержащий 5 литров 12 процен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одного раствора некоторого вещества, доба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7 литров воды. Сколько процентов со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концентрация получившегося раств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12000" y="3716280"/>
                <a:ext cx="280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12000" y="4292640"/>
                <a:ext cx="2555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084720" y="530064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твет: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0920" y="2781360"/>
            <a:ext cx="5472000" cy="2520720"/>
            <a:chOff x="250920" y="2781360"/>
            <a:chExt cx="5472000" cy="2520720"/>
          </a:xfrm>
        </p:grpSpPr>
        <p:sp>
          <p:nvSpPr>
            <p:cNvPr id="111" name=""/>
            <p:cNvSpPr/>
            <p:nvPr/>
          </p:nvSpPr>
          <p:spPr>
            <a:xfrm>
              <a:off x="250920" y="2781360"/>
              <a:ext cx="5472000" cy="25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5000" y="2781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спосо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48160" y="3789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2520" y="3789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28800" y="4797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13240" y="4797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39800" y="3213000"/>
              <a:ext cx="1143000" cy="1645920"/>
              <a:chOff x="739800" y="3213000"/>
              <a:chExt cx="1143000" cy="164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739800" y="3213000"/>
                <a:ext cx="1143000" cy="164592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52400" y="4600440"/>
                <a:ext cx="1119240" cy="1252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17640" y="3213000"/>
                <a:ext cx="753840" cy="1634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9800" y="4005000"/>
                <a:ext cx="1143000" cy="28728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41240" y="4130280"/>
                <a:ext cx="1120680" cy="1558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41240" y="4006440"/>
                <a:ext cx="1120680" cy="14292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9800" y="3646080"/>
                <a:ext cx="1123920" cy="2876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41240" y="3768480"/>
                <a:ext cx="1108080" cy="1587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1240" y="3647880"/>
                <a:ext cx="1104840" cy="14292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12720" y="378936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960720" y="2924280"/>
              <a:ext cx="1439640" cy="1934640"/>
              <a:chOff x="3960720" y="2924280"/>
              <a:chExt cx="1439640" cy="1934640"/>
            </a:xfrm>
          </p:grpSpPr>
          <p:sp>
            <p:nvSpPr>
              <p:cNvPr id="129" name=""/>
              <p:cNvSpPr/>
              <p:nvPr/>
            </p:nvSpPr>
            <p:spPr>
              <a:xfrm>
                <a:off x="3960720" y="2924280"/>
                <a:ext cx="1439640" cy="193464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76560" y="4555080"/>
                <a:ext cx="1409760" cy="14724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84640" y="2924280"/>
                <a:ext cx="949320" cy="19188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60720" y="3855240"/>
                <a:ext cx="1439640" cy="33768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62520" y="4002480"/>
                <a:ext cx="1411560" cy="1832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62520" y="3857040"/>
                <a:ext cx="1411560" cy="1677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60720" y="3433320"/>
                <a:ext cx="1415520" cy="3380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62520" y="3576960"/>
                <a:ext cx="1395720" cy="1864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62520" y="3435480"/>
                <a:ext cx="1391760" cy="1677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367000" y="3213000"/>
              <a:ext cx="1143000" cy="1646280"/>
              <a:chOff x="2367000" y="3213000"/>
              <a:chExt cx="1143000" cy="164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367000" y="3213000"/>
                <a:ext cx="1143000" cy="164628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79600" y="4600800"/>
                <a:ext cx="1119240" cy="1252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44840" y="3213000"/>
                <a:ext cx="754200" cy="1638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67000" y="3646440"/>
                <a:ext cx="1123920" cy="28728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368440" y="3768840"/>
                <a:ext cx="1108080" cy="1587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68440" y="3648240"/>
                <a:ext cx="1105200" cy="14292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584440" y="400536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58920" y="3789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0,6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64500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0,6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156360" y="2997360"/>
                <a:ext cx="2376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286520" y="486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76360" y="2781360"/>
            <a:ext cx="5761080" cy="3311640"/>
            <a:chOff x="1476360" y="2781360"/>
            <a:chExt cx="5761080" cy="3311640"/>
          </a:xfrm>
        </p:grpSpPr>
        <p:sp>
          <p:nvSpPr>
            <p:cNvPr id="151" name=""/>
            <p:cNvSpPr/>
            <p:nvPr/>
          </p:nvSpPr>
          <p:spPr>
            <a:xfrm>
              <a:off x="1476360" y="2781360"/>
              <a:ext cx="5761080" cy="331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5440" y="284724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спосо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843280" y="3141720"/>
                <a:ext cx="28447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95640" y="4292640"/>
                <a:ext cx="49323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059280" y="54450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твет: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0920" y="2565360"/>
            <a:ext cx="8641800" cy="3527640"/>
            <a:chOff x="250920" y="2565360"/>
            <a:chExt cx="8641800" cy="3527640"/>
          </a:xfrm>
        </p:grpSpPr>
        <p:sp>
          <p:nvSpPr>
            <p:cNvPr id="157" name=""/>
            <p:cNvSpPr/>
            <p:nvPr/>
          </p:nvSpPr>
          <p:spPr>
            <a:xfrm>
              <a:off x="250920" y="2565360"/>
              <a:ext cx="8641800" cy="352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71040" y="2635200"/>
              <a:ext cx="20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спосо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68360" y="306864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ъем раствора увеличился в 2,4 р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было 5 л., стало 12 л. 12:5 = 2,4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держание вещества не изменилось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центная концентрация получивш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створа уменьшилась в 2,4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2:2,4=5(%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551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твет: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333360"/>
            <a:ext cx="8496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колько литров воды нужно добавить в 2 л вод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раствора, содержащего 60% кислоты, чт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получить 20 процентный раствор кисло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637000"/>
            <a:ext cx="8642160" cy="32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270828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ъем чистой кислоты в растворе не меня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центное содержание кислоты в раств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еньшится в 3 раза (60:20=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005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ъем раствора увеличится в 3раза: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=6(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4508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6 – 2 = 4 (л) воды нужно доб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5157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0920" y="333360"/>
            <a:ext cx="864072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мешали 4 литра 15 процентного водного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 6 литрами 25 процентного водного раств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этого же вещества. Сколько процентов со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концентрация получившегося раств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270828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43280" y="2781360"/>
                <a:ext cx="28447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92360" y="4076640"/>
                <a:ext cx="55814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348000" y="551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24000" y="2708280"/>
            <a:ext cx="5184720" cy="3384720"/>
            <a:chOff x="324000" y="2708280"/>
            <a:chExt cx="5184720" cy="3384720"/>
          </a:xfrm>
        </p:grpSpPr>
        <p:sp>
          <p:nvSpPr>
            <p:cNvPr id="177" name=""/>
            <p:cNvSpPr/>
            <p:nvPr/>
          </p:nvSpPr>
          <p:spPr>
            <a:xfrm>
              <a:off x="324000" y="2708280"/>
              <a:ext cx="5184720" cy="338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68360" y="3645000"/>
              <a:ext cx="1150560" cy="1645920"/>
              <a:chOff x="468360" y="3645000"/>
              <a:chExt cx="1150560" cy="1645920"/>
            </a:xfrm>
          </p:grpSpPr>
          <p:sp>
            <p:nvSpPr>
              <p:cNvPr id="179" name=""/>
              <p:cNvSpPr/>
              <p:nvPr/>
            </p:nvSpPr>
            <p:spPr>
              <a:xfrm>
                <a:off x="468360" y="3645000"/>
                <a:ext cx="1150560" cy="164592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0960" y="5032440"/>
                <a:ext cx="1126800" cy="1252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7280" y="3645000"/>
                <a:ext cx="758880" cy="1634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8360" y="4437000"/>
                <a:ext cx="1150560" cy="28728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9800" y="4562280"/>
                <a:ext cx="1128240" cy="1558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9800" y="4438440"/>
                <a:ext cx="1128240" cy="14292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8360" y="4078080"/>
                <a:ext cx="1131480" cy="2876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9800" y="4200480"/>
                <a:ext cx="1115640" cy="1587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9800" y="4079880"/>
                <a:ext cx="1112400" cy="14292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050920" y="3429000"/>
              <a:ext cx="1225440" cy="1861920"/>
              <a:chOff x="2050920" y="3429000"/>
              <a:chExt cx="1225440" cy="1861920"/>
            </a:xfrm>
          </p:grpSpPr>
          <p:sp>
            <p:nvSpPr>
              <p:cNvPr id="189" name=""/>
              <p:cNvSpPr/>
              <p:nvPr/>
            </p:nvSpPr>
            <p:spPr>
              <a:xfrm>
                <a:off x="2050920" y="3429000"/>
                <a:ext cx="1225440" cy="186192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64240" y="4998600"/>
                <a:ext cx="1200240" cy="1414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41360" y="3429000"/>
                <a:ext cx="808200" cy="18468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0920" y="4325040"/>
                <a:ext cx="1225440" cy="32472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052360" y="4466520"/>
                <a:ext cx="1201680" cy="1760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052360" y="4326480"/>
                <a:ext cx="1201680" cy="1616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50920" y="3918960"/>
                <a:ext cx="1205280" cy="325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52360" y="4057200"/>
                <a:ext cx="1188000" cy="1792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52360" y="3920760"/>
                <a:ext cx="1184760" cy="161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620720" y="414972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5080" y="414972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635280" y="3068640"/>
              <a:ext cx="1584000" cy="2293560"/>
              <a:chOff x="3635280" y="3068640"/>
              <a:chExt cx="1584000" cy="2293560"/>
            </a:xfrm>
          </p:grpSpPr>
          <p:sp>
            <p:nvSpPr>
              <p:cNvPr id="201" name=""/>
              <p:cNvSpPr/>
              <p:nvPr/>
            </p:nvSpPr>
            <p:spPr>
              <a:xfrm>
                <a:off x="3635280" y="3068640"/>
                <a:ext cx="1584000" cy="229356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52560" y="5001840"/>
                <a:ext cx="1551240" cy="17424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81520" y="3068640"/>
                <a:ext cx="1044720" cy="22752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35280" y="4172040"/>
                <a:ext cx="1584000" cy="40032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37080" y="4346640"/>
                <a:ext cx="1553040" cy="2170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37080" y="4174200"/>
                <a:ext cx="1553040" cy="19908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35280" y="3672000"/>
                <a:ext cx="1557720" cy="40068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37080" y="3842640"/>
                <a:ext cx="1535760" cy="22104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37080" y="3674520"/>
                <a:ext cx="1531080" cy="1990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2268360" y="5229360"/>
              <a:ext cx="6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6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4360" y="522936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4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5280" y="422100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79640" y="414972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971640" y="422100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6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56000" y="4149720"/>
            <a:ext cx="8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,5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4005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1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75480" y="4818240"/>
            <a:ext cx="239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708280"/>
            <a:ext cx="3205080" cy="3384720"/>
          </a:xfrm>
          <a:custGeom>
            <a:avLst/>
            <a:gdLst>
              <a:gd name="textAreaLeft" fmla="*/ 156240 w 3205080"/>
              <a:gd name="textAreaRight" fmla="*/ 3048840 w 3205080"/>
              <a:gd name="textAreaTop" fmla="*/ 156240 h 3384720"/>
              <a:gd name="textAreaBottom" fmla="*/ 3228480 h 3384720"/>
            </a:gdLst>
            <a:ahLst/>
            <a:rect l="textAreaLeft" t="textAreaTop" r="textAreaRight" b="textAreaBottom"/>
            <a:pathLst>
              <a:path w="21600" h="22811">
                <a:moveTo>
                  <a:pt x="3600" y="0"/>
                </a:moveTo>
                <a:arcTo wR="3600" hR="3600" stAng="16200000" swAng="-5400000"/>
                <a:lnTo>
                  <a:pt x="0" y="19211"/>
                </a:lnTo>
                <a:arcTo wR="3600" hR="3600" stAng="10800000" swAng="-5400000"/>
                <a:lnTo>
                  <a:pt x="18000" y="228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084720" y="2708280"/>
                <a:ext cx="2046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156360" y="5589720"/>
                <a:ext cx="2119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924360" y="5373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0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940360" y="3141720"/>
                <a:ext cx="24494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940360" y="3645000"/>
                <a:ext cx="2376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1,5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940360" y="4149720"/>
                <a:ext cx="2521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6</m:t>
                    </m:r>
                    <m:r>
                      <m:t xml:space="preserve">+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t xml:space="preserve">2,1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12000" y="4581360"/>
                <a:ext cx="2305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4000" y="333360"/>
            <a:ext cx="8497800" cy="21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лажность сухой цементной смеси на скла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оставляет 18%. Во время перевозки из-за дож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лажность смеси повысилась на 2%. Найд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массу привезенной смеси, если со склада б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отправлено 400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2997360"/>
            <a:ext cx="4464000" cy="31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643280" y="3213000"/>
                <a:ext cx="4016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од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716360" y="3645000"/>
                <a:ext cx="3843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це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716360" y="4149720"/>
                <a:ext cx="3813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8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1" name=""/>
          <p:cNvGrpSpPr/>
          <p:nvPr/>
        </p:nvGrpSpPr>
        <p:grpSpPr>
          <a:xfrm>
            <a:off x="4643280" y="4653000"/>
            <a:ext cx="4149720" cy="851040"/>
            <a:chOff x="4643280" y="4653000"/>
            <a:chExt cx="4149720" cy="851040"/>
          </a:xfrm>
        </p:grpSpPr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4643280" y="4653000"/>
                  <a:ext cx="414972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28</m:t>
                      </m:r>
                      <m:r>
                        <m:t xml:space="preserve">:</m:t>
                      </m:r>
                      <m:r>
                        <m:t xml:space="preserve">0,8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10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масс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64360" y="5085000"/>
                  <a:ext cx="103824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мес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14560" y="5013360"/>
                  <a:ext cx="244800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роивезенной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292720" y="5516640"/>
                <a:ext cx="2592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95280" y="2997360"/>
            <a:ext cx="3816360" cy="3095640"/>
            <a:chOff x="395280" y="2997360"/>
            <a:chExt cx="3816360" cy="3095640"/>
          </a:xfrm>
        </p:grpSpPr>
        <p:grpSp>
          <p:nvGrpSpPr>
            <p:cNvPr id="238" name=""/>
            <p:cNvGrpSpPr/>
            <p:nvPr/>
          </p:nvGrpSpPr>
          <p:grpSpPr>
            <a:xfrm>
              <a:off x="395280" y="2997360"/>
              <a:ext cx="3816360" cy="3095640"/>
              <a:chOff x="395280" y="2997360"/>
              <a:chExt cx="3816360" cy="30956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395280" y="2997360"/>
                <a:ext cx="3816360" cy="3095640"/>
                <a:chOff x="395280" y="2997360"/>
                <a:chExt cx="3816360" cy="309564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395280" y="2997360"/>
                  <a:ext cx="3816360" cy="3095640"/>
                  <a:chOff x="395280" y="2997360"/>
                  <a:chExt cx="3816360" cy="30956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395280" y="2997360"/>
                    <a:ext cx="3816360" cy="3095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3816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606600" y="3573360"/>
                    <a:ext cx="1584360" cy="1958760"/>
                    <a:chOff x="606600" y="3573360"/>
                    <a:chExt cx="1584360" cy="195876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06600" y="3573360"/>
                      <a:ext cx="1584360" cy="19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3" h="1234">
                          <a:moveTo>
                            <a:pt x="27" y="53"/>
                          </a:moveTo>
                          <a:cubicBezTo>
                            <a:pt x="11" y="67"/>
                            <a:pt x="41" y="100"/>
                            <a:pt x="52" y="130"/>
                          </a:cubicBezTo>
                          <a:cubicBezTo>
                            <a:pt x="63" y="160"/>
                            <a:pt x="85" y="197"/>
                            <a:pt x="96" y="234"/>
                          </a:cubicBezTo>
                          <a:cubicBezTo>
                            <a:pt x="107" y="271"/>
                            <a:pt x="111" y="276"/>
                            <a:pt x="116" y="350"/>
                          </a:cubicBezTo>
                          <a:cubicBezTo>
                            <a:pt x="121" y="424"/>
                            <a:pt x="128" y="574"/>
                            <a:pt x="124" y="678"/>
                          </a:cubicBezTo>
                          <a:cubicBezTo>
                            <a:pt x="120" y="782"/>
                            <a:pt x="103" y="905"/>
                            <a:pt x="94" y="973"/>
                          </a:cubicBezTo>
                          <a:cubicBezTo>
                            <a:pt x="85" y="1041"/>
                            <a:pt x="85" y="1052"/>
                            <a:pt x="72" y="1086"/>
                          </a:cubicBezTo>
                          <a:cubicBezTo>
                            <a:pt x="59" y="1120"/>
                            <a:pt x="0" y="1161"/>
                            <a:pt x="16" y="1178"/>
                          </a:cubicBezTo>
                          <a:cubicBezTo>
                            <a:pt x="32" y="1195"/>
                            <a:pt x="111" y="1182"/>
                            <a:pt x="171" y="1190"/>
                          </a:cubicBezTo>
                          <a:cubicBezTo>
                            <a:pt x="231" y="1198"/>
                            <a:pt x="298" y="1223"/>
                            <a:pt x="376" y="1229"/>
                          </a:cubicBezTo>
                          <a:cubicBezTo>
                            <a:pt x="455" y="1234"/>
                            <a:pt x="572" y="1233"/>
                            <a:pt x="640" y="1222"/>
                          </a:cubicBezTo>
                          <a:cubicBezTo>
                            <a:pt x="709" y="1212"/>
                            <a:pt x="756" y="1184"/>
                            <a:pt x="788" y="1167"/>
                          </a:cubicBezTo>
                          <a:cubicBezTo>
                            <a:pt x="820" y="1150"/>
                            <a:pt x="824" y="1133"/>
                            <a:pt x="832" y="1118"/>
                          </a:cubicBezTo>
                          <a:cubicBezTo>
                            <a:pt x="840" y="1103"/>
                            <a:pt x="841" y="1103"/>
                            <a:pt x="837" y="1074"/>
                          </a:cubicBezTo>
                          <a:cubicBezTo>
                            <a:pt x="833" y="1045"/>
                            <a:pt x="816" y="1008"/>
                            <a:pt x="808" y="942"/>
                          </a:cubicBezTo>
                          <a:cubicBezTo>
                            <a:pt x="800" y="876"/>
                            <a:pt x="788" y="776"/>
                            <a:pt x="788" y="678"/>
                          </a:cubicBezTo>
                          <a:cubicBezTo>
                            <a:pt x="788" y="580"/>
                            <a:pt x="802" y="432"/>
                            <a:pt x="811" y="356"/>
                          </a:cubicBezTo>
                          <a:cubicBezTo>
                            <a:pt x="819" y="279"/>
                            <a:pt x="821" y="273"/>
                            <a:pt x="837" y="219"/>
                          </a:cubicBezTo>
                          <a:cubicBezTo>
                            <a:pt x="853" y="165"/>
                            <a:pt x="913" y="58"/>
                            <a:pt x="907" y="29"/>
                          </a:cubicBezTo>
                          <a:cubicBezTo>
                            <a:pt x="901" y="0"/>
                            <a:pt x="846" y="38"/>
                            <a:pt x="803" y="45"/>
                          </a:cubicBezTo>
                          <a:cubicBezTo>
                            <a:pt x="760" y="52"/>
                            <a:pt x="708" y="66"/>
                            <a:pt x="647" y="73"/>
                          </a:cubicBezTo>
                          <a:cubicBezTo>
                            <a:pt x="586" y="80"/>
                            <a:pt x="494" y="84"/>
                            <a:pt x="435" y="85"/>
                          </a:cubicBezTo>
                          <a:cubicBezTo>
                            <a:pt x="376" y="86"/>
                            <a:pt x="339" y="80"/>
                            <a:pt x="291" y="77"/>
                          </a:cubicBezTo>
                          <a:cubicBezTo>
                            <a:pt x="243" y="74"/>
                            <a:pt x="191" y="69"/>
                            <a:pt x="147" y="65"/>
                          </a:cubicBezTo>
                          <a:cubicBezTo>
                            <a:pt x="103" y="61"/>
                            <a:pt x="52" y="55"/>
                            <a:pt x="27" y="5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751320" y="3884400"/>
                      <a:ext cx="13096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5" h="51">
                          <a:moveTo>
                            <a:pt x="0" y="0"/>
                          </a:moveTo>
                          <a:cubicBezTo>
                            <a:pt x="21" y="4"/>
                            <a:pt x="83" y="14"/>
                            <a:pt x="129" y="22"/>
                          </a:cubicBezTo>
                          <a:cubicBezTo>
                            <a:pt x="175" y="30"/>
                            <a:pt x="228" y="41"/>
                            <a:pt x="278" y="46"/>
                          </a:cubicBezTo>
                          <a:cubicBezTo>
                            <a:pt x="329" y="51"/>
                            <a:pt x="380" y="51"/>
                            <a:pt x="431" y="50"/>
                          </a:cubicBezTo>
                          <a:cubicBezTo>
                            <a:pt x="483" y="49"/>
                            <a:pt x="535" y="43"/>
                            <a:pt x="584" y="38"/>
                          </a:cubicBezTo>
                          <a:cubicBezTo>
                            <a:pt x="634" y="33"/>
                            <a:pt x="689" y="28"/>
                            <a:pt x="729" y="22"/>
                          </a:cubicBezTo>
                          <a:cubicBezTo>
                            <a:pt x="769" y="16"/>
                            <a:pt x="805" y="7"/>
                            <a:pt x="825" y="3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714600" y="5314680"/>
                      <a:ext cx="1461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83">
                          <a:moveTo>
                            <a:pt x="0" y="0"/>
                          </a:moveTo>
                          <a:cubicBezTo>
                            <a:pt x="5" y="7"/>
                            <a:pt x="20" y="26"/>
                            <a:pt x="35" y="40"/>
                          </a:cubicBezTo>
                          <a:cubicBezTo>
                            <a:pt x="50" y="54"/>
                            <a:pt x="80" y="74"/>
                            <a:pt x="92" y="83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6440" y="3873240"/>
                      <a:ext cx="73080" cy="3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192">
                          <a:moveTo>
                            <a:pt x="42" y="0"/>
                          </a:moveTo>
                          <a:cubicBezTo>
                            <a:pt x="37" y="6"/>
                            <a:pt x="21" y="18"/>
                            <a:pt x="14" y="36"/>
                          </a:cubicBezTo>
                          <a:cubicBezTo>
                            <a:pt x="7" y="54"/>
                            <a:pt x="4" y="82"/>
                            <a:pt x="2" y="108"/>
                          </a:cubicBezTo>
                          <a:cubicBezTo>
                            <a:pt x="0" y="134"/>
                            <a:pt x="2" y="175"/>
                            <a:pt x="2" y="192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059200" y="3882960"/>
                      <a:ext cx="8280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36">
                          <a:moveTo>
                            <a:pt x="0" y="0"/>
                          </a:moveTo>
                          <a:cubicBezTo>
                            <a:pt x="5" y="5"/>
                            <a:pt x="25" y="15"/>
                            <a:pt x="33" y="30"/>
                          </a:cubicBezTo>
                          <a:cubicBezTo>
                            <a:pt x="41" y="45"/>
                            <a:pt x="44" y="72"/>
                            <a:pt x="46" y="90"/>
                          </a:cubicBezTo>
                          <a:cubicBezTo>
                            <a:pt x="48" y="108"/>
                            <a:pt x="46" y="128"/>
                            <a:pt x="46" y="136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822600" y="4416120"/>
                      <a:ext cx="11509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63">
                          <a:moveTo>
                            <a:pt x="0" y="20"/>
                          </a:moveTo>
                          <a:cubicBezTo>
                            <a:pt x="20" y="25"/>
                            <a:pt x="71" y="43"/>
                            <a:pt x="114" y="50"/>
                          </a:cubicBezTo>
                          <a:cubicBezTo>
                            <a:pt x="157" y="57"/>
                            <a:pt x="205" y="61"/>
                            <a:pt x="258" y="62"/>
                          </a:cubicBezTo>
                          <a:cubicBezTo>
                            <a:pt x="311" y="63"/>
                            <a:pt x="382" y="63"/>
                            <a:pt x="435" y="58"/>
                          </a:cubicBezTo>
                          <a:cubicBezTo>
                            <a:pt x="488" y="53"/>
                            <a:pt x="540" y="44"/>
                            <a:pt x="578" y="34"/>
                          </a:cubicBezTo>
                          <a:cubicBezTo>
                            <a:pt x="616" y="24"/>
                            <a:pt x="646" y="7"/>
                            <a:pt x="664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482920" y="3573360"/>
                  <a:ext cx="1584360" cy="1958760"/>
                  <a:chOff x="2482920" y="3573360"/>
                  <a:chExt cx="1584360" cy="1958760"/>
                </a:xfrm>
              </p:grpSpPr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2482920" y="3573360"/>
                    <a:ext cx="1584360" cy="1958760"/>
                    <a:chOff x="2482920" y="3573360"/>
                    <a:chExt cx="1584360" cy="19587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482920" y="3573360"/>
                      <a:ext cx="1584360" cy="19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3" h="1234">
                          <a:moveTo>
                            <a:pt x="27" y="53"/>
                          </a:moveTo>
                          <a:cubicBezTo>
                            <a:pt x="11" y="67"/>
                            <a:pt x="41" y="100"/>
                            <a:pt x="52" y="130"/>
                          </a:cubicBezTo>
                          <a:cubicBezTo>
                            <a:pt x="63" y="160"/>
                            <a:pt x="85" y="197"/>
                            <a:pt x="96" y="234"/>
                          </a:cubicBezTo>
                          <a:cubicBezTo>
                            <a:pt x="107" y="271"/>
                            <a:pt x="111" y="276"/>
                            <a:pt x="116" y="350"/>
                          </a:cubicBezTo>
                          <a:cubicBezTo>
                            <a:pt x="121" y="424"/>
                            <a:pt x="128" y="574"/>
                            <a:pt x="124" y="678"/>
                          </a:cubicBezTo>
                          <a:cubicBezTo>
                            <a:pt x="120" y="782"/>
                            <a:pt x="103" y="905"/>
                            <a:pt x="94" y="973"/>
                          </a:cubicBezTo>
                          <a:cubicBezTo>
                            <a:pt x="85" y="1041"/>
                            <a:pt x="85" y="1052"/>
                            <a:pt x="72" y="1086"/>
                          </a:cubicBezTo>
                          <a:cubicBezTo>
                            <a:pt x="59" y="1120"/>
                            <a:pt x="0" y="1161"/>
                            <a:pt x="16" y="1178"/>
                          </a:cubicBezTo>
                          <a:cubicBezTo>
                            <a:pt x="32" y="1195"/>
                            <a:pt x="111" y="1182"/>
                            <a:pt x="171" y="1190"/>
                          </a:cubicBezTo>
                          <a:cubicBezTo>
                            <a:pt x="231" y="1198"/>
                            <a:pt x="298" y="1223"/>
                            <a:pt x="376" y="1229"/>
                          </a:cubicBezTo>
                          <a:cubicBezTo>
                            <a:pt x="455" y="1234"/>
                            <a:pt x="572" y="1233"/>
                            <a:pt x="640" y="1222"/>
                          </a:cubicBezTo>
                          <a:cubicBezTo>
                            <a:pt x="709" y="1212"/>
                            <a:pt x="756" y="1184"/>
                            <a:pt x="788" y="1167"/>
                          </a:cubicBezTo>
                          <a:cubicBezTo>
                            <a:pt x="820" y="1150"/>
                            <a:pt x="824" y="1133"/>
                            <a:pt x="832" y="1118"/>
                          </a:cubicBezTo>
                          <a:cubicBezTo>
                            <a:pt x="840" y="1103"/>
                            <a:pt x="841" y="1103"/>
                            <a:pt x="837" y="1074"/>
                          </a:cubicBezTo>
                          <a:cubicBezTo>
                            <a:pt x="833" y="1045"/>
                            <a:pt x="816" y="1008"/>
                            <a:pt x="808" y="942"/>
                          </a:cubicBezTo>
                          <a:cubicBezTo>
                            <a:pt x="800" y="876"/>
                            <a:pt x="788" y="776"/>
                            <a:pt x="788" y="678"/>
                          </a:cubicBezTo>
                          <a:cubicBezTo>
                            <a:pt x="788" y="580"/>
                            <a:pt x="802" y="432"/>
                            <a:pt x="811" y="356"/>
                          </a:cubicBezTo>
                          <a:cubicBezTo>
                            <a:pt x="819" y="279"/>
                            <a:pt x="821" y="273"/>
                            <a:pt x="837" y="219"/>
                          </a:cubicBezTo>
                          <a:cubicBezTo>
                            <a:pt x="853" y="165"/>
                            <a:pt x="913" y="58"/>
                            <a:pt x="907" y="29"/>
                          </a:cubicBezTo>
                          <a:cubicBezTo>
                            <a:pt x="901" y="0"/>
                            <a:pt x="846" y="38"/>
                            <a:pt x="803" y="45"/>
                          </a:cubicBezTo>
                          <a:cubicBezTo>
                            <a:pt x="760" y="52"/>
                            <a:pt x="708" y="66"/>
                            <a:pt x="647" y="73"/>
                          </a:cubicBezTo>
                          <a:cubicBezTo>
                            <a:pt x="586" y="80"/>
                            <a:pt x="494" y="84"/>
                            <a:pt x="435" y="85"/>
                          </a:cubicBezTo>
                          <a:cubicBezTo>
                            <a:pt x="376" y="86"/>
                            <a:pt x="339" y="80"/>
                            <a:pt x="291" y="77"/>
                          </a:cubicBezTo>
                          <a:cubicBezTo>
                            <a:pt x="243" y="74"/>
                            <a:pt x="191" y="69"/>
                            <a:pt x="147" y="65"/>
                          </a:cubicBezTo>
                          <a:cubicBezTo>
                            <a:pt x="103" y="61"/>
                            <a:pt x="52" y="55"/>
                            <a:pt x="27" y="5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632320" y="3875040"/>
                      <a:ext cx="130500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2" h="57">
                          <a:moveTo>
                            <a:pt x="0" y="0"/>
                          </a:moveTo>
                          <a:cubicBezTo>
                            <a:pt x="19" y="5"/>
                            <a:pt x="68" y="19"/>
                            <a:pt x="111" y="28"/>
                          </a:cubicBezTo>
                          <a:cubicBezTo>
                            <a:pt x="154" y="37"/>
                            <a:pt x="210" y="47"/>
                            <a:pt x="260" y="52"/>
                          </a:cubicBezTo>
                          <a:cubicBezTo>
                            <a:pt x="311" y="57"/>
                            <a:pt x="362" y="57"/>
                            <a:pt x="413" y="56"/>
                          </a:cubicBezTo>
                          <a:cubicBezTo>
                            <a:pt x="465" y="55"/>
                            <a:pt x="517" y="49"/>
                            <a:pt x="566" y="44"/>
                          </a:cubicBezTo>
                          <a:cubicBezTo>
                            <a:pt x="616" y="39"/>
                            <a:pt x="668" y="33"/>
                            <a:pt x="711" y="28"/>
                          </a:cubicBezTo>
                          <a:cubicBezTo>
                            <a:pt x="754" y="23"/>
                            <a:pt x="799" y="18"/>
                            <a:pt x="822" y="15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584440" y="5332320"/>
                      <a:ext cx="127080" cy="11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75">
                          <a:moveTo>
                            <a:pt x="0" y="0"/>
                          </a:moveTo>
                          <a:cubicBezTo>
                            <a:pt x="4" y="5"/>
                            <a:pt x="11" y="17"/>
                            <a:pt x="24" y="29"/>
                          </a:cubicBezTo>
                          <a:cubicBezTo>
                            <a:pt x="37" y="41"/>
                            <a:pt x="68" y="66"/>
                            <a:pt x="80" y="75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2529000" y="3875040"/>
                      <a:ext cx="8892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91">
                          <a:moveTo>
                            <a:pt x="56" y="0"/>
                          </a:moveTo>
                          <a:cubicBezTo>
                            <a:pt x="51" y="6"/>
                            <a:pt x="24" y="17"/>
                            <a:pt x="15" y="35"/>
                          </a:cubicBezTo>
                          <a:cubicBezTo>
                            <a:pt x="6" y="53"/>
                            <a:pt x="4" y="81"/>
                            <a:pt x="2" y="107"/>
                          </a:cubicBezTo>
                          <a:cubicBezTo>
                            <a:pt x="0" y="133"/>
                            <a:pt x="2" y="174"/>
                            <a:pt x="2" y="191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937320" y="3893760"/>
                      <a:ext cx="56880" cy="20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29">
                          <a:moveTo>
                            <a:pt x="0" y="0"/>
                          </a:moveTo>
                          <a:cubicBezTo>
                            <a:pt x="3" y="4"/>
                            <a:pt x="14" y="9"/>
                            <a:pt x="20" y="23"/>
                          </a:cubicBezTo>
                          <a:cubicBezTo>
                            <a:pt x="26" y="37"/>
                            <a:pt x="32" y="65"/>
                            <a:pt x="34" y="83"/>
                          </a:cubicBezTo>
                          <a:cubicBezTo>
                            <a:pt x="36" y="101"/>
                            <a:pt x="34" y="121"/>
                            <a:pt x="34" y="129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6" name=""/>
                  <p:cNvSpPr/>
                  <p:nvPr/>
                </p:nvSpPr>
                <p:spPr>
                  <a:xfrm>
                    <a:off x="2698920" y="4365720"/>
                    <a:ext cx="11574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71">
                        <a:moveTo>
                          <a:pt x="0" y="30"/>
                        </a:moveTo>
                        <a:cubicBezTo>
                          <a:pt x="19" y="35"/>
                          <a:pt x="65" y="51"/>
                          <a:pt x="109" y="58"/>
                        </a:cubicBezTo>
                        <a:cubicBezTo>
                          <a:pt x="153" y="65"/>
                          <a:pt x="209" y="69"/>
                          <a:pt x="267" y="70"/>
                        </a:cubicBezTo>
                        <a:cubicBezTo>
                          <a:pt x="325" y="71"/>
                          <a:pt x="402" y="71"/>
                          <a:pt x="460" y="66"/>
                        </a:cubicBezTo>
                        <a:cubicBezTo>
                          <a:pt x="518" y="61"/>
                          <a:pt x="571" y="53"/>
                          <a:pt x="616" y="42"/>
                        </a:cubicBezTo>
                        <a:cubicBezTo>
                          <a:pt x="661" y="31"/>
                          <a:pt x="705" y="9"/>
                          <a:pt x="729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7" name=""/>
              <p:cNvSpPr/>
              <p:nvPr/>
            </p:nvSpPr>
            <p:spPr>
              <a:xfrm>
                <a:off x="3059280" y="5430960"/>
                <a:ext cx="36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973080" y="3213360"/>
                <a:ext cx="89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Был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01800" y="3213360"/>
                <a:ext cx="108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Стал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900000" y="5589720"/>
                <a:ext cx="100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400кг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82560" y="40068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18%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11320" y="4005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20%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771640" y="450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80%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47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328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00360" y="486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328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72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4" action="ppaction://hlinksldjump"/>
          </p:cNvPr>
          <p:cNvSpPr/>
          <p:nvPr/>
        </p:nvSpPr>
        <p:spPr>
          <a:xfrm>
            <a:off x="8388360" y="6093000"/>
            <a:ext cx="574560" cy="576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3794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71640" y="371628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7640" y="501336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Ц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43280" y="371628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27640" y="50846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Ц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260280"/>
            <a:ext cx="84265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колько надо взять 5 процентног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25 процентного раствора кислоты, чт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получить 4 л 10 процентного  раствора кислот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1989000"/>
            <a:ext cx="8424720" cy="410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4360" y="2276640"/>
            <a:ext cx="1079280" cy="1439640"/>
            <a:chOff x="684360" y="2276640"/>
            <a:chExt cx="1079280" cy="1439640"/>
          </a:xfrm>
        </p:grpSpPr>
        <p:grpSp>
          <p:nvGrpSpPr>
            <p:cNvPr id="277" name=""/>
            <p:cNvGrpSpPr/>
            <p:nvPr/>
          </p:nvGrpSpPr>
          <p:grpSpPr>
            <a:xfrm>
              <a:off x="768240" y="2276640"/>
              <a:ext cx="995400" cy="1439640"/>
              <a:chOff x="768240" y="2276640"/>
              <a:chExt cx="995400" cy="1439640"/>
            </a:xfrm>
          </p:grpSpPr>
          <p:sp>
            <p:nvSpPr>
              <p:cNvPr id="278" name=""/>
              <p:cNvSpPr/>
              <p:nvPr/>
            </p:nvSpPr>
            <p:spPr>
              <a:xfrm>
                <a:off x="768240" y="2276640"/>
                <a:ext cx="992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920" y="3495600"/>
                <a:ext cx="96336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925560" y="2276640"/>
                <a:ext cx="67032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8240" y="3296160"/>
                <a:ext cx="99540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8240" y="3175920"/>
                <a:ext cx="99540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240" y="2773080"/>
                <a:ext cx="98388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69320" y="2667240"/>
                <a:ext cx="9799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84360" y="2779560"/>
              <a:ext cx="91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780000" y="2060640"/>
            <a:ext cx="1150560" cy="1658880"/>
            <a:chOff x="3780000" y="2060640"/>
            <a:chExt cx="1150560" cy="1658880"/>
          </a:xfrm>
        </p:grpSpPr>
        <p:grpSp>
          <p:nvGrpSpPr>
            <p:cNvPr id="287" name=""/>
            <p:cNvGrpSpPr/>
            <p:nvPr/>
          </p:nvGrpSpPr>
          <p:grpSpPr>
            <a:xfrm>
              <a:off x="3780000" y="2060640"/>
              <a:ext cx="1150560" cy="1658880"/>
              <a:chOff x="3780000" y="2060640"/>
              <a:chExt cx="1150560" cy="16588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0000" y="2060640"/>
                <a:ext cx="1147320" cy="165888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95840" y="3465360"/>
                <a:ext cx="1113840" cy="1065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61800" y="2060640"/>
                <a:ext cx="775080" cy="1656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80000" y="3235320"/>
                <a:ext cx="1150560" cy="15840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0000" y="3097080"/>
                <a:ext cx="1150560" cy="142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780000" y="2632680"/>
                <a:ext cx="1137600" cy="1594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781440" y="2511000"/>
                <a:ext cx="1132920" cy="1443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780000" y="2421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763640" y="285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9800" y="28526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195640" y="2276640"/>
            <a:ext cx="1079280" cy="1439640"/>
            <a:chOff x="2195640" y="2276640"/>
            <a:chExt cx="1079280" cy="1439640"/>
          </a:xfrm>
        </p:grpSpPr>
        <p:grpSp>
          <p:nvGrpSpPr>
            <p:cNvPr id="299" name=""/>
            <p:cNvGrpSpPr/>
            <p:nvPr/>
          </p:nvGrpSpPr>
          <p:grpSpPr>
            <a:xfrm>
              <a:off x="2279520" y="2276640"/>
              <a:ext cx="995400" cy="1439640"/>
              <a:chOff x="2279520" y="2276640"/>
              <a:chExt cx="995400" cy="1439640"/>
            </a:xfrm>
          </p:grpSpPr>
          <p:sp>
            <p:nvSpPr>
              <p:cNvPr id="300" name=""/>
              <p:cNvSpPr/>
              <p:nvPr/>
            </p:nvSpPr>
            <p:spPr>
              <a:xfrm>
                <a:off x="2279520" y="2276640"/>
                <a:ext cx="992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93200" y="3495600"/>
                <a:ext cx="96336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36840" y="2276640"/>
                <a:ext cx="67032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79520" y="3296160"/>
                <a:ext cx="99540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79520" y="3175920"/>
                <a:ext cx="99540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79520" y="2773080"/>
                <a:ext cx="98388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0600" y="2667240"/>
                <a:ext cx="9799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2195640" y="2779560"/>
              <a:ext cx="91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97164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443700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2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4 - х) л – кислоты во втор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9564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364500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4-х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24360" y="26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4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3528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1-0,2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05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5092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25(4-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63640" y="443700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5 х ( л )– кислоты в пер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4437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0,4 л – кислоты в полученн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4437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05+0,25(4-х)=(1- 0,2х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 – кислоты в полученн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40000" y="400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уравнение 1 - 2х = 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429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63640" y="465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л – надо взять 5процентного раств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27280" y="5013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3 = 1(л) – 25 процен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48000" y="5516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1л; 3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500720" y="2852640"/>
            <a:ext cx="4392360" cy="324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6237360"/>
            <a:ext cx="1800000" cy="404640"/>
          </a:xfrm>
          <a:custGeom>
            <a:avLst/>
            <a:gdLst>
              <a:gd name="textAreaLeft" fmla="*/ 25920 w 1800000"/>
              <a:gd name="textAreaRight" fmla="*/ 1774080 w 18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6019" h="21600">
                <a:moveTo>
                  <a:pt x="0" y="0"/>
                </a:moveTo>
                <a:lnTo>
                  <a:pt x="96019" y="0"/>
                </a:lnTo>
                <a:lnTo>
                  <a:pt x="96019" y="21600"/>
                </a:lnTo>
                <a:lnTo>
                  <a:pt x="0" y="21600"/>
                </a:lnTo>
                <a:close/>
              </a:path>
              <a:path fill="lightenLess" w="96019" h="21600">
                <a:moveTo>
                  <a:pt x="0" y="0"/>
                </a:moveTo>
                <a:lnTo>
                  <a:pt x="96019" y="0"/>
                </a:lnTo>
                <a:lnTo>
                  <a:pt x="94619" y="1400"/>
                </a:lnTo>
                <a:lnTo>
                  <a:pt x="1400" y="1400"/>
                </a:lnTo>
                <a:close/>
              </a:path>
              <a:path fill="darken" w="96019" h="21600">
                <a:moveTo>
                  <a:pt x="96019" y="0"/>
                </a:moveTo>
                <a:lnTo>
                  <a:pt x="96019" y="21600"/>
                </a:lnTo>
                <a:lnTo>
                  <a:pt x="94619" y="20200"/>
                </a:lnTo>
                <a:lnTo>
                  <a:pt x="94619" y="1400"/>
                </a:lnTo>
                <a:close/>
              </a:path>
              <a:path fill="darkenLess" w="96019" h="21600">
                <a:moveTo>
                  <a:pt x="96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619" y="20200"/>
                </a:lnTo>
                <a:close/>
              </a:path>
              <a:path fill="lighten" w="96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260280"/>
            <a:ext cx="8713800" cy="252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В сосуд емкостью 6л налито 4л 70% раствора се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ислоты. Во второй сосуд той же емкости налито 3л 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раствора серной кислоты. Сколько литров раствора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ерелить из второго сосуда в первый, чтобы в нем получ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74% раствор серной кислоты? Найдите все допусти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значения процентного содержания раствора серной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в 6л раствора в первом сосу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2852640"/>
            <a:ext cx="4176720" cy="33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2000" y="37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57800" y="37162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640" y="4437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4365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19280" y="3141720"/>
            <a:ext cx="936360" cy="1439640"/>
            <a:chOff x="1619280" y="3141720"/>
            <a:chExt cx="936360" cy="1439640"/>
          </a:xfrm>
        </p:grpSpPr>
        <p:grpSp>
          <p:nvGrpSpPr>
            <p:cNvPr id="335" name=""/>
            <p:cNvGrpSpPr/>
            <p:nvPr/>
          </p:nvGrpSpPr>
          <p:grpSpPr>
            <a:xfrm>
              <a:off x="1692360" y="3141720"/>
              <a:ext cx="863280" cy="1439640"/>
              <a:chOff x="1692360" y="3141720"/>
              <a:chExt cx="863280" cy="1439640"/>
            </a:xfrm>
          </p:grpSpPr>
          <p:sp>
            <p:nvSpPr>
              <p:cNvPr id="336" name=""/>
              <p:cNvSpPr/>
              <p:nvPr/>
            </p:nvSpPr>
            <p:spPr>
              <a:xfrm>
                <a:off x="1698120" y="3141720"/>
                <a:ext cx="857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34560" y="3141720"/>
                <a:ext cx="57924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698120" y="4272120"/>
                <a:ext cx="85176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692360" y="3779280"/>
                <a:ext cx="85068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92360" y="3661920"/>
                <a:ext cx="84204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692360" y="3678840"/>
                <a:ext cx="84672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98120" y="4158720"/>
                <a:ext cx="85284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98120" y="4158720"/>
                <a:ext cx="84204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98120" y="4339440"/>
                <a:ext cx="83268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619280" y="3789360"/>
              <a:ext cx="8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916360" y="2924280"/>
            <a:ext cx="1150560" cy="1658880"/>
            <a:chOff x="2916360" y="2924280"/>
            <a:chExt cx="1150560" cy="1658880"/>
          </a:xfrm>
        </p:grpSpPr>
        <p:grpSp>
          <p:nvGrpSpPr>
            <p:cNvPr id="347" name=""/>
            <p:cNvGrpSpPr/>
            <p:nvPr/>
          </p:nvGrpSpPr>
          <p:grpSpPr>
            <a:xfrm>
              <a:off x="2916360" y="2924280"/>
              <a:ext cx="1150560" cy="1658880"/>
              <a:chOff x="2916360" y="2924280"/>
              <a:chExt cx="1150560" cy="1658880"/>
            </a:xfrm>
          </p:grpSpPr>
          <p:sp>
            <p:nvSpPr>
              <p:cNvPr id="348" name=""/>
              <p:cNvSpPr/>
              <p:nvPr/>
            </p:nvSpPr>
            <p:spPr>
              <a:xfrm>
                <a:off x="2916360" y="2924280"/>
                <a:ext cx="1147320" cy="165888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32200" y="4329000"/>
                <a:ext cx="1113840" cy="1065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98160" y="2924280"/>
                <a:ext cx="775080" cy="1656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16360" y="4098960"/>
                <a:ext cx="1150560" cy="15840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16360" y="3960720"/>
                <a:ext cx="1150560" cy="142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16360" y="3496320"/>
                <a:ext cx="1137600" cy="1594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17800" y="3374640"/>
                <a:ext cx="1132920" cy="1443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916360" y="32846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95280" y="3141720"/>
            <a:ext cx="936720" cy="1439640"/>
            <a:chOff x="395280" y="3141720"/>
            <a:chExt cx="936720" cy="1439640"/>
          </a:xfrm>
        </p:grpSpPr>
        <p:grpSp>
          <p:nvGrpSpPr>
            <p:cNvPr id="357" name=""/>
            <p:cNvGrpSpPr/>
            <p:nvPr/>
          </p:nvGrpSpPr>
          <p:grpSpPr>
            <a:xfrm>
              <a:off x="468360" y="3141720"/>
              <a:ext cx="863640" cy="1439640"/>
              <a:chOff x="468360" y="3141720"/>
              <a:chExt cx="863640" cy="1439640"/>
            </a:xfrm>
          </p:grpSpPr>
          <p:sp>
            <p:nvSpPr>
              <p:cNvPr id="358" name=""/>
              <p:cNvSpPr/>
              <p:nvPr/>
            </p:nvSpPr>
            <p:spPr>
              <a:xfrm>
                <a:off x="468360" y="3141720"/>
                <a:ext cx="8611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0240" y="4360680"/>
                <a:ext cx="8359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4800" y="3141720"/>
                <a:ext cx="58176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8360" y="4161240"/>
                <a:ext cx="86364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68360" y="4041000"/>
                <a:ext cx="86364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8360" y="3638160"/>
                <a:ext cx="85392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9440" y="3532320"/>
                <a:ext cx="8503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395280" y="3645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4000" y="4797360"/>
            <a:ext cx="4176720" cy="422280"/>
            <a:chOff x="324000" y="4797360"/>
            <a:chExt cx="4176720" cy="422280"/>
          </a:xfrm>
        </p:grpSpPr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324000" y="4797360"/>
                  <a:ext cx="18730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0,7</m:t>
                      </m:r>
                      <m:r>
                        <m:t xml:space="preserve">=</m:t>
                      </m:r>
                      <m:r>
                        <m:t xml:space="preserve">2,8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"/>
            <p:cNvSpPr/>
            <p:nvPr/>
          </p:nvSpPr>
          <p:spPr>
            <a:xfrm>
              <a:off x="2124000" y="4797360"/>
              <a:ext cx="23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кислоты в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осу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39640" y="3860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8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9х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50920" y="5157720"/>
            <a:ext cx="4176720" cy="703800"/>
            <a:chOff x="250920" y="5157720"/>
            <a:chExt cx="4176720" cy="703800"/>
          </a:xfrm>
        </p:grpSpPr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250920" y="5157720"/>
                  <a:ext cx="1123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9</m:t>
                      </m:r>
                      <m:r>
                        <m:t xml:space="preserve">х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"/>
            <p:cNvSpPr/>
            <p:nvPr/>
          </p:nvSpPr>
          <p:spPr>
            <a:xfrm>
              <a:off x="1258920" y="5157720"/>
              <a:ext cx="316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кислоты нужно перел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24000" y="5516640"/>
            <a:ext cx="4390920" cy="703800"/>
            <a:chOff x="324000" y="5516640"/>
            <a:chExt cx="4390920" cy="703800"/>
          </a:xfrm>
        </p:grpSpPr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324000" y="5516640"/>
                  <a:ext cx="181440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,8</m:t>
                          </m:r>
                          <m:r>
                            <m:t xml:space="preserve">+</m:t>
                          </m:r>
                          <m:r>
                            <m:t xml:space="preserve">0,9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6" name=""/>
            <p:cNvSpPr/>
            <p:nvPr/>
          </p:nvSpPr>
          <p:spPr>
            <a:xfrm>
              <a:off x="2050920" y="5516640"/>
              <a:ext cx="266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новом раство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77164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2,8+0,9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7640" y="44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4+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1640" y="3789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74(4+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50920" y="4797360"/>
            <a:ext cx="4424400" cy="703800"/>
            <a:chOff x="250920" y="4797360"/>
            <a:chExt cx="4424400" cy="70380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50920" y="4797360"/>
                  <a:ext cx="188280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2011320" y="4797360"/>
              <a:ext cx="266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новом раство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487840" y="330516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9280" y="537372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лучим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95280" y="5734080"/>
                <a:ext cx="2374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8</m:t>
                    </m:r>
                    <m:r>
                      <m:t xml:space="preserve">+</m:t>
                    </m:r>
                    <m:r>
                      <m:t xml:space="preserve">0,9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203640" y="5661000"/>
                <a:ext cx="6588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7" name=""/>
          <p:cNvGrpSpPr/>
          <p:nvPr/>
        </p:nvGrpSpPr>
        <p:grpSpPr>
          <a:xfrm>
            <a:off x="4643280" y="3141720"/>
            <a:ext cx="936720" cy="1439640"/>
            <a:chOff x="4643280" y="3141720"/>
            <a:chExt cx="936720" cy="1439640"/>
          </a:xfrm>
        </p:grpSpPr>
        <p:grpSp>
          <p:nvGrpSpPr>
            <p:cNvPr id="388" name=""/>
            <p:cNvGrpSpPr/>
            <p:nvPr/>
          </p:nvGrpSpPr>
          <p:grpSpPr>
            <a:xfrm>
              <a:off x="4716360" y="3141720"/>
              <a:ext cx="863640" cy="1439640"/>
              <a:chOff x="4716360" y="3141720"/>
              <a:chExt cx="863640" cy="1439640"/>
            </a:xfrm>
          </p:grpSpPr>
          <p:sp>
            <p:nvSpPr>
              <p:cNvPr id="389" name=""/>
              <p:cNvSpPr/>
              <p:nvPr/>
            </p:nvSpPr>
            <p:spPr>
              <a:xfrm>
                <a:off x="4716360" y="3141720"/>
                <a:ext cx="8611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28240" y="4360680"/>
                <a:ext cx="8359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52800" y="3141720"/>
                <a:ext cx="58176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16360" y="4161240"/>
                <a:ext cx="86364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16360" y="4041000"/>
                <a:ext cx="86364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16360" y="3638160"/>
                <a:ext cx="85392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17440" y="3532320"/>
                <a:ext cx="8503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4643280" y="3645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716360" y="3789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8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012000" y="3141720"/>
            <a:ext cx="935640" cy="1439640"/>
            <a:chOff x="6012000" y="3141720"/>
            <a:chExt cx="935640" cy="1439640"/>
          </a:xfrm>
        </p:grpSpPr>
        <p:grpSp>
          <p:nvGrpSpPr>
            <p:cNvPr id="399" name=""/>
            <p:cNvGrpSpPr/>
            <p:nvPr/>
          </p:nvGrpSpPr>
          <p:grpSpPr>
            <a:xfrm>
              <a:off x="6084720" y="3141720"/>
              <a:ext cx="862920" cy="1439640"/>
              <a:chOff x="6084720" y="3141720"/>
              <a:chExt cx="862920" cy="1439640"/>
            </a:xfrm>
          </p:grpSpPr>
          <p:sp>
            <p:nvSpPr>
              <p:cNvPr id="400" name=""/>
              <p:cNvSpPr/>
              <p:nvPr/>
            </p:nvSpPr>
            <p:spPr>
              <a:xfrm>
                <a:off x="6090480" y="3141720"/>
                <a:ext cx="85716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6560" y="3141720"/>
                <a:ext cx="57888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090480" y="4272120"/>
                <a:ext cx="85140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84720" y="3779280"/>
                <a:ext cx="85032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84720" y="3661920"/>
                <a:ext cx="84168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84720" y="3678840"/>
                <a:ext cx="84636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90480" y="4158720"/>
                <a:ext cx="85248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90480" y="4158720"/>
                <a:ext cx="84168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90480" y="4339440"/>
                <a:ext cx="8323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6012000" y="3789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156360" y="400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,8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451640" y="2924280"/>
            <a:ext cx="1150560" cy="1658880"/>
            <a:chOff x="7451640" y="2924280"/>
            <a:chExt cx="1150560" cy="1658880"/>
          </a:xfrm>
        </p:grpSpPr>
        <p:sp>
          <p:nvSpPr>
            <p:cNvPr id="412" name=""/>
            <p:cNvSpPr/>
            <p:nvPr/>
          </p:nvSpPr>
          <p:spPr>
            <a:xfrm>
              <a:off x="7451640" y="2924280"/>
              <a:ext cx="1147320" cy="1658880"/>
            </a:xfrm>
            <a:custGeom>
              <a:avLst/>
              <a:gdLst/>
              <a:ahLst/>
              <a:rect l="l" t="t" r="r" b="b"/>
              <a:pathLst>
                <a:path w="977" h="1445">
                  <a:moveTo>
                    <a:pt x="125" y="327"/>
                  </a:moveTo>
                  <a:cubicBezTo>
                    <a:pt x="110" y="330"/>
                    <a:pt x="101" y="330"/>
                    <a:pt x="86" y="340"/>
                  </a:cubicBezTo>
                  <a:cubicBezTo>
                    <a:pt x="71" y="348"/>
                    <a:pt x="46" y="360"/>
                    <a:pt x="33" y="380"/>
                  </a:cubicBezTo>
                  <a:cubicBezTo>
                    <a:pt x="19" y="401"/>
                    <a:pt x="12" y="403"/>
                    <a:pt x="7" y="467"/>
                  </a:cubicBezTo>
                  <a:cubicBezTo>
                    <a:pt x="1" y="532"/>
                    <a:pt x="3" y="676"/>
                    <a:pt x="1" y="769"/>
                  </a:cubicBezTo>
                  <a:cubicBezTo>
                    <a:pt x="1" y="861"/>
                    <a:pt x="0" y="935"/>
                    <a:pt x="1" y="1024"/>
                  </a:cubicBezTo>
                  <a:cubicBezTo>
                    <a:pt x="4" y="1112"/>
                    <a:pt x="0" y="1240"/>
                    <a:pt x="12" y="1300"/>
                  </a:cubicBezTo>
                  <a:cubicBezTo>
                    <a:pt x="25" y="1360"/>
                    <a:pt x="30" y="1360"/>
                    <a:pt x="75" y="1382"/>
                  </a:cubicBezTo>
                  <a:cubicBezTo>
                    <a:pt x="119" y="1405"/>
                    <a:pt x="202" y="1423"/>
                    <a:pt x="283" y="1432"/>
                  </a:cubicBezTo>
                  <a:cubicBezTo>
                    <a:pt x="363" y="1442"/>
                    <a:pt x="471" y="1445"/>
                    <a:pt x="561" y="1441"/>
                  </a:cubicBezTo>
                  <a:cubicBezTo>
                    <a:pt x="651" y="1437"/>
                    <a:pt x="761" y="1424"/>
                    <a:pt x="823" y="1412"/>
                  </a:cubicBezTo>
                  <a:cubicBezTo>
                    <a:pt x="886" y="1399"/>
                    <a:pt x="915" y="1382"/>
                    <a:pt x="940" y="1361"/>
                  </a:cubicBezTo>
                  <a:cubicBezTo>
                    <a:pt x="965" y="1340"/>
                    <a:pt x="964" y="1339"/>
                    <a:pt x="970" y="1284"/>
                  </a:cubicBezTo>
                  <a:cubicBezTo>
                    <a:pt x="976" y="1229"/>
                    <a:pt x="973" y="1148"/>
                    <a:pt x="974" y="1032"/>
                  </a:cubicBezTo>
                  <a:cubicBezTo>
                    <a:pt x="975" y="916"/>
                    <a:pt x="977" y="692"/>
                    <a:pt x="974" y="589"/>
                  </a:cubicBezTo>
                  <a:cubicBezTo>
                    <a:pt x="971" y="486"/>
                    <a:pt x="966" y="449"/>
                    <a:pt x="958" y="411"/>
                  </a:cubicBezTo>
                  <a:cubicBezTo>
                    <a:pt x="951" y="373"/>
                    <a:pt x="937" y="378"/>
                    <a:pt x="927" y="365"/>
                  </a:cubicBezTo>
                  <a:cubicBezTo>
                    <a:pt x="916" y="353"/>
                    <a:pt x="915" y="347"/>
                    <a:pt x="895" y="340"/>
                  </a:cubicBezTo>
                  <a:cubicBezTo>
                    <a:pt x="877" y="332"/>
                    <a:pt x="834" y="325"/>
                    <a:pt x="814" y="319"/>
                  </a:cubicBezTo>
                  <a:cubicBezTo>
                    <a:pt x="794" y="314"/>
                    <a:pt x="786" y="314"/>
                    <a:pt x="772" y="309"/>
                  </a:cubicBezTo>
                  <a:cubicBezTo>
                    <a:pt x="760" y="304"/>
                    <a:pt x="746" y="297"/>
                    <a:pt x="736" y="288"/>
                  </a:cubicBezTo>
                  <a:cubicBezTo>
                    <a:pt x="726" y="280"/>
                    <a:pt x="717" y="272"/>
                    <a:pt x="712" y="261"/>
                  </a:cubicBezTo>
                  <a:cubicBezTo>
                    <a:pt x="708" y="248"/>
                    <a:pt x="704" y="233"/>
                    <a:pt x="710" y="217"/>
                  </a:cubicBezTo>
                  <a:cubicBezTo>
                    <a:pt x="715" y="202"/>
                    <a:pt x="733" y="180"/>
                    <a:pt x="746" y="164"/>
                  </a:cubicBezTo>
                  <a:cubicBezTo>
                    <a:pt x="758" y="149"/>
                    <a:pt x="778" y="142"/>
                    <a:pt x="789" y="128"/>
                  </a:cubicBezTo>
                  <a:cubicBezTo>
                    <a:pt x="800" y="114"/>
                    <a:pt x="812" y="95"/>
                    <a:pt x="812" y="81"/>
                  </a:cubicBezTo>
                  <a:cubicBezTo>
                    <a:pt x="812" y="67"/>
                    <a:pt x="821" y="53"/>
                    <a:pt x="793" y="42"/>
                  </a:cubicBezTo>
                  <a:cubicBezTo>
                    <a:pt x="765" y="31"/>
                    <a:pt x="701" y="21"/>
                    <a:pt x="647" y="14"/>
                  </a:cubicBezTo>
                  <a:cubicBezTo>
                    <a:pt x="593" y="7"/>
                    <a:pt x="531" y="0"/>
                    <a:pt x="467" y="0"/>
                  </a:cubicBezTo>
                  <a:cubicBezTo>
                    <a:pt x="403" y="0"/>
                    <a:pt x="313" y="7"/>
                    <a:pt x="262" y="17"/>
                  </a:cubicBezTo>
                  <a:cubicBezTo>
                    <a:pt x="211" y="26"/>
                    <a:pt x="176" y="40"/>
                    <a:pt x="162" y="59"/>
                  </a:cubicBezTo>
                  <a:cubicBezTo>
                    <a:pt x="148" y="77"/>
                    <a:pt x="169" y="111"/>
                    <a:pt x="177" y="130"/>
                  </a:cubicBezTo>
                  <a:cubicBezTo>
                    <a:pt x="184" y="149"/>
                    <a:pt x="198" y="159"/>
                    <a:pt x="208" y="171"/>
                  </a:cubicBezTo>
                  <a:cubicBezTo>
                    <a:pt x="219" y="184"/>
                    <a:pt x="234" y="195"/>
                    <a:pt x="243" y="205"/>
                  </a:cubicBezTo>
                  <a:cubicBezTo>
                    <a:pt x="250" y="213"/>
                    <a:pt x="254" y="215"/>
                    <a:pt x="255" y="224"/>
                  </a:cubicBezTo>
                  <a:cubicBezTo>
                    <a:pt x="256" y="234"/>
                    <a:pt x="258" y="249"/>
                    <a:pt x="252" y="261"/>
                  </a:cubicBezTo>
                  <a:cubicBezTo>
                    <a:pt x="248" y="272"/>
                    <a:pt x="240" y="281"/>
                    <a:pt x="226" y="291"/>
                  </a:cubicBezTo>
                  <a:cubicBezTo>
                    <a:pt x="213" y="301"/>
                    <a:pt x="194" y="311"/>
                    <a:pt x="177" y="316"/>
                  </a:cubicBezTo>
                  <a:cubicBezTo>
                    <a:pt x="161" y="322"/>
                    <a:pt x="140" y="323"/>
                    <a:pt x="125" y="327"/>
                  </a:cubicBezTo>
                  <a:close/>
                </a:path>
              </a:pathLst>
            </a:custGeom>
            <a:gradFill rotWithShape="0">
              <a:gsLst>
                <a:gs pos="0">
                  <a:srgbClr val="e1ffff"/>
                </a:gs>
                <a:gs pos="100000">
                  <a:srgbClr val="00f4ee"/>
                </a:gs>
              </a:gsLst>
              <a:lin ang="5400000"/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67480" y="4329000"/>
              <a:ext cx="1113840" cy="106560"/>
            </a:xfrm>
            <a:custGeom>
              <a:avLst/>
              <a:gdLst/>
              <a:ahLst/>
              <a:rect l="l" t="t" r="r" b="b"/>
              <a:pathLst>
                <a:path w="948" h="92">
                  <a:moveTo>
                    <a:pt x="948" y="80"/>
                  </a:moveTo>
                  <a:cubicBezTo>
                    <a:pt x="926" y="71"/>
                    <a:pt x="900" y="39"/>
                    <a:pt x="822" y="26"/>
                  </a:cubicBezTo>
                  <a:cubicBezTo>
                    <a:pt x="744" y="13"/>
                    <a:pt x="587" y="0"/>
                    <a:pt x="477" y="1"/>
                  </a:cubicBezTo>
                  <a:cubicBezTo>
                    <a:pt x="366" y="3"/>
                    <a:pt x="231" y="20"/>
                    <a:pt x="152" y="35"/>
                  </a:cubicBezTo>
                  <a:cubicBezTo>
                    <a:pt x="73" y="50"/>
                    <a:pt x="32" y="80"/>
                    <a:pt x="0" y="92"/>
                  </a:cubicBezTo>
                </a:path>
              </a:pathLst>
            </a:cu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33440" y="2924280"/>
              <a:ext cx="775080" cy="165600"/>
            </a:xfrm>
            <a:custGeom>
              <a:avLst/>
              <a:gdLst/>
              <a:ahLst/>
              <a:rect l="l" t="t" r="r" b="b"/>
              <a:pathLst>
                <a:path w="475" h="103">
                  <a:moveTo>
                    <a:pt x="5" y="57"/>
                  </a:moveTo>
                  <a:cubicBezTo>
                    <a:pt x="0" y="49"/>
                    <a:pt x="8" y="37"/>
                    <a:pt x="25" y="29"/>
                  </a:cubicBezTo>
                  <a:cubicBezTo>
                    <a:pt x="42" y="21"/>
                    <a:pt x="76" y="16"/>
                    <a:pt x="107" y="11"/>
                  </a:cubicBezTo>
                  <a:cubicBezTo>
                    <a:pt x="138" y="6"/>
                    <a:pt x="180" y="2"/>
                    <a:pt x="213" y="1"/>
                  </a:cubicBezTo>
                  <a:cubicBezTo>
                    <a:pt x="246" y="0"/>
                    <a:pt x="279" y="1"/>
                    <a:pt x="307" y="3"/>
                  </a:cubicBezTo>
                  <a:cubicBezTo>
                    <a:pt x="335" y="5"/>
                    <a:pt x="357" y="9"/>
                    <a:pt x="379" y="13"/>
                  </a:cubicBezTo>
                  <a:cubicBezTo>
                    <a:pt x="401" y="17"/>
                    <a:pt x="422" y="19"/>
                    <a:pt x="437" y="25"/>
                  </a:cubicBezTo>
                  <a:cubicBezTo>
                    <a:pt x="452" y="31"/>
                    <a:pt x="471" y="42"/>
                    <a:pt x="473" y="49"/>
                  </a:cubicBezTo>
                  <a:cubicBezTo>
                    <a:pt x="475" y="56"/>
                    <a:pt x="464" y="60"/>
                    <a:pt x="449" y="67"/>
                  </a:cubicBezTo>
                  <a:cubicBezTo>
                    <a:pt x="434" y="74"/>
                    <a:pt x="410" y="83"/>
                    <a:pt x="381" y="89"/>
                  </a:cubicBezTo>
                  <a:cubicBezTo>
                    <a:pt x="352" y="95"/>
                    <a:pt x="316" y="99"/>
                    <a:pt x="277" y="101"/>
                  </a:cubicBezTo>
                  <a:cubicBezTo>
                    <a:pt x="238" y="103"/>
                    <a:pt x="186" y="102"/>
                    <a:pt x="149" y="99"/>
                  </a:cubicBezTo>
                  <a:cubicBezTo>
                    <a:pt x="112" y="96"/>
                    <a:pt x="79" y="87"/>
                    <a:pt x="55" y="80"/>
                  </a:cubicBezTo>
                  <a:cubicBezTo>
                    <a:pt x="31" y="73"/>
                    <a:pt x="11" y="66"/>
                    <a:pt x="5" y="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fff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451640" y="4098960"/>
              <a:ext cx="1150560" cy="158400"/>
            </a:xfrm>
            <a:custGeom>
              <a:avLst/>
              <a:gdLst/>
              <a:ahLst/>
              <a:rect l="l" t="t" r="r" b="b"/>
              <a:pathLst>
                <a:path w="706" h="98">
                  <a:moveTo>
                    <a:pt x="0" y="18"/>
                  </a:moveTo>
                  <a:cubicBezTo>
                    <a:pt x="6" y="22"/>
                    <a:pt x="17" y="35"/>
                    <a:pt x="36" y="44"/>
                  </a:cubicBezTo>
                  <a:cubicBezTo>
                    <a:pt x="55" y="53"/>
                    <a:pt x="83" y="64"/>
                    <a:pt x="115" y="72"/>
                  </a:cubicBezTo>
                  <a:cubicBezTo>
                    <a:pt x="147" y="80"/>
                    <a:pt x="189" y="86"/>
                    <a:pt x="230" y="90"/>
                  </a:cubicBezTo>
                  <a:cubicBezTo>
                    <a:pt x="271" y="94"/>
                    <a:pt x="318" y="98"/>
                    <a:pt x="364" y="98"/>
                  </a:cubicBezTo>
                  <a:cubicBezTo>
                    <a:pt x="410" y="98"/>
                    <a:pt x="467" y="96"/>
                    <a:pt x="508" y="90"/>
                  </a:cubicBezTo>
                  <a:cubicBezTo>
                    <a:pt x="549" y="84"/>
                    <a:pt x="582" y="73"/>
                    <a:pt x="610" y="64"/>
                  </a:cubicBezTo>
                  <a:cubicBezTo>
                    <a:pt x="638" y="55"/>
                    <a:pt x="660" y="45"/>
                    <a:pt x="676" y="34"/>
                  </a:cubicBezTo>
                  <a:cubicBezTo>
                    <a:pt x="692" y="23"/>
                    <a:pt x="700" y="7"/>
                    <a:pt x="70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51640" y="3960720"/>
              <a:ext cx="1150560" cy="142560"/>
            </a:xfrm>
            <a:custGeom>
              <a:avLst/>
              <a:gdLst/>
              <a:ahLst/>
              <a:rect l="l" t="t" r="r" b="b"/>
              <a:pathLst>
                <a:path w="706" h="90">
                  <a:moveTo>
                    <a:pt x="706" y="70"/>
                  </a:moveTo>
                  <a:cubicBezTo>
                    <a:pt x="699" y="65"/>
                    <a:pt x="685" y="49"/>
                    <a:pt x="664" y="40"/>
                  </a:cubicBezTo>
                  <a:cubicBezTo>
                    <a:pt x="643" y="31"/>
                    <a:pt x="611" y="22"/>
                    <a:pt x="580" y="16"/>
                  </a:cubicBezTo>
                  <a:cubicBezTo>
                    <a:pt x="549" y="10"/>
                    <a:pt x="514" y="4"/>
                    <a:pt x="478" y="2"/>
                  </a:cubicBezTo>
                  <a:cubicBezTo>
                    <a:pt x="442" y="0"/>
                    <a:pt x="399" y="1"/>
                    <a:pt x="361" y="1"/>
                  </a:cubicBezTo>
                  <a:cubicBezTo>
                    <a:pt x="323" y="1"/>
                    <a:pt x="286" y="1"/>
                    <a:pt x="252" y="4"/>
                  </a:cubicBezTo>
                  <a:cubicBezTo>
                    <a:pt x="218" y="7"/>
                    <a:pt x="183" y="14"/>
                    <a:pt x="154" y="20"/>
                  </a:cubicBezTo>
                  <a:cubicBezTo>
                    <a:pt x="125" y="26"/>
                    <a:pt x="97" y="34"/>
                    <a:pt x="76" y="42"/>
                  </a:cubicBezTo>
                  <a:cubicBezTo>
                    <a:pt x="55" y="50"/>
                    <a:pt x="40" y="60"/>
                    <a:pt x="28" y="68"/>
                  </a:cubicBezTo>
                  <a:cubicBezTo>
                    <a:pt x="16" y="76"/>
                    <a:pt x="6" y="86"/>
                    <a:pt x="0" y="9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51640" y="3496320"/>
              <a:ext cx="1137600" cy="159480"/>
            </a:xfrm>
            <a:custGeom>
              <a:avLst/>
              <a:gdLst/>
              <a:ahLst/>
              <a:rect l="l" t="t" r="r" b="b"/>
              <a:pathLst>
                <a:path w="698" h="100">
                  <a:moveTo>
                    <a:pt x="0" y="20"/>
                  </a:moveTo>
                  <a:cubicBezTo>
                    <a:pt x="6" y="24"/>
                    <a:pt x="17" y="37"/>
                    <a:pt x="36" y="46"/>
                  </a:cubicBezTo>
                  <a:cubicBezTo>
                    <a:pt x="55" y="55"/>
                    <a:pt x="84" y="66"/>
                    <a:pt x="116" y="74"/>
                  </a:cubicBezTo>
                  <a:cubicBezTo>
                    <a:pt x="148" y="82"/>
                    <a:pt x="191" y="88"/>
                    <a:pt x="232" y="92"/>
                  </a:cubicBezTo>
                  <a:cubicBezTo>
                    <a:pt x="273" y="96"/>
                    <a:pt x="321" y="100"/>
                    <a:pt x="367" y="100"/>
                  </a:cubicBezTo>
                  <a:cubicBezTo>
                    <a:pt x="413" y="100"/>
                    <a:pt x="471" y="98"/>
                    <a:pt x="512" y="92"/>
                  </a:cubicBezTo>
                  <a:cubicBezTo>
                    <a:pt x="554" y="86"/>
                    <a:pt x="587" y="75"/>
                    <a:pt x="615" y="66"/>
                  </a:cubicBezTo>
                  <a:cubicBezTo>
                    <a:pt x="643" y="57"/>
                    <a:pt x="668" y="47"/>
                    <a:pt x="682" y="36"/>
                  </a:cubicBezTo>
                  <a:cubicBezTo>
                    <a:pt x="696" y="25"/>
                    <a:pt x="695" y="7"/>
                    <a:pt x="698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53080" y="3374640"/>
              <a:ext cx="1132920" cy="144360"/>
            </a:xfrm>
            <a:custGeom>
              <a:avLst/>
              <a:gdLst/>
              <a:ahLst/>
              <a:rect l="l" t="t" r="r" b="b"/>
              <a:pathLst>
                <a:path w="696" h="90">
                  <a:moveTo>
                    <a:pt x="696" y="68"/>
                  </a:moveTo>
                  <a:cubicBezTo>
                    <a:pt x="691" y="63"/>
                    <a:pt x="688" y="49"/>
                    <a:pt x="670" y="40"/>
                  </a:cubicBezTo>
                  <a:cubicBezTo>
                    <a:pt x="652" y="31"/>
                    <a:pt x="616" y="22"/>
                    <a:pt x="585" y="16"/>
                  </a:cubicBezTo>
                  <a:cubicBezTo>
                    <a:pt x="554" y="10"/>
                    <a:pt x="518" y="4"/>
                    <a:pt x="482" y="2"/>
                  </a:cubicBezTo>
                  <a:cubicBezTo>
                    <a:pt x="446" y="0"/>
                    <a:pt x="402" y="1"/>
                    <a:pt x="364" y="1"/>
                  </a:cubicBezTo>
                  <a:cubicBezTo>
                    <a:pt x="326" y="1"/>
                    <a:pt x="288" y="1"/>
                    <a:pt x="254" y="4"/>
                  </a:cubicBezTo>
                  <a:cubicBezTo>
                    <a:pt x="220" y="7"/>
                    <a:pt x="185" y="14"/>
                    <a:pt x="155" y="20"/>
                  </a:cubicBezTo>
                  <a:cubicBezTo>
                    <a:pt x="126" y="26"/>
                    <a:pt x="98" y="34"/>
                    <a:pt x="77" y="42"/>
                  </a:cubicBezTo>
                  <a:cubicBezTo>
                    <a:pt x="55" y="50"/>
                    <a:pt x="40" y="60"/>
                    <a:pt x="28" y="68"/>
                  </a:cubicBezTo>
                  <a:cubicBezTo>
                    <a:pt x="16" y="76"/>
                    <a:pt x="6" y="86"/>
                    <a:pt x="0" y="9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485928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27640" y="4508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12000" y="4508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59280" y="501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пустимые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центн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00720" y="4797360"/>
            <a:ext cx="46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Из второго сосуда в перв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можно перелить максимальное количество раствора кислоты 2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1640" y="37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20000" y="37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643280" y="4797360"/>
            <a:ext cx="4267080" cy="434880"/>
            <a:chOff x="4643280" y="4797360"/>
            <a:chExt cx="4267080" cy="43488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4643280" y="4870080"/>
                  <a:ext cx="154944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9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1,8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6082920" y="4797360"/>
              <a:ext cx="282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кислоты в 2 литра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500720" y="5157720"/>
            <a:ext cx="4464000" cy="433440"/>
            <a:chOff x="4500720" y="5157720"/>
            <a:chExt cx="4464000" cy="433440"/>
          </a:xfrm>
        </p:grpSpPr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4500720" y="5229360"/>
                  <a:ext cx="18302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,8</m:t>
                      </m:r>
                      <m:r>
                        <m:t xml:space="preserve">+</m:t>
                      </m:r>
                      <m:r>
                        <m:t xml:space="preserve">1,8</m:t>
                      </m:r>
                      <m:r>
                        <m:t xml:space="preserve">=</m:t>
                      </m:r>
                      <m:r>
                        <m:t xml:space="preserve">4,6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"/>
            <p:cNvSpPr/>
            <p:nvPr/>
          </p:nvSpPr>
          <p:spPr>
            <a:xfrm>
              <a:off x="6229440" y="5157720"/>
              <a:ext cx="273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кислоты в 1 сосуд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596360" y="3860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4,6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859280" y="5445000"/>
                <a:ext cx="1773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,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4284720" y="6138720"/>
            <a:ext cx="4032360" cy="718920"/>
            <a:chOff x="4284720" y="6138720"/>
            <a:chExt cx="4032360" cy="718920"/>
          </a:xfrm>
        </p:grpSpPr>
        <p:sp>
          <p:nvSpPr>
            <p:cNvPr id="435" name=""/>
            <p:cNvSpPr/>
            <p:nvPr/>
          </p:nvSpPr>
          <p:spPr>
            <a:xfrm>
              <a:off x="4284720" y="6138720"/>
              <a:ext cx="4032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твет: 1л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6013440" y="6138720"/>
                  <a:ext cx="221328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%;</m:t>
                      </m:r>
                      <m:r>
                        <m:rPr>
                          <m:lit/>
                          <m:nor/>
                        </m:rPr>
                        <m:t xml:space="preserve">76</m:t>
                      </m:r>
                      <m:r>
                        <m:t xml:space="preserve">2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54" dur="indefinite" restart="never" nodeType="tmRoot">
          <p:childTnLst>
            <p:seq>
              <p:cTn id="455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492360" y="6165720"/>
            <a:ext cx="23036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9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95280" y="2205000"/>
            <a:ext cx="8496360" cy="2160720"/>
            <a:chOff x="395280" y="2205000"/>
            <a:chExt cx="8496360" cy="2160720"/>
          </a:xfrm>
        </p:grpSpPr>
        <p:grpSp>
          <p:nvGrpSpPr>
            <p:cNvPr id="439" name=""/>
            <p:cNvGrpSpPr/>
            <p:nvPr/>
          </p:nvGrpSpPr>
          <p:grpSpPr>
            <a:xfrm>
              <a:off x="395280" y="2205000"/>
              <a:ext cx="8496360" cy="2160720"/>
              <a:chOff x="395280" y="2205000"/>
              <a:chExt cx="8496360" cy="2160720"/>
            </a:xfrm>
          </p:grpSpPr>
          <p:sp>
            <p:nvSpPr>
              <p:cNvPr id="440" name=""/>
              <p:cNvSpPr/>
              <p:nvPr/>
            </p:nvSpPr>
            <p:spPr>
              <a:xfrm>
                <a:off x="395280" y="2205000"/>
                <a:ext cx="8496360" cy="2160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2916360" y="3429000"/>
                <a:ext cx="36036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e2c5"/>
                    </a:solidFill>
                    <a:latin typeface="Arial"/>
                  </a:rPr>
                  <a:t>+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5724360" y="3500280"/>
                <a:ext cx="360360" cy="216000"/>
                <a:chOff x="5724360" y="3500280"/>
                <a:chExt cx="360360" cy="216000"/>
              </a:xfrm>
            </p:grpSpPr>
            <p:sp>
              <p:nvSpPr>
                <p:cNvPr id="443" name=""/>
                <p:cNvSpPr txBox="1"/>
                <p:nvPr/>
              </p:nvSpPr>
              <p:spPr>
                <a:xfrm>
                  <a:off x="5724360" y="3500280"/>
                  <a:ext cx="360360" cy="71280"/>
                </a:xfrm>
                <a:prstGeom prst="rect">
                  <a:avLst/>
                </a:prstGeom>
              </p:spPr>
              <p:txBody>
                <a:bodyPr wrap="none" lIns="90000" rIns="90000" tIns="24840" bIns="2484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990000"/>
                          </a:gs>
                        </a:gsLst>
                        <a:lin ang="5400000"/>
                      </a:gradFill>
                      <a:latin typeface="Arial"/>
                    </a:rPr>
                    <a:t>_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0000"/>
                        </a:gs>
                      </a:gsLst>
                      <a:lin ang="5400000"/>
                    </a:gradFill>
                    <a:latin typeface="Arial"/>
                    <a:ea typeface="Arial"/>
                  </a:endParaRPr>
                </a:p>
              </p:txBody>
            </p:sp>
            <p:sp>
              <p:nvSpPr>
                <p:cNvPr id="444" name=""/>
                <p:cNvSpPr txBox="1"/>
                <p:nvPr/>
              </p:nvSpPr>
              <p:spPr>
                <a:xfrm>
                  <a:off x="5724360" y="3644640"/>
                  <a:ext cx="360360" cy="71640"/>
                </a:xfrm>
                <a:prstGeom prst="rect">
                  <a:avLst/>
                </a:prstGeom>
              </p:spPr>
              <p:txBody>
                <a:bodyPr wrap="none" lIns="90000" rIns="90000" tIns="25200" bIns="252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e2c5"/>
                      </a:solidFill>
                      <a:latin typeface="Arial"/>
                    </a:rPr>
                    <a:t>_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e2c5"/>
                    </a:solidFill>
                    <a:latin typeface="Arial"/>
                    <a:ea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348000" y="2276640"/>
                <a:ext cx="2505960" cy="1728360"/>
                <a:chOff x="3348000" y="2276640"/>
                <a:chExt cx="2505960" cy="172836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3348000" y="2276640"/>
                  <a:ext cx="2310840" cy="1728360"/>
                  <a:chOff x="3348000" y="2276640"/>
                  <a:chExt cx="2310840" cy="17283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425760" y="2276640"/>
                    <a:ext cx="223308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2" h="781">
                        <a:moveTo>
                          <a:pt x="393" y="9"/>
                        </a:moveTo>
                        <a:cubicBezTo>
                          <a:pt x="336" y="16"/>
                          <a:pt x="278" y="70"/>
                          <a:pt x="231" y="99"/>
                        </a:cubicBezTo>
                        <a:cubicBezTo>
                          <a:pt x="184" y="128"/>
                          <a:pt x="145" y="150"/>
                          <a:pt x="108" y="183"/>
                        </a:cubicBezTo>
                        <a:cubicBezTo>
                          <a:pt x="71" y="216"/>
                          <a:pt x="0" y="266"/>
                          <a:pt x="11" y="296"/>
                        </a:cubicBezTo>
                        <a:cubicBezTo>
                          <a:pt x="22" y="326"/>
                          <a:pt x="116" y="339"/>
                          <a:pt x="175" y="364"/>
                        </a:cubicBezTo>
                        <a:cubicBezTo>
                          <a:pt x="234" y="389"/>
                          <a:pt x="302" y="418"/>
                          <a:pt x="363" y="444"/>
                        </a:cubicBezTo>
                        <a:cubicBezTo>
                          <a:pt x="424" y="470"/>
                          <a:pt x="470" y="490"/>
                          <a:pt x="539" y="520"/>
                        </a:cubicBezTo>
                        <a:cubicBezTo>
                          <a:pt x="608" y="550"/>
                          <a:pt x="707" y="593"/>
                          <a:pt x="779" y="624"/>
                        </a:cubicBezTo>
                        <a:cubicBezTo>
                          <a:pt x="851" y="655"/>
                          <a:pt x="913" y="681"/>
                          <a:pt x="971" y="704"/>
                        </a:cubicBezTo>
                        <a:cubicBezTo>
                          <a:pt x="1029" y="727"/>
                          <a:pt x="1094" y="747"/>
                          <a:pt x="1127" y="760"/>
                        </a:cubicBezTo>
                        <a:cubicBezTo>
                          <a:pt x="1160" y="773"/>
                          <a:pt x="1158" y="779"/>
                          <a:pt x="1167" y="780"/>
                        </a:cubicBezTo>
                        <a:cubicBezTo>
                          <a:pt x="1176" y="781"/>
                          <a:pt x="1161" y="781"/>
                          <a:pt x="1183" y="764"/>
                        </a:cubicBezTo>
                        <a:cubicBezTo>
                          <a:pt x="1205" y="747"/>
                          <a:pt x="1252" y="715"/>
                          <a:pt x="1299" y="680"/>
                        </a:cubicBezTo>
                        <a:cubicBezTo>
                          <a:pt x="1346" y="645"/>
                          <a:pt x="1424" y="592"/>
                          <a:pt x="1463" y="556"/>
                        </a:cubicBezTo>
                        <a:cubicBezTo>
                          <a:pt x="1502" y="520"/>
                          <a:pt x="1552" y="498"/>
                          <a:pt x="1531" y="464"/>
                        </a:cubicBezTo>
                        <a:cubicBezTo>
                          <a:pt x="1510" y="430"/>
                          <a:pt x="1403" y="384"/>
                          <a:pt x="1339" y="352"/>
                        </a:cubicBezTo>
                        <a:cubicBezTo>
                          <a:pt x="1275" y="320"/>
                          <a:pt x="1229" y="305"/>
                          <a:pt x="1147" y="272"/>
                        </a:cubicBezTo>
                        <a:cubicBezTo>
                          <a:pt x="1065" y="239"/>
                          <a:pt x="943" y="192"/>
                          <a:pt x="847" y="156"/>
                        </a:cubicBezTo>
                        <a:cubicBezTo>
                          <a:pt x="751" y="120"/>
                          <a:pt x="649" y="81"/>
                          <a:pt x="573" y="57"/>
                        </a:cubicBezTo>
                        <a:cubicBezTo>
                          <a:pt x="497" y="33"/>
                          <a:pt x="449" y="0"/>
                          <a:pt x="393" y="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348000" y="2644560"/>
                    <a:ext cx="1757160" cy="13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2" h="1007">
                        <a:moveTo>
                          <a:pt x="276" y="111"/>
                        </a:moveTo>
                        <a:cubicBezTo>
                          <a:pt x="198" y="85"/>
                          <a:pt x="149" y="61"/>
                          <a:pt x="111" y="47"/>
                        </a:cubicBezTo>
                        <a:cubicBezTo>
                          <a:pt x="73" y="33"/>
                          <a:pt x="62" y="0"/>
                          <a:pt x="47" y="26"/>
                        </a:cubicBezTo>
                        <a:cubicBezTo>
                          <a:pt x="32" y="53"/>
                          <a:pt x="27" y="154"/>
                          <a:pt x="23" y="205"/>
                        </a:cubicBezTo>
                        <a:cubicBezTo>
                          <a:pt x="19" y="256"/>
                          <a:pt x="20" y="285"/>
                          <a:pt x="20" y="331"/>
                        </a:cubicBezTo>
                        <a:cubicBezTo>
                          <a:pt x="20" y="377"/>
                          <a:pt x="0" y="446"/>
                          <a:pt x="20" y="483"/>
                        </a:cubicBezTo>
                        <a:cubicBezTo>
                          <a:pt x="40" y="520"/>
                          <a:pt x="93" y="527"/>
                          <a:pt x="140" y="551"/>
                        </a:cubicBezTo>
                        <a:cubicBezTo>
                          <a:pt x="187" y="575"/>
                          <a:pt x="251" y="602"/>
                          <a:pt x="304" y="627"/>
                        </a:cubicBezTo>
                        <a:cubicBezTo>
                          <a:pt x="357" y="652"/>
                          <a:pt x="409" y="681"/>
                          <a:pt x="456" y="703"/>
                        </a:cubicBezTo>
                        <a:cubicBezTo>
                          <a:pt x="503" y="725"/>
                          <a:pt x="542" y="738"/>
                          <a:pt x="588" y="759"/>
                        </a:cubicBezTo>
                        <a:cubicBezTo>
                          <a:pt x="634" y="780"/>
                          <a:pt x="678" y="803"/>
                          <a:pt x="732" y="827"/>
                        </a:cubicBezTo>
                        <a:cubicBezTo>
                          <a:pt x="786" y="851"/>
                          <a:pt x="862" y="882"/>
                          <a:pt x="912" y="903"/>
                        </a:cubicBezTo>
                        <a:cubicBezTo>
                          <a:pt x="962" y="924"/>
                          <a:pt x="1002" y="939"/>
                          <a:pt x="1032" y="951"/>
                        </a:cubicBezTo>
                        <a:cubicBezTo>
                          <a:pt x="1062" y="963"/>
                          <a:pt x="1066" y="966"/>
                          <a:pt x="1095" y="973"/>
                        </a:cubicBezTo>
                        <a:cubicBezTo>
                          <a:pt x="1124" y="980"/>
                          <a:pt x="1186" y="1007"/>
                          <a:pt x="1204" y="995"/>
                        </a:cubicBezTo>
                        <a:cubicBezTo>
                          <a:pt x="1222" y="983"/>
                          <a:pt x="1203" y="938"/>
                          <a:pt x="1204" y="903"/>
                        </a:cubicBezTo>
                        <a:cubicBezTo>
                          <a:pt x="1205" y="868"/>
                          <a:pt x="1207" y="824"/>
                          <a:pt x="1208" y="787"/>
                        </a:cubicBezTo>
                        <a:cubicBezTo>
                          <a:pt x="1209" y="750"/>
                          <a:pt x="1211" y="719"/>
                          <a:pt x="1212" y="683"/>
                        </a:cubicBezTo>
                        <a:cubicBezTo>
                          <a:pt x="1213" y="647"/>
                          <a:pt x="1213" y="602"/>
                          <a:pt x="1212" y="571"/>
                        </a:cubicBezTo>
                        <a:cubicBezTo>
                          <a:pt x="1211" y="540"/>
                          <a:pt x="1219" y="515"/>
                          <a:pt x="1208" y="499"/>
                        </a:cubicBezTo>
                        <a:cubicBezTo>
                          <a:pt x="1197" y="483"/>
                          <a:pt x="1183" y="490"/>
                          <a:pt x="1144" y="475"/>
                        </a:cubicBezTo>
                        <a:cubicBezTo>
                          <a:pt x="1105" y="460"/>
                          <a:pt x="1042" y="438"/>
                          <a:pt x="976" y="411"/>
                        </a:cubicBezTo>
                        <a:cubicBezTo>
                          <a:pt x="910" y="384"/>
                          <a:pt x="821" y="346"/>
                          <a:pt x="748" y="315"/>
                        </a:cubicBezTo>
                        <a:cubicBezTo>
                          <a:pt x="675" y="284"/>
                          <a:pt x="615" y="257"/>
                          <a:pt x="536" y="223"/>
                        </a:cubicBezTo>
                        <a:cubicBezTo>
                          <a:pt x="457" y="189"/>
                          <a:pt x="330" y="134"/>
                          <a:pt x="276" y="11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032440" y="2893680"/>
                    <a:ext cx="599760" cy="10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749">
                        <a:moveTo>
                          <a:pt x="347" y="161"/>
                        </a:moveTo>
                        <a:cubicBezTo>
                          <a:pt x="347" y="194"/>
                          <a:pt x="347" y="240"/>
                          <a:pt x="347" y="272"/>
                        </a:cubicBezTo>
                        <a:cubicBezTo>
                          <a:pt x="347" y="304"/>
                          <a:pt x="347" y="324"/>
                          <a:pt x="347" y="353"/>
                        </a:cubicBezTo>
                        <a:cubicBezTo>
                          <a:pt x="347" y="382"/>
                          <a:pt x="347" y="428"/>
                          <a:pt x="344" y="449"/>
                        </a:cubicBezTo>
                        <a:cubicBezTo>
                          <a:pt x="341" y="470"/>
                          <a:pt x="338" y="466"/>
                          <a:pt x="328" y="478"/>
                        </a:cubicBezTo>
                        <a:cubicBezTo>
                          <a:pt x="318" y="490"/>
                          <a:pt x="302" y="506"/>
                          <a:pt x="284" y="523"/>
                        </a:cubicBezTo>
                        <a:cubicBezTo>
                          <a:pt x="266" y="539"/>
                          <a:pt x="239" y="563"/>
                          <a:pt x="221" y="581"/>
                        </a:cubicBezTo>
                        <a:cubicBezTo>
                          <a:pt x="202" y="598"/>
                          <a:pt x="194" y="607"/>
                          <a:pt x="173" y="626"/>
                        </a:cubicBezTo>
                        <a:cubicBezTo>
                          <a:pt x="152" y="644"/>
                          <a:pt x="121" y="672"/>
                          <a:pt x="95" y="692"/>
                        </a:cubicBezTo>
                        <a:cubicBezTo>
                          <a:pt x="69" y="712"/>
                          <a:pt x="28" y="749"/>
                          <a:pt x="14" y="746"/>
                        </a:cubicBezTo>
                        <a:cubicBezTo>
                          <a:pt x="0" y="743"/>
                          <a:pt x="11" y="701"/>
                          <a:pt x="11" y="674"/>
                        </a:cubicBezTo>
                        <a:cubicBezTo>
                          <a:pt x="11" y="647"/>
                          <a:pt x="13" y="612"/>
                          <a:pt x="14" y="584"/>
                        </a:cubicBezTo>
                        <a:cubicBezTo>
                          <a:pt x="15" y="556"/>
                          <a:pt x="13" y="535"/>
                          <a:pt x="14" y="506"/>
                        </a:cubicBezTo>
                        <a:cubicBezTo>
                          <a:pt x="15" y="477"/>
                          <a:pt x="16" y="445"/>
                          <a:pt x="17" y="410"/>
                        </a:cubicBezTo>
                        <a:cubicBezTo>
                          <a:pt x="18" y="375"/>
                          <a:pt x="12" y="322"/>
                          <a:pt x="22" y="293"/>
                        </a:cubicBezTo>
                        <a:cubicBezTo>
                          <a:pt x="32" y="264"/>
                          <a:pt x="55" y="256"/>
                          <a:pt x="75" y="238"/>
                        </a:cubicBezTo>
                        <a:cubicBezTo>
                          <a:pt x="96" y="219"/>
                          <a:pt x="119" y="205"/>
                          <a:pt x="147" y="182"/>
                        </a:cubicBezTo>
                        <a:cubicBezTo>
                          <a:pt x="174" y="160"/>
                          <a:pt x="215" y="125"/>
                          <a:pt x="241" y="102"/>
                        </a:cubicBezTo>
                        <a:cubicBezTo>
                          <a:pt x="266" y="79"/>
                          <a:pt x="285" y="57"/>
                          <a:pt x="302" y="41"/>
                        </a:cubicBezTo>
                        <a:cubicBezTo>
                          <a:pt x="319" y="26"/>
                          <a:pt x="338" y="0"/>
                          <a:pt x="346" y="5"/>
                        </a:cubicBezTo>
                        <a:cubicBezTo>
                          <a:pt x="354" y="10"/>
                          <a:pt x="350" y="45"/>
                          <a:pt x="350" y="71"/>
                        </a:cubicBezTo>
                        <a:cubicBezTo>
                          <a:pt x="350" y="97"/>
                          <a:pt x="347" y="128"/>
                          <a:pt x="347" y="1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306320" y="2588760"/>
                    <a:ext cx="624600" cy="11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771">
                        <a:moveTo>
                          <a:pt x="369" y="0"/>
                        </a:moveTo>
                        <a:cubicBezTo>
                          <a:pt x="349" y="16"/>
                          <a:pt x="288" y="71"/>
                          <a:pt x="251" y="103"/>
                        </a:cubicBezTo>
                        <a:cubicBezTo>
                          <a:pt x="214" y="135"/>
                          <a:pt x="175" y="170"/>
                          <a:pt x="147" y="195"/>
                        </a:cubicBezTo>
                        <a:cubicBezTo>
                          <a:pt x="119" y="220"/>
                          <a:pt x="99" y="237"/>
                          <a:pt x="81" y="255"/>
                        </a:cubicBezTo>
                        <a:cubicBezTo>
                          <a:pt x="63" y="273"/>
                          <a:pt x="46" y="282"/>
                          <a:pt x="36" y="306"/>
                        </a:cubicBezTo>
                        <a:cubicBezTo>
                          <a:pt x="26" y="330"/>
                          <a:pt x="25" y="366"/>
                          <a:pt x="21" y="399"/>
                        </a:cubicBezTo>
                        <a:cubicBezTo>
                          <a:pt x="17" y="432"/>
                          <a:pt x="14" y="476"/>
                          <a:pt x="12" y="507"/>
                        </a:cubicBezTo>
                        <a:cubicBezTo>
                          <a:pt x="10" y="538"/>
                          <a:pt x="10" y="559"/>
                          <a:pt x="9" y="588"/>
                        </a:cubicBezTo>
                        <a:cubicBezTo>
                          <a:pt x="8" y="617"/>
                          <a:pt x="4" y="651"/>
                          <a:pt x="3" y="681"/>
                        </a:cubicBezTo>
                        <a:cubicBezTo>
                          <a:pt x="2" y="711"/>
                          <a:pt x="1" y="752"/>
                          <a:pt x="0" y="771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1" name=""/>
                <p:cNvSpPr/>
                <p:nvPr/>
              </p:nvSpPr>
              <p:spPr>
                <a:xfrm rot="19645800">
                  <a:off x="4932720" y="3139560"/>
                  <a:ext cx="86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д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468360" y="2276640"/>
                <a:ext cx="2505960" cy="1728360"/>
                <a:chOff x="468360" y="2276640"/>
                <a:chExt cx="2505960" cy="172836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468360" y="2276640"/>
                  <a:ext cx="2311200" cy="1728360"/>
                  <a:chOff x="468360" y="2276640"/>
                  <a:chExt cx="2311200" cy="172836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546120" y="2276640"/>
                    <a:ext cx="223344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2" h="781">
                        <a:moveTo>
                          <a:pt x="393" y="9"/>
                        </a:moveTo>
                        <a:cubicBezTo>
                          <a:pt x="336" y="16"/>
                          <a:pt x="278" y="70"/>
                          <a:pt x="231" y="99"/>
                        </a:cubicBezTo>
                        <a:cubicBezTo>
                          <a:pt x="184" y="128"/>
                          <a:pt x="145" y="150"/>
                          <a:pt x="108" y="183"/>
                        </a:cubicBezTo>
                        <a:cubicBezTo>
                          <a:pt x="71" y="216"/>
                          <a:pt x="0" y="266"/>
                          <a:pt x="11" y="296"/>
                        </a:cubicBezTo>
                        <a:cubicBezTo>
                          <a:pt x="22" y="326"/>
                          <a:pt x="116" y="339"/>
                          <a:pt x="175" y="364"/>
                        </a:cubicBezTo>
                        <a:cubicBezTo>
                          <a:pt x="234" y="389"/>
                          <a:pt x="302" y="418"/>
                          <a:pt x="363" y="444"/>
                        </a:cubicBezTo>
                        <a:cubicBezTo>
                          <a:pt x="424" y="470"/>
                          <a:pt x="470" y="490"/>
                          <a:pt x="539" y="520"/>
                        </a:cubicBezTo>
                        <a:cubicBezTo>
                          <a:pt x="608" y="550"/>
                          <a:pt x="707" y="593"/>
                          <a:pt x="779" y="624"/>
                        </a:cubicBezTo>
                        <a:cubicBezTo>
                          <a:pt x="851" y="655"/>
                          <a:pt x="913" y="681"/>
                          <a:pt x="971" y="704"/>
                        </a:cubicBezTo>
                        <a:cubicBezTo>
                          <a:pt x="1029" y="727"/>
                          <a:pt x="1094" y="747"/>
                          <a:pt x="1127" y="760"/>
                        </a:cubicBezTo>
                        <a:cubicBezTo>
                          <a:pt x="1160" y="773"/>
                          <a:pt x="1158" y="779"/>
                          <a:pt x="1167" y="780"/>
                        </a:cubicBezTo>
                        <a:cubicBezTo>
                          <a:pt x="1176" y="781"/>
                          <a:pt x="1161" y="781"/>
                          <a:pt x="1183" y="764"/>
                        </a:cubicBezTo>
                        <a:cubicBezTo>
                          <a:pt x="1205" y="747"/>
                          <a:pt x="1252" y="715"/>
                          <a:pt x="1299" y="680"/>
                        </a:cubicBezTo>
                        <a:cubicBezTo>
                          <a:pt x="1346" y="645"/>
                          <a:pt x="1424" y="592"/>
                          <a:pt x="1463" y="556"/>
                        </a:cubicBezTo>
                        <a:cubicBezTo>
                          <a:pt x="1502" y="520"/>
                          <a:pt x="1552" y="498"/>
                          <a:pt x="1531" y="464"/>
                        </a:cubicBezTo>
                        <a:cubicBezTo>
                          <a:pt x="1510" y="430"/>
                          <a:pt x="1403" y="384"/>
                          <a:pt x="1339" y="352"/>
                        </a:cubicBezTo>
                        <a:cubicBezTo>
                          <a:pt x="1275" y="320"/>
                          <a:pt x="1229" y="305"/>
                          <a:pt x="1147" y="272"/>
                        </a:cubicBezTo>
                        <a:cubicBezTo>
                          <a:pt x="1065" y="239"/>
                          <a:pt x="943" y="192"/>
                          <a:pt x="847" y="156"/>
                        </a:cubicBezTo>
                        <a:cubicBezTo>
                          <a:pt x="751" y="120"/>
                          <a:pt x="649" y="81"/>
                          <a:pt x="573" y="57"/>
                        </a:cubicBezTo>
                        <a:cubicBezTo>
                          <a:pt x="497" y="33"/>
                          <a:pt x="449" y="0"/>
                          <a:pt x="393" y="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68360" y="2644560"/>
                    <a:ext cx="1757520" cy="13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2" h="1007">
                        <a:moveTo>
                          <a:pt x="276" y="111"/>
                        </a:moveTo>
                        <a:cubicBezTo>
                          <a:pt x="198" y="85"/>
                          <a:pt x="149" y="61"/>
                          <a:pt x="111" y="47"/>
                        </a:cubicBezTo>
                        <a:cubicBezTo>
                          <a:pt x="73" y="33"/>
                          <a:pt x="62" y="0"/>
                          <a:pt x="47" y="26"/>
                        </a:cubicBezTo>
                        <a:cubicBezTo>
                          <a:pt x="32" y="53"/>
                          <a:pt x="27" y="154"/>
                          <a:pt x="23" y="205"/>
                        </a:cubicBezTo>
                        <a:cubicBezTo>
                          <a:pt x="19" y="256"/>
                          <a:pt x="20" y="285"/>
                          <a:pt x="20" y="331"/>
                        </a:cubicBezTo>
                        <a:cubicBezTo>
                          <a:pt x="20" y="377"/>
                          <a:pt x="0" y="446"/>
                          <a:pt x="20" y="483"/>
                        </a:cubicBezTo>
                        <a:cubicBezTo>
                          <a:pt x="40" y="520"/>
                          <a:pt x="93" y="527"/>
                          <a:pt x="140" y="551"/>
                        </a:cubicBezTo>
                        <a:cubicBezTo>
                          <a:pt x="187" y="575"/>
                          <a:pt x="251" y="602"/>
                          <a:pt x="304" y="627"/>
                        </a:cubicBezTo>
                        <a:cubicBezTo>
                          <a:pt x="357" y="652"/>
                          <a:pt x="409" y="681"/>
                          <a:pt x="456" y="703"/>
                        </a:cubicBezTo>
                        <a:cubicBezTo>
                          <a:pt x="503" y="725"/>
                          <a:pt x="542" y="738"/>
                          <a:pt x="588" y="759"/>
                        </a:cubicBezTo>
                        <a:cubicBezTo>
                          <a:pt x="634" y="780"/>
                          <a:pt x="678" y="803"/>
                          <a:pt x="732" y="827"/>
                        </a:cubicBezTo>
                        <a:cubicBezTo>
                          <a:pt x="786" y="851"/>
                          <a:pt x="862" y="882"/>
                          <a:pt x="912" y="903"/>
                        </a:cubicBezTo>
                        <a:cubicBezTo>
                          <a:pt x="962" y="924"/>
                          <a:pt x="1002" y="939"/>
                          <a:pt x="1032" y="951"/>
                        </a:cubicBezTo>
                        <a:cubicBezTo>
                          <a:pt x="1062" y="963"/>
                          <a:pt x="1066" y="966"/>
                          <a:pt x="1095" y="973"/>
                        </a:cubicBezTo>
                        <a:cubicBezTo>
                          <a:pt x="1124" y="980"/>
                          <a:pt x="1186" y="1007"/>
                          <a:pt x="1204" y="995"/>
                        </a:cubicBezTo>
                        <a:cubicBezTo>
                          <a:pt x="1222" y="983"/>
                          <a:pt x="1203" y="938"/>
                          <a:pt x="1204" y="903"/>
                        </a:cubicBezTo>
                        <a:cubicBezTo>
                          <a:pt x="1205" y="868"/>
                          <a:pt x="1207" y="824"/>
                          <a:pt x="1208" y="787"/>
                        </a:cubicBezTo>
                        <a:cubicBezTo>
                          <a:pt x="1209" y="750"/>
                          <a:pt x="1211" y="719"/>
                          <a:pt x="1212" y="683"/>
                        </a:cubicBezTo>
                        <a:cubicBezTo>
                          <a:pt x="1213" y="647"/>
                          <a:pt x="1213" y="602"/>
                          <a:pt x="1212" y="571"/>
                        </a:cubicBezTo>
                        <a:cubicBezTo>
                          <a:pt x="1211" y="540"/>
                          <a:pt x="1219" y="515"/>
                          <a:pt x="1208" y="499"/>
                        </a:cubicBezTo>
                        <a:cubicBezTo>
                          <a:pt x="1197" y="483"/>
                          <a:pt x="1183" y="490"/>
                          <a:pt x="1144" y="475"/>
                        </a:cubicBezTo>
                        <a:cubicBezTo>
                          <a:pt x="1105" y="460"/>
                          <a:pt x="1042" y="438"/>
                          <a:pt x="976" y="411"/>
                        </a:cubicBezTo>
                        <a:cubicBezTo>
                          <a:pt x="910" y="384"/>
                          <a:pt x="821" y="346"/>
                          <a:pt x="748" y="315"/>
                        </a:cubicBezTo>
                        <a:cubicBezTo>
                          <a:pt x="675" y="284"/>
                          <a:pt x="615" y="257"/>
                          <a:pt x="536" y="223"/>
                        </a:cubicBezTo>
                        <a:cubicBezTo>
                          <a:pt x="457" y="189"/>
                          <a:pt x="330" y="134"/>
                          <a:pt x="276" y="11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52800" y="2893680"/>
                    <a:ext cx="599760" cy="10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749">
                        <a:moveTo>
                          <a:pt x="347" y="161"/>
                        </a:moveTo>
                        <a:cubicBezTo>
                          <a:pt x="347" y="194"/>
                          <a:pt x="347" y="240"/>
                          <a:pt x="347" y="272"/>
                        </a:cubicBezTo>
                        <a:cubicBezTo>
                          <a:pt x="347" y="304"/>
                          <a:pt x="347" y="324"/>
                          <a:pt x="347" y="353"/>
                        </a:cubicBezTo>
                        <a:cubicBezTo>
                          <a:pt x="347" y="382"/>
                          <a:pt x="347" y="428"/>
                          <a:pt x="344" y="449"/>
                        </a:cubicBezTo>
                        <a:cubicBezTo>
                          <a:pt x="341" y="470"/>
                          <a:pt x="338" y="466"/>
                          <a:pt x="328" y="478"/>
                        </a:cubicBezTo>
                        <a:cubicBezTo>
                          <a:pt x="318" y="490"/>
                          <a:pt x="302" y="506"/>
                          <a:pt x="284" y="523"/>
                        </a:cubicBezTo>
                        <a:cubicBezTo>
                          <a:pt x="266" y="539"/>
                          <a:pt x="239" y="563"/>
                          <a:pt x="221" y="581"/>
                        </a:cubicBezTo>
                        <a:cubicBezTo>
                          <a:pt x="202" y="598"/>
                          <a:pt x="194" y="607"/>
                          <a:pt x="173" y="626"/>
                        </a:cubicBezTo>
                        <a:cubicBezTo>
                          <a:pt x="152" y="644"/>
                          <a:pt x="121" y="672"/>
                          <a:pt x="95" y="692"/>
                        </a:cubicBezTo>
                        <a:cubicBezTo>
                          <a:pt x="69" y="712"/>
                          <a:pt x="28" y="749"/>
                          <a:pt x="14" y="746"/>
                        </a:cubicBezTo>
                        <a:cubicBezTo>
                          <a:pt x="0" y="743"/>
                          <a:pt x="11" y="701"/>
                          <a:pt x="11" y="674"/>
                        </a:cubicBezTo>
                        <a:cubicBezTo>
                          <a:pt x="11" y="647"/>
                          <a:pt x="13" y="612"/>
                          <a:pt x="14" y="584"/>
                        </a:cubicBezTo>
                        <a:cubicBezTo>
                          <a:pt x="15" y="556"/>
                          <a:pt x="13" y="535"/>
                          <a:pt x="14" y="506"/>
                        </a:cubicBezTo>
                        <a:cubicBezTo>
                          <a:pt x="15" y="477"/>
                          <a:pt x="16" y="445"/>
                          <a:pt x="17" y="410"/>
                        </a:cubicBezTo>
                        <a:cubicBezTo>
                          <a:pt x="18" y="375"/>
                          <a:pt x="12" y="322"/>
                          <a:pt x="22" y="293"/>
                        </a:cubicBezTo>
                        <a:cubicBezTo>
                          <a:pt x="32" y="264"/>
                          <a:pt x="55" y="256"/>
                          <a:pt x="75" y="238"/>
                        </a:cubicBezTo>
                        <a:cubicBezTo>
                          <a:pt x="96" y="219"/>
                          <a:pt x="119" y="205"/>
                          <a:pt x="147" y="182"/>
                        </a:cubicBezTo>
                        <a:cubicBezTo>
                          <a:pt x="174" y="160"/>
                          <a:pt x="215" y="125"/>
                          <a:pt x="241" y="102"/>
                        </a:cubicBezTo>
                        <a:cubicBezTo>
                          <a:pt x="266" y="79"/>
                          <a:pt x="285" y="57"/>
                          <a:pt x="302" y="41"/>
                        </a:cubicBezTo>
                        <a:cubicBezTo>
                          <a:pt x="319" y="26"/>
                          <a:pt x="338" y="0"/>
                          <a:pt x="346" y="5"/>
                        </a:cubicBezTo>
                        <a:cubicBezTo>
                          <a:pt x="354" y="10"/>
                          <a:pt x="350" y="45"/>
                          <a:pt x="350" y="71"/>
                        </a:cubicBezTo>
                        <a:cubicBezTo>
                          <a:pt x="350" y="97"/>
                          <a:pt x="347" y="128"/>
                          <a:pt x="347" y="1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1426680" y="2588760"/>
                    <a:ext cx="624600" cy="11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771">
                        <a:moveTo>
                          <a:pt x="369" y="0"/>
                        </a:moveTo>
                        <a:cubicBezTo>
                          <a:pt x="349" y="16"/>
                          <a:pt x="288" y="71"/>
                          <a:pt x="251" y="103"/>
                        </a:cubicBezTo>
                        <a:cubicBezTo>
                          <a:pt x="214" y="135"/>
                          <a:pt x="175" y="170"/>
                          <a:pt x="147" y="195"/>
                        </a:cubicBezTo>
                        <a:cubicBezTo>
                          <a:pt x="119" y="220"/>
                          <a:pt x="99" y="237"/>
                          <a:pt x="81" y="255"/>
                        </a:cubicBezTo>
                        <a:cubicBezTo>
                          <a:pt x="63" y="273"/>
                          <a:pt x="46" y="282"/>
                          <a:pt x="36" y="306"/>
                        </a:cubicBezTo>
                        <a:cubicBezTo>
                          <a:pt x="26" y="330"/>
                          <a:pt x="25" y="366"/>
                          <a:pt x="21" y="399"/>
                        </a:cubicBezTo>
                        <a:cubicBezTo>
                          <a:pt x="17" y="432"/>
                          <a:pt x="14" y="476"/>
                          <a:pt x="12" y="507"/>
                        </a:cubicBezTo>
                        <a:cubicBezTo>
                          <a:pt x="10" y="538"/>
                          <a:pt x="10" y="559"/>
                          <a:pt x="9" y="588"/>
                        </a:cubicBezTo>
                        <a:cubicBezTo>
                          <a:pt x="8" y="617"/>
                          <a:pt x="4" y="651"/>
                          <a:pt x="3" y="681"/>
                        </a:cubicBezTo>
                        <a:cubicBezTo>
                          <a:pt x="2" y="711"/>
                          <a:pt x="1" y="752"/>
                          <a:pt x="0" y="771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"/>
                <p:cNvSpPr/>
                <p:nvPr/>
              </p:nvSpPr>
              <p:spPr>
                <a:xfrm rot="19645800">
                  <a:off x="2053080" y="3141000"/>
                  <a:ext cx="86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д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156360" y="2349360"/>
                <a:ext cx="2503800" cy="1728360"/>
                <a:chOff x="6156360" y="2349360"/>
                <a:chExt cx="2503800" cy="172836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6156360" y="2349360"/>
                  <a:ext cx="2310840" cy="1728360"/>
                  <a:chOff x="6156360" y="2349360"/>
                  <a:chExt cx="2310840" cy="1728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6234120" y="2349360"/>
                    <a:ext cx="223308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2" h="781">
                        <a:moveTo>
                          <a:pt x="393" y="9"/>
                        </a:moveTo>
                        <a:cubicBezTo>
                          <a:pt x="336" y="16"/>
                          <a:pt x="278" y="70"/>
                          <a:pt x="231" y="99"/>
                        </a:cubicBezTo>
                        <a:cubicBezTo>
                          <a:pt x="184" y="128"/>
                          <a:pt x="145" y="150"/>
                          <a:pt x="108" y="183"/>
                        </a:cubicBezTo>
                        <a:cubicBezTo>
                          <a:pt x="71" y="216"/>
                          <a:pt x="0" y="266"/>
                          <a:pt x="11" y="296"/>
                        </a:cubicBezTo>
                        <a:cubicBezTo>
                          <a:pt x="22" y="326"/>
                          <a:pt x="116" y="339"/>
                          <a:pt x="175" y="364"/>
                        </a:cubicBezTo>
                        <a:cubicBezTo>
                          <a:pt x="234" y="389"/>
                          <a:pt x="302" y="418"/>
                          <a:pt x="363" y="444"/>
                        </a:cubicBezTo>
                        <a:cubicBezTo>
                          <a:pt x="424" y="470"/>
                          <a:pt x="470" y="490"/>
                          <a:pt x="539" y="520"/>
                        </a:cubicBezTo>
                        <a:cubicBezTo>
                          <a:pt x="608" y="550"/>
                          <a:pt x="707" y="593"/>
                          <a:pt x="779" y="624"/>
                        </a:cubicBezTo>
                        <a:cubicBezTo>
                          <a:pt x="851" y="655"/>
                          <a:pt x="913" y="681"/>
                          <a:pt x="971" y="704"/>
                        </a:cubicBezTo>
                        <a:cubicBezTo>
                          <a:pt x="1029" y="727"/>
                          <a:pt x="1094" y="747"/>
                          <a:pt x="1127" y="760"/>
                        </a:cubicBezTo>
                        <a:cubicBezTo>
                          <a:pt x="1160" y="773"/>
                          <a:pt x="1158" y="779"/>
                          <a:pt x="1167" y="780"/>
                        </a:cubicBezTo>
                        <a:cubicBezTo>
                          <a:pt x="1176" y="781"/>
                          <a:pt x="1161" y="781"/>
                          <a:pt x="1183" y="764"/>
                        </a:cubicBezTo>
                        <a:cubicBezTo>
                          <a:pt x="1205" y="747"/>
                          <a:pt x="1252" y="715"/>
                          <a:pt x="1299" y="680"/>
                        </a:cubicBezTo>
                        <a:cubicBezTo>
                          <a:pt x="1346" y="645"/>
                          <a:pt x="1424" y="592"/>
                          <a:pt x="1463" y="556"/>
                        </a:cubicBezTo>
                        <a:cubicBezTo>
                          <a:pt x="1502" y="520"/>
                          <a:pt x="1552" y="498"/>
                          <a:pt x="1531" y="464"/>
                        </a:cubicBezTo>
                        <a:cubicBezTo>
                          <a:pt x="1510" y="430"/>
                          <a:pt x="1403" y="384"/>
                          <a:pt x="1339" y="352"/>
                        </a:cubicBezTo>
                        <a:cubicBezTo>
                          <a:pt x="1275" y="320"/>
                          <a:pt x="1229" y="305"/>
                          <a:pt x="1147" y="272"/>
                        </a:cubicBezTo>
                        <a:cubicBezTo>
                          <a:pt x="1065" y="239"/>
                          <a:pt x="943" y="192"/>
                          <a:pt x="847" y="156"/>
                        </a:cubicBezTo>
                        <a:cubicBezTo>
                          <a:pt x="751" y="120"/>
                          <a:pt x="649" y="81"/>
                          <a:pt x="573" y="57"/>
                        </a:cubicBezTo>
                        <a:cubicBezTo>
                          <a:pt x="497" y="33"/>
                          <a:pt x="449" y="0"/>
                          <a:pt x="393" y="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6156360" y="2717280"/>
                    <a:ext cx="1757160" cy="13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2" h="1007">
                        <a:moveTo>
                          <a:pt x="276" y="111"/>
                        </a:moveTo>
                        <a:cubicBezTo>
                          <a:pt x="198" y="85"/>
                          <a:pt x="149" y="61"/>
                          <a:pt x="111" y="47"/>
                        </a:cubicBezTo>
                        <a:cubicBezTo>
                          <a:pt x="73" y="33"/>
                          <a:pt x="62" y="0"/>
                          <a:pt x="47" y="26"/>
                        </a:cubicBezTo>
                        <a:cubicBezTo>
                          <a:pt x="32" y="53"/>
                          <a:pt x="27" y="154"/>
                          <a:pt x="23" y="205"/>
                        </a:cubicBezTo>
                        <a:cubicBezTo>
                          <a:pt x="19" y="256"/>
                          <a:pt x="20" y="285"/>
                          <a:pt x="20" y="331"/>
                        </a:cubicBezTo>
                        <a:cubicBezTo>
                          <a:pt x="20" y="377"/>
                          <a:pt x="0" y="446"/>
                          <a:pt x="20" y="483"/>
                        </a:cubicBezTo>
                        <a:cubicBezTo>
                          <a:pt x="40" y="520"/>
                          <a:pt x="93" y="527"/>
                          <a:pt x="140" y="551"/>
                        </a:cubicBezTo>
                        <a:cubicBezTo>
                          <a:pt x="187" y="575"/>
                          <a:pt x="251" y="602"/>
                          <a:pt x="304" y="627"/>
                        </a:cubicBezTo>
                        <a:cubicBezTo>
                          <a:pt x="357" y="652"/>
                          <a:pt x="409" y="681"/>
                          <a:pt x="456" y="703"/>
                        </a:cubicBezTo>
                        <a:cubicBezTo>
                          <a:pt x="503" y="725"/>
                          <a:pt x="542" y="738"/>
                          <a:pt x="588" y="759"/>
                        </a:cubicBezTo>
                        <a:cubicBezTo>
                          <a:pt x="634" y="780"/>
                          <a:pt x="678" y="803"/>
                          <a:pt x="732" y="827"/>
                        </a:cubicBezTo>
                        <a:cubicBezTo>
                          <a:pt x="786" y="851"/>
                          <a:pt x="862" y="882"/>
                          <a:pt x="912" y="903"/>
                        </a:cubicBezTo>
                        <a:cubicBezTo>
                          <a:pt x="962" y="924"/>
                          <a:pt x="1002" y="939"/>
                          <a:pt x="1032" y="951"/>
                        </a:cubicBezTo>
                        <a:cubicBezTo>
                          <a:pt x="1062" y="963"/>
                          <a:pt x="1066" y="966"/>
                          <a:pt x="1095" y="973"/>
                        </a:cubicBezTo>
                        <a:cubicBezTo>
                          <a:pt x="1124" y="980"/>
                          <a:pt x="1186" y="1007"/>
                          <a:pt x="1204" y="995"/>
                        </a:cubicBezTo>
                        <a:cubicBezTo>
                          <a:pt x="1222" y="983"/>
                          <a:pt x="1203" y="938"/>
                          <a:pt x="1204" y="903"/>
                        </a:cubicBezTo>
                        <a:cubicBezTo>
                          <a:pt x="1205" y="868"/>
                          <a:pt x="1207" y="824"/>
                          <a:pt x="1208" y="787"/>
                        </a:cubicBezTo>
                        <a:cubicBezTo>
                          <a:pt x="1209" y="750"/>
                          <a:pt x="1211" y="719"/>
                          <a:pt x="1212" y="683"/>
                        </a:cubicBezTo>
                        <a:cubicBezTo>
                          <a:pt x="1213" y="647"/>
                          <a:pt x="1213" y="602"/>
                          <a:pt x="1212" y="571"/>
                        </a:cubicBezTo>
                        <a:cubicBezTo>
                          <a:pt x="1211" y="540"/>
                          <a:pt x="1219" y="515"/>
                          <a:pt x="1208" y="499"/>
                        </a:cubicBezTo>
                        <a:cubicBezTo>
                          <a:pt x="1197" y="483"/>
                          <a:pt x="1183" y="490"/>
                          <a:pt x="1144" y="475"/>
                        </a:cubicBezTo>
                        <a:cubicBezTo>
                          <a:pt x="1105" y="460"/>
                          <a:pt x="1042" y="438"/>
                          <a:pt x="976" y="411"/>
                        </a:cubicBezTo>
                        <a:cubicBezTo>
                          <a:pt x="910" y="384"/>
                          <a:pt x="821" y="346"/>
                          <a:pt x="748" y="315"/>
                        </a:cubicBezTo>
                        <a:cubicBezTo>
                          <a:pt x="675" y="284"/>
                          <a:pt x="615" y="257"/>
                          <a:pt x="536" y="223"/>
                        </a:cubicBezTo>
                        <a:cubicBezTo>
                          <a:pt x="457" y="189"/>
                          <a:pt x="330" y="134"/>
                          <a:pt x="276" y="11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840800" y="2966400"/>
                    <a:ext cx="599760" cy="10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749">
                        <a:moveTo>
                          <a:pt x="347" y="161"/>
                        </a:moveTo>
                        <a:cubicBezTo>
                          <a:pt x="347" y="194"/>
                          <a:pt x="347" y="240"/>
                          <a:pt x="347" y="272"/>
                        </a:cubicBezTo>
                        <a:cubicBezTo>
                          <a:pt x="347" y="304"/>
                          <a:pt x="347" y="324"/>
                          <a:pt x="347" y="353"/>
                        </a:cubicBezTo>
                        <a:cubicBezTo>
                          <a:pt x="347" y="382"/>
                          <a:pt x="347" y="428"/>
                          <a:pt x="344" y="449"/>
                        </a:cubicBezTo>
                        <a:cubicBezTo>
                          <a:pt x="341" y="470"/>
                          <a:pt x="338" y="466"/>
                          <a:pt x="328" y="478"/>
                        </a:cubicBezTo>
                        <a:cubicBezTo>
                          <a:pt x="318" y="490"/>
                          <a:pt x="302" y="506"/>
                          <a:pt x="284" y="523"/>
                        </a:cubicBezTo>
                        <a:cubicBezTo>
                          <a:pt x="266" y="539"/>
                          <a:pt x="239" y="563"/>
                          <a:pt x="221" y="581"/>
                        </a:cubicBezTo>
                        <a:cubicBezTo>
                          <a:pt x="202" y="598"/>
                          <a:pt x="194" y="607"/>
                          <a:pt x="173" y="626"/>
                        </a:cubicBezTo>
                        <a:cubicBezTo>
                          <a:pt x="152" y="644"/>
                          <a:pt x="121" y="672"/>
                          <a:pt x="95" y="692"/>
                        </a:cubicBezTo>
                        <a:cubicBezTo>
                          <a:pt x="69" y="712"/>
                          <a:pt x="28" y="749"/>
                          <a:pt x="14" y="746"/>
                        </a:cubicBezTo>
                        <a:cubicBezTo>
                          <a:pt x="0" y="743"/>
                          <a:pt x="11" y="701"/>
                          <a:pt x="11" y="674"/>
                        </a:cubicBezTo>
                        <a:cubicBezTo>
                          <a:pt x="11" y="647"/>
                          <a:pt x="13" y="612"/>
                          <a:pt x="14" y="584"/>
                        </a:cubicBezTo>
                        <a:cubicBezTo>
                          <a:pt x="15" y="556"/>
                          <a:pt x="13" y="535"/>
                          <a:pt x="14" y="506"/>
                        </a:cubicBezTo>
                        <a:cubicBezTo>
                          <a:pt x="15" y="477"/>
                          <a:pt x="16" y="445"/>
                          <a:pt x="17" y="410"/>
                        </a:cubicBezTo>
                        <a:cubicBezTo>
                          <a:pt x="18" y="375"/>
                          <a:pt x="12" y="322"/>
                          <a:pt x="22" y="293"/>
                        </a:cubicBezTo>
                        <a:cubicBezTo>
                          <a:pt x="32" y="264"/>
                          <a:pt x="55" y="256"/>
                          <a:pt x="75" y="238"/>
                        </a:cubicBezTo>
                        <a:cubicBezTo>
                          <a:pt x="96" y="219"/>
                          <a:pt x="119" y="205"/>
                          <a:pt x="147" y="182"/>
                        </a:cubicBezTo>
                        <a:cubicBezTo>
                          <a:pt x="174" y="160"/>
                          <a:pt x="215" y="125"/>
                          <a:pt x="241" y="102"/>
                        </a:cubicBezTo>
                        <a:cubicBezTo>
                          <a:pt x="266" y="79"/>
                          <a:pt x="285" y="57"/>
                          <a:pt x="302" y="41"/>
                        </a:cubicBezTo>
                        <a:cubicBezTo>
                          <a:pt x="319" y="26"/>
                          <a:pt x="338" y="0"/>
                          <a:pt x="346" y="5"/>
                        </a:cubicBezTo>
                        <a:cubicBezTo>
                          <a:pt x="354" y="10"/>
                          <a:pt x="350" y="45"/>
                          <a:pt x="350" y="71"/>
                        </a:cubicBezTo>
                        <a:cubicBezTo>
                          <a:pt x="350" y="97"/>
                          <a:pt x="347" y="128"/>
                          <a:pt x="347" y="1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114680" y="2661480"/>
                    <a:ext cx="624600" cy="11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771">
                        <a:moveTo>
                          <a:pt x="369" y="0"/>
                        </a:moveTo>
                        <a:cubicBezTo>
                          <a:pt x="349" y="16"/>
                          <a:pt x="288" y="71"/>
                          <a:pt x="251" y="103"/>
                        </a:cubicBezTo>
                        <a:cubicBezTo>
                          <a:pt x="214" y="135"/>
                          <a:pt x="175" y="170"/>
                          <a:pt x="147" y="195"/>
                        </a:cubicBezTo>
                        <a:cubicBezTo>
                          <a:pt x="119" y="220"/>
                          <a:pt x="99" y="237"/>
                          <a:pt x="81" y="255"/>
                        </a:cubicBezTo>
                        <a:cubicBezTo>
                          <a:pt x="63" y="273"/>
                          <a:pt x="46" y="282"/>
                          <a:pt x="36" y="306"/>
                        </a:cubicBezTo>
                        <a:cubicBezTo>
                          <a:pt x="26" y="330"/>
                          <a:pt x="25" y="366"/>
                          <a:pt x="21" y="399"/>
                        </a:cubicBezTo>
                        <a:cubicBezTo>
                          <a:pt x="17" y="432"/>
                          <a:pt x="14" y="476"/>
                          <a:pt x="12" y="507"/>
                        </a:cubicBezTo>
                        <a:cubicBezTo>
                          <a:pt x="10" y="538"/>
                          <a:pt x="10" y="559"/>
                          <a:pt x="9" y="588"/>
                        </a:cubicBezTo>
                        <a:cubicBezTo>
                          <a:pt x="8" y="617"/>
                          <a:pt x="4" y="651"/>
                          <a:pt x="3" y="681"/>
                        </a:cubicBezTo>
                        <a:cubicBezTo>
                          <a:pt x="2" y="711"/>
                          <a:pt x="1" y="752"/>
                          <a:pt x="0" y="771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 rot="19501800">
                  <a:off x="7741080" y="3213720"/>
                  <a:ext cx="86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д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" name=""/>
            <p:cNvSpPr/>
            <p:nvPr/>
          </p:nvSpPr>
          <p:spPr>
            <a:xfrm rot="1279800">
              <a:off x="1402560" y="3284640"/>
              <a:ext cx="81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137000">
              <a:off x="4284360" y="32842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152000">
              <a:off x="7092360" y="3357360"/>
              <a:ext cx="81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39640" y="4437000"/>
            <a:ext cx="8064720" cy="16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393372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64000" y="393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+3)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00720" y="393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+(х+3))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11640" y="2708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4(х+3)к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93080" y="2781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3(2х+3)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60280"/>
            <a:ext cx="8496000" cy="18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ервый сплав содержит 10% меди, второй – 40% ме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Масса второго сплава больше массы первого на 3к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з этих двух сплавов получили третий сплав, содержа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30% меди. Найдите массу третьего спл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Ответ дайте в килограммах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6036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1х к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84360" y="4941720"/>
                <a:ext cx="41036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,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84360" y="5516640"/>
                <a:ext cx="410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,2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219640" y="4508640"/>
                <a:ext cx="31687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0,6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,9</m:t>
                    </m:r>
                    <m:r>
                      <m:t xml:space="preserve">−</m:t>
                    </m:r>
                    <m:r>
                      <m:t xml:space="preserve">1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732720" y="4941720"/>
                <a:ext cx="7268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084720" y="5445000"/>
                <a:ext cx="1995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79640" y="4437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сса меди в первом сплаве 0,1х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49417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 втором – 0,4(х+3)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08000" y="544500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третьем – 0,3(2х+3)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5640" y="443700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лучим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7000"/>
                            </p:stCondLst>
                            <p:childTnLst>
                              <p:par>
                                <p:cTn id="7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8:42:21Z</dcterms:created>
  <dc:creator>Алекс</dc:creator>
  <dc:description/>
  <dc:language>en-US</dc:language>
  <cp:lastModifiedBy>Алекс</cp:lastModifiedBy>
  <dcterms:modified xsi:type="dcterms:W3CDTF">2012-05-03T19:57:36Z</dcterms:modified>
  <cp:revision>53</cp:revision>
  <dc:subject/>
  <dc:title>Слайд 1</dc:title>
</cp:coreProperties>
</file>