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7926-EBD2-4F79-A8B1-43D3734B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35F8-2EF6-4E08-BDAC-40F3D34B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BC4F-27D2-475B-B4C8-0A1AEE8B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37F0-083B-4A64-A18B-B5D945F3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88C7-FD56-4E3C-8D66-D15CA4C4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289A-617B-4DE2-B4B6-A05471F7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852B-0EA0-4253-97C2-2D1175AA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FF73-5216-4105-A442-C8F79FE9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524F-4D5B-49F5-833C-059F6C6B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C58B-9591-4A6F-BE02-253FBD08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298D-90C9-44F5-A5EB-F62A9C36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06313-8DE8-4C1A-8BC1-97F4AB4C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183D-FCE5-497E-8356-8B62DDFF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980A-EF72-4C12-BA8A-2332D77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2E70-C0C7-4A5D-80F4-180C85D6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5D1A-C1B1-498F-A9E6-B3683961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9295-5FBA-40CE-978E-00C81E6A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EEB8-4E4F-415A-B87D-9B18F1DA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C52C-26CC-42C5-A4C7-377593F7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CBF1-F701-4FEC-A9C0-940738CB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0F3B-AE56-478F-A316-7902C8B5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10FC-DE1B-4ACA-AFA2-C9D6AB1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195E-0D1B-482B-B33A-58EF5B12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59C7-E35D-4C08-8317-B0C2B70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868E-BAC3-4190-97D6-ED538DD140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prstGeom prst="pie">
              <a:avLst/>
            </a:pr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8960"/>
            <a:ext cx="7314840" cy="4571640"/>
            <a:chOff x="914760" y="1218960"/>
            <a:chExt cx="7314840" cy="457164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1760" y="1218960"/>
              <a:ext cx="865800" cy="4551120"/>
              <a:chOff x="1121760" y="1218960"/>
              <a:chExt cx="865800" cy="455112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1760" y="122796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2200" y="1218960"/>
                <a:ext cx="0" cy="45241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8840" y="1243080"/>
                <a:ext cx="0" cy="45270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87560" y="1243080"/>
                <a:ext cx="0" cy="45270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0640"/>
              <a:ext cx="7314840" cy="4095000"/>
              <a:chOff x="914760" y="1430640"/>
              <a:chExt cx="7314840" cy="409500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0640"/>
                <a:ext cx="7300440" cy="821520"/>
                <a:chOff x="914760" y="1430640"/>
                <a:chExt cx="730044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0640"/>
                  <a:ext cx="7229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6400" y="170676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3200" y="197820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160" y="225216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29520" y="2506680"/>
                <a:ext cx="7300080" cy="828000"/>
                <a:chOff x="929520" y="2506680"/>
                <a:chExt cx="7300080" cy="82800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29520" y="2506680"/>
                  <a:ext cx="72284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0800" y="27892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1200" y="30574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3560" y="33346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2320"/>
                <a:ext cx="7300440" cy="819000"/>
                <a:chOff x="914760" y="3622320"/>
                <a:chExt cx="7300440" cy="81900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2320"/>
                  <a:ext cx="7229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6400" y="389484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3200" y="41662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160" y="444132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29520" y="4703040"/>
                <a:ext cx="7300080" cy="822600"/>
                <a:chOff x="929520" y="4703040"/>
                <a:chExt cx="7300080" cy="82260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29520" y="4703040"/>
                  <a:ext cx="72284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0800" y="498024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1200" y="52516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3560" y="552564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2840" y="1243080"/>
              <a:ext cx="865800" cy="4547520"/>
              <a:chOff x="2292840" y="1243080"/>
              <a:chExt cx="86580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2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32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699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86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0480" y="1243080"/>
              <a:ext cx="865800" cy="4547520"/>
              <a:chOff x="3480480" y="1243080"/>
              <a:chExt cx="86580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04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91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7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62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8120" y="1243080"/>
              <a:ext cx="865800" cy="4547520"/>
              <a:chOff x="4668120" y="1243080"/>
              <a:chExt cx="86580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81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67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2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39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10400" y="1243080"/>
              <a:ext cx="860040" cy="4547520"/>
              <a:chOff x="5810400" y="1243080"/>
              <a:chExt cx="86004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104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817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704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7800" y="1243080"/>
              <a:ext cx="865800" cy="4547520"/>
              <a:chOff x="6967800" y="1243080"/>
              <a:chExt cx="86580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7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64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42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336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F107-41C5-4BFB-B042-D8FDCA16C2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на тему «Сложение и вычитание в столбик в пределах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подготовлена учителем начальных классов Авериной Натальей Кирилл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в столб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пределах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жение и вычита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 перехода через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1397160"/>
          <a:ext cx="6096240" cy="46227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Box 6"/>
          <p:cNvSpPr/>
          <p:nvPr/>
        </p:nvSpPr>
        <p:spPr>
          <a:xfrm>
            <a:off x="2590920" y="2438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908360" y="26668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2597760" y="30481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9"/>
          <p:cNvSpPr/>
          <p:nvPr/>
        </p:nvSpPr>
        <p:spPr>
          <a:xfrm>
            <a:off x="2286000" y="373392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5645520" y="24382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5032080" y="25146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5638680" y="297180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5"/>
          <p:cNvSpPr/>
          <p:nvPr/>
        </p:nvSpPr>
        <p:spPr>
          <a:xfrm>
            <a:off x="5334120" y="3657600"/>
            <a:ext cx="1447560" cy="7632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2971800" y="36576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2590920" y="3657600"/>
            <a:ext cx="4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6023880" y="36576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5638680" y="365760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жение и вычита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ереходом через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3880" y="1600200"/>
          <a:ext cx="6172200" cy="4724280"/>
        </p:xfrm>
        <a:graphic>
          <a:graphicData uri="http://schemas.openxmlformats.org/drawingml/2006/table">
            <a:tbl>
              <a:tblPr/>
              <a:tblGrid>
                <a:gridCol w="771480"/>
                <a:gridCol w="771840"/>
                <a:gridCol w="771480"/>
                <a:gridCol w="771480"/>
                <a:gridCol w="771480"/>
                <a:gridCol w="771480"/>
                <a:gridCol w="771480"/>
                <a:gridCol w="7714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2673720" y="213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908360" y="2362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2666880" y="266688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7"/>
          <p:cNvSpPr/>
          <p:nvPr/>
        </p:nvSpPr>
        <p:spPr>
          <a:xfrm>
            <a:off x="2286000" y="3352680"/>
            <a:ext cx="152388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5721840" y="213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4956480" y="2362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5721840" y="2666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11"/>
          <p:cNvSpPr/>
          <p:nvPr/>
        </p:nvSpPr>
        <p:spPr>
          <a:xfrm>
            <a:off x="5410080" y="335268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2743200" y="1828800"/>
            <a:ext cx="4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587016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3048120" y="3276720"/>
            <a:ext cx="4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2666880" y="3276720"/>
            <a:ext cx="6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6095880" y="327672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5715000" y="327672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4191120" y="449568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9"/>
          <p:cNvSpPr/>
          <p:nvPr/>
        </p:nvSpPr>
        <p:spPr>
          <a:xfrm>
            <a:off x="3508560" y="449568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4191120" y="502920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21"/>
          <p:cNvSpPr/>
          <p:nvPr/>
        </p:nvSpPr>
        <p:spPr>
          <a:xfrm>
            <a:off x="3886200" y="571500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4"/>
          <p:cNvSpPr/>
          <p:nvPr/>
        </p:nvSpPr>
        <p:spPr>
          <a:xfrm>
            <a:off x="4267080" y="358128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5"/>
          <p:cNvSpPr/>
          <p:nvPr/>
        </p:nvSpPr>
        <p:spPr>
          <a:xfrm flipH="1">
            <a:off x="4571280" y="563868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4195080" y="5638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00"/>
                            </p:stCondLst>
                            <p:childTnLst>
                              <p:par>
                                <p:cTn id="2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2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итание из круглых чисе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их пол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00200" y="1600200"/>
          <a:ext cx="6095880" cy="48006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Box 4"/>
          <p:cNvSpPr/>
          <p:nvPr/>
        </p:nvSpPr>
        <p:spPr>
          <a:xfrm>
            <a:off x="2666880" y="2133720"/>
            <a:ext cx="94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057400" y="22096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666880" y="274320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7"/>
          <p:cNvSpPr/>
          <p:nvPr/>
        </p:nvSpPr>
        <p:spPr>
          <a:xfrm flipV="1">
            <a:off x="2438280" y="3429000"/>
            <a:ext cx="137160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2743200" y="1143000"/>
            <a:ext cx="54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3052080" y="3352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2670840" y="3352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"/>
          <p:cNvSpPr/>
          <p:nvPr/>
        </p:nvSpPr>
        <p:spPr>
          <a:xfrm>
            <a:off x="5798160" y="213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"/>
          <p:cNvSpPr/>
          <p:nvPr/>
        </p:nvSpPr>
        <p:spPr>
          <a:xfrm>
            <a:off x="5029200" y="2362320"/>
            <a:ext cx="54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798160" y="27432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4"/>
          <p:cNvSpPr/>
          <p:nvPr/>
        </p:nvSpPr>
        <p:spPr>
          <a:xfrm>
            <a:off x="5410080" y="342900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6176160" y="3352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587016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5791320" y="3352680"/>
            <a:ext cx="4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8"/>
          <p:cNvSpPr/>
          <p:nvPr/>
        </p:nvSpPr>
        <p:spPr>
          <a:xfrm flipH="1">
            <a:off x="4038480" y="4495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4728240" y="4495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5486400" y="4495680"/>
            <a:ext cx="6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505320" y="457200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5490360" y="5105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4724280" y="510552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24"/>
          <p:cNvSpPr/>
          <p:nvPr/>
        </p:nvSpPr>
        <p:spPr>
          <a:xfrm>
            <a:off x="3886200" y="5791320"/>
            <a:ext cx="2286000" cy="75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5"/>
          <p:cNvSpPr/>
          <p:nvPr/>
        </p:nvSpPr>
        <p:spPr>
          <a:xfrm>
            <a:off x="4803480" y="38098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6"/>
          <p:cNvSpPr/>
          <p:nvPr/>
        </p:nvSpPr>
        <p:spPr>
          <a:xfrm>
            <a:off x="4114800" y="3809880"/>
            <a:ext cx="39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7"/>
          <p:cNvSpPr/>
          <p:nvPr/>
        </p:nvSpPr>
        <p:spPr>
          <a:xfrm>
            <a:off x="5490360" y="571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8"/>
          <p:cNvSpPr/>
          <p:nvPr/>
        </p:nvSpPr>
        <p:spPr>
          <a:xfrm>
            <a:off x="4804560" y="571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а вычисления в столбик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аписываем каждую цифру в отдельной кле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числение начинай с самого меньшего разряда – с еди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сле вычисления переходим к следующему разря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6-01-17T08:36:16Z</dcterms:modified>
  <cp:revision>30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