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E91-E889-4BE9-BB66-3A54B7A5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69D-D28A-41AA-A1E6-4C5C655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D83-2B96-4ECC-8267-5D142673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950-292B-421D-BEAE-B140E2F6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CBAC-B2E6-43EF-9125-9630521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2D3-89B8-4C19-A183-092E378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E584-FF69-47DE-9348-D8ADE60A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C8D7-675C-40DC-B9CA-E4ED734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50AE-4F96-4C19-95E2-503158D9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95C7-365F-4A09-AAAD-F0CACC8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A125-D18F-4A46-99A4-DC55573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DA5-B875-4A67-B7CB-F442D24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F2A-35B1-44F8-90E4-6D31074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C2F-CBA6-4401-BC0C-8960C8E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458-775F-4EC0-8E7F-2B27754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0DB-CA86-4388-8E32-F0065B1C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CB67-61BC-452A-A447-3BB3540B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1B9-4D58-4DB8-A7BC-64A1128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48E-C942-42B5-9A38-2637D99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ED5-5555-41AB-AAA0-BC7FFE17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30C-C676-4EE4-B35C-48D32BB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8E3-5458-4519-B22E-E350C29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DC5-1FF3-408E-9FC7-BFDB44EA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B97-0453-4C1C-92D1-39A7F43E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f0f5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9DEB-54AC-4245-8A5E-1AD6DCD586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f0f5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D569-DFCC-4B10-A2DC-F119156AE6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то в имени тебе моё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русского языка в 6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учителя русского языка и литературы Жамбулгановой Галины Павл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а, появившиеся в 20 в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волюция, Диктатура, Закон, Октябрь, Октябрина, Май, Майя,  Декабрина, сын – Рево, дочь – Люция (от слова Революция), Спутник, Ракета, Иде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ом, Неон, Прот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100008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ясни, что означает твое имя, из какого языка оно пришло в русский язы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проси у родителей, почему они выбрали для тебя именно такое имя (имя понравилось своим звучанием, назвали в честь кого-либо из родственников или известных людей, назвали по святцам в честь какого-то святого, другие причины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обери сведения о людях, которые носят или носили такое же имя, как у тебя, и какие черты их характера тебе нрав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распространённые имена в школ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052640"/>
          <a:ext cx="8640720" cy="5676840"/>
        </p:xfrm>
        <a:graphic>
          <a:graphicData uri="http://schemas.openxmlformats.org/drawingml/2006/table">
            <a:tbl>
              <a:tblPr/>
              <a:tblGrid>
                <a:gridCol w="2853000"/>
                <a:gridCol w="1468440"/>
                <a:gridCol w="2846160"/>
                <a:gridCol w="147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е 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ие им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сл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ф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ж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е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ужские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ей,Александ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ей,Анатолий,Антон,Валентин,Влади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слав,Витал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ргий,Данил,Дмитрий,Денис,Егор,Захар, Илья, Иван, Кирилл, Константин, Максим, Михаил, Никита, Николай, Павел, Роман, Сергей, Станислав, Юрий, Хам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4720" y="98100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нские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а, Ангелина, Алина, Алёна, Айтан, Анжелика, Александра, Анастасия, Валерия, Валентина, Виктория, Вера, Диана, Зоя, Ирина, Инна Кристина Злата, Елена, Дарья, Елизавета, Лидия, Людмила, Любовь, Лилия, Мария, Марина, Наталья, Надежда, Нина, Ольга, Рита, Раиса, Светлана, Тамара, Оксана, Эльвира, Яна, Екате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мил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милия – наследственное имя семьи. Семейное имя, передаваемое по наслед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е привычное для нас слово “фамилия” попало в наш язык из латыни и в переводе означает 7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вление фам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милии в современном понимании слова на Руси появились довольно поздно, лишь в 16 веке. Распространение фамилий началось с людей знатного происхождения. Значительная часть городского и сельского населения еще 200 лет назад не имела фами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мя и фамилия у тебя одно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всегда тебе оно дано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длинн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отт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побереги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омни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и отца своего и свою мать – так учит древняя мудрость. Знай свой род, своих дедов, предков, родственников и цени свой дом, свою деревню, город, свои р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й старину! Помни: ты не сам по себе, ты – член семьи, дорожи памятью свое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8556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тник Г.В. По имени называют, по отчеству величают //Русская речь. 1994. № 4. С. 125–126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аль В. Толковый словарь живого великорусского языка. Т.2. М.: «Русский язык»,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икова Л.И. Что в имени тебе моём// «Русский язык» №03 : Первое сентября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рь имен. М.: «Научная книга»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перанская А.В. Словарь русских личных имен. М.: Изд-во АСТ, 1998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знаватель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имени и фамилии людей, вызвать интерес к собственному имени и фамилии. Показать связь имен с историей определенной эпо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ющ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формиров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через лексико-грамматический анализ слова – имени; выявлять связь имен с историей государства, профес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спитатель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еловеческое достоинство, уважение к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Что значит имя? Роза пахнет розой,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Хоть розой назови ее, хоть нет».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.Шексп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Нет меж живущих людей, да не может и быть безымянных: В первый же миг по рождении каждый, убогий и знатный, имя, как сладостный дар, от родимых своих получа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 Гомер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ом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мин этот связан с греческим словом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но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Эта наука выделяет ряд разделов, среди которых существует и раздел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тропонuми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(от греческог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нтропос – челове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нтроп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наука о человек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онимы: это рекло, назвище, прозвище, название, прозвание, проимен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овицы о и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як человек свое имя зна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ын не родился, а уже имя ему да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гатого по отчеству, а убогого по прозвищ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него доброе им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позорь моего и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к Харитонов сын Григорьев, Нефёдко сын Кура, Григорий сын Филина, Нежданко,Зубко, Величко, Дробыш. Например, в «деревне Псовце над озером Псовцом» жили «Игнатко Матфеев да дети его Величко да Нежданк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мер, первого новосёла в новой деревне около Кочевиц звали Туп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ч, Ворон, Смычок, Жила, Бритик, Пузырь, Бисер, Кривуля, Кочадык, М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ель, Матушка (мужское имя), Цыпуля, Голован, Кощей, Продалмышонка, Таракан, Шоболда, Рогоза, Жировой, Капуста, Ждан, Пьяный, Морщило, Мороз, Мизгирь, Щелкун, Бурнаш, Курица, Ноговица и 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7:41Z</dcterms:created>
  <dc:creator>1</dc:creator>
  <dc:description/>
  <dc:language>en-US</dc:language>
  <cp:lastModifiedBy>Admin</cp:lastModifiedBy>
  <dcterms:modified xsi:type="dcterms:W3CDTF">2014-12-08T14:17:49Z</dcterms:modified>
  <cp:revision>11</cp:revision>
  <dc:subject/>
  <dc:title>Что в имени тебе моём?</dc:title>
</cp:coreProperties>
</file>