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9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36C-DC3C-40CB-827A-E805F458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EB4-926A-4E19-916E-8133E8E9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B726-49F0-4475-9451-D6594FB2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9EF-F039-4DA3-9174-02BCEA14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A7B-D747-4E18-867D-A2F7A5A8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2E2F-DCE1-45CD-8A41-A49825E0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BD0-DAEE-4451-8F23-DD241830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629-C13A-4B4A-BE20-EAE57784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EE9A-35C8-44D5-A345-77532B81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D40-64A4-47F1-BCBB-EEB36D95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B393-B658-4486-B22B-646FBEBF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42E-5C55-44A6-8C1E-1FE1C798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55BF-8961-451E-96BD-B8B7E264B2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1557360"/>
            <a:ext cx="7129440" cy="201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ПУТЕШЕСТВИЕ </a:t>
            </a:r>
            <a:br>
              <a:rPr sz="4400"/>
            </a:b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В МИР МУЗ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627280" y="3789360"/>
            <a:ext cx="38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340000" y="3716280"/>
            <a:ext cx="4753080" cy="1557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5c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654"/>
                </a:solidFill>
                <a:latin typeface="Georgia"/>
              </a:rPr>
              <a:t>Внеурочное занятие в разнотрансформируемом пространстве кружкового объединения «Наследие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654"/>
                </a:solidFill>
                <a:latin typeface="Georgia"/>
              </a:rPr>
              <a:t>В Эрмитаже хранятся Собрания Древнего Египта, античности, эпохи Возрождения, XVII, XVIII, XIX в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654"/>
                </a:solidFill>
                <a:latin typeface="Georgia"/>
              </a:rPr>
              <a:t>Леонардо да Винчи «Мадонна Лита», «Мадонна Бенуа». Рембрандт—самая обширная коллек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654"/>
                </a:solidFill>
                <a:latin typeface="Georgia"/>
              </a:rPr>
              <a:t>Скульптуры  Огюста Род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m00g1"/>
          <p:cNvPicPr/>
          <p:nvPr/>
        </p:nvPicPr>
        <p:blipFill>
          <a:blip r:embed="rId1"/>
          <a:stretch/>
        </p:blipFill>
        <p:spPr>
          <a:xfrm>
            <a:off x="1195560" y="274680"/>
            <a:ext cx="6751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435280" y="5516280"/>
            <a:ext cx="3251160" cy="609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Аменхотеп II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XIX в. до н.э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m00g1"/>
          <p:cNvPicPr/>
          <p:nvPr/>
        </p:nvPicPr>
        <p:blipFill>
          <a:blip r:embed="rId1"/>
          <a:stretch/>
        </p:blipFill>
        <p:spPr>
          <a:xfrm>
            <a:off x="1195560" y="274680"/>
            <a:ext cx="675144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Аменхотеп III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835280" y="1557360"/>
            <a:ext cx="3254400" cy="439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5733720"/>
            <a:ext cx="3178080" cy="934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Леонардо да Винчи. Мадонна Бену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1478 г.</a:t>
            </a: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m00g1"/>
          <p:cNvPicPr/>
          <p:nvPr/>
        </p:nvPicPr>
        <p:blipFill>
          <a:blip r:embed="rId1"/>
          <a:stretch/>
        </p:blipFill>
        <p:spPr>
          <a:xfrm>
            <a:off x="1195560" y="274680"/>
            <a:ext cx="675144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Мадонна Бенуа"/>
          <p:cNvPicPr/>
          <p:nvPr/>
        </p:nvPicPr>
        <p:blipFill>
          <a:blip r:embed="rId2"/>
          <a:stretch/>
        </p:blipFill>
        <p:spPr>
          <a:xfrm>
            <a:off x="1042920" y="1916280"/>
            <a:ext cx="2297160" cy="3620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66" name="Text Box 8"/>
          <p:cNvSpPr/>
          <p:nvPr/>
        </p:nvSpPr>
        <p:spPr>
          <a:xfrm>
            <a:off x="4859280" y="5734080"/>
            <a:ext cx="3167280" cy="951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654"/>
                </a:solidFill>
                <a:latin typeface="Georgia"/>
              </a:rPr>
              <a:t>Леонардо да Винчи. Мадонна Литт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654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5654"/>
                </a:solidFill>
                <a:latin typeface="Georgia"/>
              </a:rPr>
              <a:t>1478-1482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" name="Picture 10" descr="Мадонна Литта"/>
          <p:cNvPicPr/>
          <p:nvPr/>
        </p:nvPicPr>
        <p:blipFill>
          <a:blip r:embed="rId3"/>
          <a:stretch/>
        </p:blipFill>
        <p:spPr>
          <a:xfrm>
            <a:off x="4859280" y="1844640"/>
            <a:ext cx="2808360" cy="3581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050920" y="5589360"/>
            <a:ext cx="4897440" cy="863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654"/>
                </a:solidFill>
                <a:latin typeface="Georgia"/>
              </a:rPr>
              <a:t>Рафаэль Сан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654"/>
                </a:solidFill>
                <a:latin typeface="Georgia"/>
              </a:rPr>
              <a:t>Мадонна с младенцем. 1504 г.</a:t>
            </a:r>
            <a:r>
              <a:rPr b="1" lang="ru-RU" sz="2800" spc="-1" strike="noStrike">
                <a:solidFill>
                  <a:srgbClr val="00565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hm00g1"/>
          <p:cNvPicPr/>
          <p:nvPr/>
        </p:nvPicPr>
        <p:blipFill>
          <a:blip r:embed="rId1"/>
          <a:stretch/>
        </p:blipFill>
        <p:spPr>
          <a:xfrm>
            <a:off x="1195560" y="274680"/>
            <a:ext cx="675144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Мадонна с младенцем"/>
          <p:cNvPicPr/>
          <p:nvPr/>
        </p:nvPicPr>
        <p:blipFill>
          <a:blip r:embed="rId2"/>
          <a:stretch/>
        </p:blipFill>
        <p:spPr>
          <a:xfrm>
            <a:off x="2666880" y="1519200"/>
            <a:ext cx="3810240" cy="3819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5516280"/>
            <a:ext cx="8229600" cy="865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Рембрандт фан Рейн (1606—1669). В Эрмитаже хранится двадцать шесть картин великого голланд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hm00g1"/>
          <p:cNvPicPr/>
          <p:nvPr/>
        </p:nvPicPr>
        <p:blipFill>
          <a:blip r:embed="rId1"/>
          <a:stretch/>
        </p:blipFill>
        <p:spPr>
          <a:xfrm>
            <a:off x="1195560" y="274680"/>
            <a:ext cx="6751440" cy="114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Флора"/>
          <p:cNvPicPr/>
          <p:nvPr/>
        </p:nvPicPr>
        <p:blipFill>
          <a:blip r:embed="rId2"/>
          <a:stretch/>
        </p:blipFill>
        <p:spPr>
          <a:xfrm>
            <a:off x="1042920" y="1700280"/>
            <a:ext cx="2497320" cy="3097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74" name="Text Box 7"/>
          <p:cNvSpPr/>
          <p:nvPr/>
        </p:nvSpPr>
        <p:spPr>
          <a:xfrm>
            <a:off x="684360" y="5075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Флора. 1634 г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5" name="Picture 10" descr="Флора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284720" y="1700280"/>
            <a:ext cx="3889440" cy="3093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76" name="Text Box 11"/>
          <p:cNvSpPr/>
          <p:nvPr/>
        </p:nvSpPr>
        <p:spPr>
          <a:xfrm>
            <a:off x="4427640" y="5084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Даная. 1636 г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148360" y="5444640"/>
            <a:ext cx="3527280" cy="792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О. Роден. «Вечная весна». 1897. Мрам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hm00g1"/>
          <p:cNvPicPr/>
          <p:nvPr/>
        </p:nvPicPr>
        <p:blipFill>
          <a:blip r:embed="rId1"/>
          <a:stretch/>
        </p:blipFill>
        <p:spPr>
          <a:xfrm>
            <a:off x="1195560" y="274680"/>
            <a:ext cx="675144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Роден Рене Франсуа Огюст"/>
          <p:cNvPicPr/>
          <p:nvPr/>
        </p:nvPicPr>
        <p:blipFill>
          <a:blip r:embed="rId2"/>
          <a:stretch/>
        </p:blipFill>
        <p:spPr>
          <a:xfrm>
            <a:off x="755640" y="1628640"/>
            <a:ext cx="3672000" cy="446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4508640"/>
            <a:ext cx="8229600" cy="2016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Музей Лувр находится во Франции,  в Париже. Это здание бывший дворец французских королей- Лув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654"/>
                </a:solidFill>
                <a:latin typeface="Georgia"/>
              </a:rPr>
              <a:t>Музей Лувр, учрежденный Французской Республикой в 1793 году и является одними из первых европейских музее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icon"/>
          <p:cNvPicPr/>
          <p:nvPr/>
        </p:nvPicPr>
        <p:blipFill>
          <a:blip r:embed="rId1"/>
          <a:stretch/>
        </p:blipFill>
        <p:spPr>
          <a:xfrm>
            <a:off x="1332000" y="260280"/>
            <a:ext cx="6696000" cy="1081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ccff"/>
            </a:outerShdw>
          </a:effectLst>
        </p:spPr>
      </p:pic>
      <p:pic>
        <p:nvPicPr>
          <p:cNvPr id="82" name="Picture 5" descr="panorama"/>
          <p:cNvPicPr/>
          <p:nvPr/>
        </p:nvPicPr>
        <p:blipFill>
          <a:blip r:embed="rId2"/>
          <a:stretch/>
        </p:blipFill>
        <p:spPr>
          <a:xfrm>
            <a:off x="611280" y="1787400"/>
            <a:ext cx="7870680" cy="2444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Лувр – одно из величайших собраний произведений искусств в мире. В Лувре хранятся коллекции: --Древний Восток; --Древний Египет; --Древняя Греция и Рим; --Скульптура; --Живопись; --Собрание рисунков, гравюр и декоративно-прикладное искус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3a39"/>
                </a:solidFill>
                <a:latin typeface="Georgia"/>
              </a:rPr>
              <a:t>Ника Самафракийская, Венера Милосская, «Джоконда» Леонардо да Винчи</a:t>
            </a: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icon"/>
          <p:cNvPicPr/>
          <p:nvPr/>
        </p:nvPicPr>
        <p:blipFill>
          <a:blip r:embed="rId1"/>
          <a:stretch/>
        </p:blipFill>
        <p:spPr>
          <a:xfrm>
            <a:off x="1547640" y="417600"/>
            <a:ext cx="6409080" cy="106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0" y="4941720"/>
            <a:ext cx="4114800" cy="1184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654"/>
                </a:solidFill>
                <a:latin typeface="Georgia"/>
              </a:rPr>
              <a:t>Статуя писц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654"/>
                </a:solidFill>
                <a:latin typeface="Georgia"/>
              </a:rPr>
              <a:t>Сакка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654"/>
                </a:solidFill>
                <a:latin typeface="Georgia"/>
              </a:rPr>
              <a:t>2620-2350 до н.э. (4-ая - 5-ая династии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654"/>
                </a:solidFill>
                <a:latin typeface="Georgia"/>
              </a:rPr>
              <a:t>расписанная статуя из известня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654"/>
                </a:solidFill>
                <a:latin typeface="Georgia"/>
              </a:rPr>
              <a:t>высота 53.7 см; ширина 44 см; диаметр 35 с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icon"/>
          <p:cNvPicPr/>
          <p:nvPr/>
        </p:nvPicPr>
        <p:blipFill>
          <a:blip r:embed="rId1"/>
          <a:stretch/>
        </p:blipFill>
        <p:spPr>
          <a:xfrm>
            <a:off x="1547640" y="417600"/>
            <a:ext cx="6409080" cy="106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ccff"/>
            </a:outerShdw>
          </a:effectLst>
        </p:spPr>
      </p:pic>
      <p:pic>
        <p:nvPicPr>
          <p:cNvPr id="87" name="Picture 6" descr="09m"/>
          <p:cNvPicPr/>
          <p:nvPr/>
        </p:nvPicPr>
        <p:blipFill>
          <a:blip r:embed="rId2"/>
          <a:stretch/>
        </p:blipFill>
        <p:spPr>
          <a:xfrm>
            <a:off x="900000" y="1916280"/>
            <a:ext cx="2895840" cy="3485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5280" y="5877000"/>
            <a:ext cx="3456000" cy="68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654"/>
                </a:solidFill>
                <a:latin typeface="Georgia"/>
              </a:rPr>
              <a:t>"Венера Милосская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654"/>
                </a:solidFill>
                <a:latin typeface="Georgia"/>
              </a:rPr>
              <a:t>Около 100 до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654"/>
                </a:solidFill>
                <a:latin typeface="Georgia"/>
              </a:rPr>
              <a:t>Мрамор Высота 202 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icon"/>
          <p:cNvPicPr/>
          <p:nvPr/>
        </p:nvPicPr>
        <p:blipFill>
          <a:blip r:embed="rId1"/>
          <a:stretch/>
        </p:blipFill>
        <p:spPr>
          <a:xfrm>
            <a:off x="1547640" y="417600"/>
            <a:ext cx="6409080" cy="106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ccff"/>
            </a:outerShdw>
          </a:effectLst>
        </p:spPr>
      </p:pic>
      <p:pic>
        <p:nvPicPr>
          <p:cNvPr id="90" name="Picture 6" descr="Венера Милосская"/>
          <p:cNvPicPr/>
          <p:nvPr/>
        </p:nvPicPr>
        <p:blipFill>
          <a:blip r:embed="rId2"/>
          <a:stretch/>
        </p:blipFill>
        <p:spPr>
          <a:xfrm>
            <a:off x="1258920" y="1700280"/>
            <a:ext cx="1503360" cy="410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Нике Самофракийская"/>
          <p:cNvPicPr/>
          <p:nvPr/>
        </p:nvPicPr>
        <p:blipFill>
          <a:blip r:embed="rId3"/>
          <a:stretch/>
        </p:blipFill>
        <p:spPr>
          <a:xfrm>
            <a:off x="6012000" y="1700280"/>
            <a:ext cx="1896840" cy="3673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4932360" y="5805360"/>
            <a:ext cx="3527280" cy="785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Нике Самофракийска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654"/>
                </a:solidFill>
                <a:latin typeface="Georgia"/>
              </a:rPr>
              <a:t>Около 190 до н.э.</a:t>
            </a: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ЦЕЛИ И ЗАДАЧИ ЗА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ление с основами исследовательской работы в школьной музейной комна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пособностей к творческой и поисково – исследователь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чувства ответственности за сохранение наследия прошл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000" y="4508280"/>
            <a:ext cx="4103640" cy="1617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Леонардо да Вин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654"/>
                </a:solidFill>
                <a:latin typeface="Georgia"/>
              </a:rPr>
              <a:t>Портрет Моны Лизы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, проз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654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5654"/>
                </a:solidFill>
                <a:latin typeface="Georgia"/>
              </a:rPr>
              <a:t>Джоко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icon"/>
          <p:cNvPicPr/>
          <p:nvPr/>
        </p:nvPicPr>
        <p:blipFill>
          <a:blip r:embed="rId1"/>
          <a:stretch/>
        </p:blipFill>
        <p:spPr>
          <a:xfrm>
            <a:off x="1547640" y="417600"/>
            <a:ext cx="6409080" cy="106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ccff"/>
            </a:outerShdw>
          </a:effectLst>
        </p:spPr>
      </p:pic>
      <p:pic>
        <p:nvPicPr>
          <p:cNvPr id="95" name="Picture 5" descr="pic0056_800"/>
          <p:cNvPicPr/>
          <p:nvPr/>
        </p:nvPicPr>
        <p:blipFill>
          <a:blip r:embed="rId2"/>
          <a:stretch/>
        </p:blipFill>
        <p:spPr>
          <a:xfrm>
            <a:off x="5003640" y="1628640"/>
            <a:ext cx="3267360" cy="4586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00720" y="4724280"/>
            <a:ext cx="4186080" cy="1401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654"/>
                </a:solidFill>
                <a:latin typeface="Georgia"/>
              </a:rPr>
              <a:t>Жан-Антуан Ватт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Пьерро</a:t>
            </a:r>
            <a:r>
              <a:rPr b="0" lang="ru-RU" sz="2000" spc="-1" strike="noStrike">
                <a:solidFill>
                  <a:srgbClr val="005654"/>
                </a:solidFill>
                <a:latin typeface="Georgia"/>
              </a:rPr>
              <a:t> (также известно под названием </a:t>
            </a: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Жиль</a:t>
            </a:r>
            <a:r>
              <a:rPr b="0" lang="ru-RU" sz="2000" spc="-1" strike="noStrike">
                <a:solidFill>
                  <a:srgbClr val="005654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654"/>
                </a:solidFill>
                <a:latin typeface="Georgia"/>
              </a:rPr>
              <a:t>Прибл. 1718-171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Пьерро (также известно под названием Жиль)"/>
          <p:cNvPicPr/>
          <p:nvPr/>
        </p:nvPicPr>
        <p:blipFill>
          <a:blip r:embed="rId1"/>
          <a:stretch/>
        </p:blipFill>
        <p:spPr>
          <a:xfrm>
            <a:off x="755640" y="1844640"/>
            <a:ext cx="3260880" cy="4032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pic>
        <p:nvPicPr>
          <p:cNvPr id="98" name="Picture 6" descr="icon"/>
          <p:cNvPicPr/>
          <p:nvPr/>
        </p:nvPicPr>
        <p:blipFill>
          <a:blip r:embed="rId2"/>
          <a:stretch/>
        </p:blipFill>
        <p:spPr>
          <a:xfrm>
            <a:off x="1547640" y="417600"/>
            <a:ext cx="6409080" cy="106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157720"/>
            <a:ext cx="8229600" cy="968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Эжен Делакру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654"/>
                </a:solidFill>
                <a:latin typeface="Georgia"/>
              </a:rPr>
              <a:t>Свобода, ведущая народ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 (28 июля 1830 года) 18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icon"/>
          <p:cNvPicPr/>
          <p:nvPr/>
        </p:nvPicPr>
        <p:blipFill>
          <a:blip r:embed="rId1"/>
          <a:stretch/>
        </p:blipFill>
        <p:spPr>
          <a:xfrm>
            <a:off x="1547640" y="417600"/>
            <a:ext cx="6409080" cy="106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ccff"/>
            </a:outerShdw>
          </a:effectLst>
        </p:spPr>
      </p:pic>
      <p:pic>
        <p:nvPicPr>
          <p:cNvPr id="101" name="Picture 6" descr="Свобода, ведущая народ (28 июля 1830 года)"/>
          <p:cNvPicPr/>
          <p:nvPr/>
        </p:nvPicPr>
        <p:blipFill>
          <a:blip r:embed="rId2"/>
          <a:stretch/>
        </p:blipFill>
        <p:spPr>
          <a:xfrm>
            <a:off x="2268360" y="1608120"/>
            <a:ext cx="4248360" cy="335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87280" y="260280"/>
            <a:ext cx="4753080" cy="1152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Impact"/>
              </a:rPr>
              <a:t>Британский м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530064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a39"/>
                </a:solidFill>
                <a:latin typeface="Georgia"/>
              </a:rPr>
              <a:t>Великобритания, Лондон, в специально построенном здании. Основан в 1753г по решению Британского парламента. Первый в Европе  государственный му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image_convert"/>
          <p:cNvPicPr/>
          <p:nvPr/>
        </p:nvPicPr>
        <p:blipFill>
          <a:blip r:embed="rId1"/>
          <a:srcRect l="0" t="0" r="0" b="7593"/>
          <a:stretch/>
        </p:blipFill>
        <p:spPr>
          <a:xfrm>
            <a:off x="2050920" y="1413000"/>
            <a:ext cx="5211720" cy="3611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wha_lo"/>
          <p:cNvPicPr/>
          <p:nvPr/>
        </p:nvPicPr>
        <p:blipFill>
          <a:blip r:embed="rId2"/>
          <a:stretch/>
        </p:blipFill>
        <p:spPr>
          <a:xfrm>
            <a:off x="1692360" y="260280"/>
            <a:ext cx="1314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274320"/>
            <a:ext cx="532908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Impact"/>
              </a:rPr>
              <a:t>Британский м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0036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--Коллекции первобытного искусства; Древнего Востока; античности; европейского и восточного средневековья; древние рукописные кни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a39"/>
                </a:solidFill>
                <a:latin typeface="Georgia"/>
              </a:rPr>
              <a:t>--Живопись. Эль Греко, Веласкес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wha_lo"/>
          <p:cNvPicPr/>
          <p:nvPr/>
        </p:nvPicPr>
        <p:blipFill>
          <a:blip r:embed="rId1"/>
          <a:stretch/>
        </p:blipFill>
        <p:spPr>
          <a:xfrm>
            <a:off x="1258920" y="260280"/>
            <a:ext cx="131436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Британский музей"/>
          <p:cNvPicPr/>
          <p:nvPr/>
        </p:nvPicPr>
        <p:blipFill>
          <a:blip r:embed="rId2"/>
          <a:stretch/>
        </p:blipFill>
        <p:spPr>
          <a:xfrm>
            <a:off x="755640" y="1628640"/>
            <a:ext cx="3098880" cy="4608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300280"/>
            <a:ext cx="46195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654"/>
                </a:solidFill>
                <a:latin typeface="Georgia"/>
              </a:rPr>
              <a:t>Центральный барельеф восточного фриза Парфенона. Афины, Греция (438-432 гг. до н.э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Центральный барельеф восточного фриза Парфенона. (438-432 гг. до н.э.)"/>
          <p:cNvPicPr/>
          <p:nvPr/>
        </p:nvPicPr>
        <p:blipFill>
          <a:blip r:embed="rId1"/>
          <a:stretch/>
        </p:blipFill>
        <p:spPr>
          <a:xfrm>
            <a:off x="539640" y="1916280"/>
            <a:ext cx="4464000" cy="2498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pic>
        <p:nvPicPr>
          <p:cNvPr id="112" name="Picture 4" descr="Статуя Диониса с восточного фрагмента Парфенона"/>
          <p:cNvPicPr/>
          <p:nvPr/>
        </p:nvPicPr>
        <p:blipFill>
          <a:blip r:embed="rId2"/>
          <a:stretch/>
        </p:blipFill>
        <p:spPr>
          <a:xfrm>
            <a:off x="5364000" y="1989000"/>
            <a:ext cx="3238560" cy="2428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113" name="Text Box 5"/>
          <p:cNvSpPr/>
          <p:nvPr/>
        </p:nvSpPr>
        <p:spPr>
          <a:xfrm>
            <a:off x="5508720" y="5300640"/>
            <a:ext cx="30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татуя Дионис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4" name="Picture 6" descr="wha_lo"/>
          <p:cNvPicPr/>
          <p:nvPr/>
        </p:nvPicPr>
        <p:blipFill>
          <a:blip r:embed="rId3"/>
          <a:stretch/>
        </p:blipFill>
        <p:spPr>
          <a:xfrm>
            <a:off x="1258920" y="260280"/>
            <a:ext cx="131436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555640" y="259920"/>
            <a:ext cx="57704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Impact"/>
              </a:rPr>
              <a:t>Британский м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453708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Impact"/>
              </a:rPr>
              <a:t>Британский му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654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В Британском музее находится огромная коллекция памятников древнеегипетского искусства, особенно богатая монументальной скульптурой; знаменитые рельефы ассирийских дворцов; уникальные комплексы греческой скульптуры, включая мраморы Парфенона, — творение Фидия, одного из наиболее выдающихся мастеров Древней Греции, а также рельефы и статуи, украшавшие Мавзолей Галикарнасский, который греки называли одним из семи чудес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wha_lo"/>
          <p:cNvPicPr/>
          <p:nvPr/>
        </p:nvPicPr>
        <p:blipFill>
          <a:blip r:embed="rId1"/>
          <a:stretch/>
        </p:blipFill>
        <p:spPr>
          <a:xfrm>
            <a:off x="1692360" y="333360"/>
            <a:ext cx="131436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mummy"/>
          <p:cNvPicPr/>
          <p:nvPr/>
        </p:nvPicPr>
        <p:blipFill>
          <a:blip r:embed="rId2"/>
          <a:stretch/>
        </p:blipFill>
        <p:spPr>
          <a:xfrm>
            <a:off x="826920" y="1916280"/>
            <a:ext cx="3248280" cy="370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4535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Impact"/>
              </a:rPr>
              <a:t>Британский му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5445000"/>
            <a:ext cx="6769080" cy="68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Д.Веласкес. Венера перед зерка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wha_lo"/>
          <p:cNvPicPr/>
          <p:nvPr/>
        </p:nvPicPr>
        <p:blipFill>
          <a:blip r:embed="rId1"/>
          <a:stretch/>
        </p:blipFill>
        <p:spPr>
          <a:xfrm>
            <a:off x="2050920" y="333360"/>
            <a:ext cx="1314720" cy="1143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Веласкес. Венера перед зеркалом"/>
          <p:cNvPicPr/>
          <p:nvPr/>
        </p:nvPicPr>
        <p:blipFill>
          <a:blip r:embed="rId2"/>
          <a:stretch/>
        </p:blipFill>
        <p:spPr>
          <a:xfrm>
            <a:off x="2340000" y="1879560"/>
            <a:ext cx="4537080" cy="3149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6840" y="1773360"/>
            <a:ext cx="2530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Представьте себе, что Вы в Мадрид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Одной из главных его ценностей является музей Прадо, Национальный музей живописи и скульптуры, или, как его уважительно величают испанцы, «Museo del Prado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0zagprado"/>
          <p:cNvPicPr/>
          <p:nvPr/>
        </p:nvPicPr>
        <p:blipFill>
          <a:blip r:embed="rId1"/>
          <a:stretch/>
        </p:blipFill>
        <p:spPr>
          <a:xfrm>
            <a:off x="971640" y="260280"/>
            <a:ext cx="6819840" cy="1152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прадо"/>
          <p:cNvPicPr/>
          <p:nvPr/>
        </p:nvPicPr>
        <p:blipFill>
          <a:blip r:embed="rId2"/>
          <a:stretch/>
        </p:blipFill>
        <p:spPr>
          <a:xfrm>
            <a:off x="2987640" y="1773360"/>
            <a:ext cx="5826240" cy="437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Крупнейшее художественное собрание Испании образовано испанских королевских и церковных коллекций. В постановлении об открытии музея в 1819г.говорило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a39"/>
                </a:solidFill>
                <a:latin typeface="Georgia"/>
              </a:rPr>
              <a:t>«Целью музея является давать знания, воспитывать художественный вкус, как у учеников, так и у профессоров художественных академий, а так же у иностранцев, что бы создать Испании славу, которой она заслужива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Сейчас живописная коллекция музея насчитывает более 8600 полот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0zagprado"/>
          <p:cNvPicPr/>
          <p:nvPr/>
        </p:nvPicPr>
        <p:blipFill>
          <a:blip r:embed="rId1"/>
          <a:stretch/>
        </p:blipFill>
        <p:spPr>
          <a:xfrm>
            <a:off x="971640" y="260280"/>
            <a:ext cx="68198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ОРГ. МОМЕН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т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наличия учащихся на занят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внешнего ви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товности рабочих мест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в группе деловой обстано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427280" y="1599840"/>
            <a:ext cx="4259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Большую роль в пополнении королевских коллекций  сыграл придворный живописец Филиппа </a:t>
            </a:r>
            <a:r>
              <a:rPr b="0" lang="en-US" sz="2400" spc="-1" strike="noStrike">
                <a:solidFill>
                  <a:srgbClr val="005654"/>
                </a:solidFill>
                <a:latin typeface="Georgia"/>
              </a:rPr>
              <a:t>IV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3a39"/>
                </a:solidFill>
                <a:latin typeface="Georgia"/>
              </a:rPr>
              <a:t>Диего Веласкес.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 Он закупил произведения великих итальянских (</a:t>
            </a:r>
            <a:r>
              <a:rPr b="0" lang="ru-RU" sz="2400" spc="-1" strike="noStrike">
                <a:solidFill>
                  <a:srgbClr val="003a39"/>
                </a:solidFill>
                <a:latin typeface="Georgia"/>
              </a:rPr>
              <a:t>Тициан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) и фламанд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(</a:t>
            </a:r>
            <a:r>
              <a:rPr b="0" lang="ru-RU" sz="2400" spc="-1" strike="noStrike">
                <a:solidFill>
                  <a:srgbClr val="003a39"/>
                </a:solidFill>
                <a:latin typeface="Georgia"/>
              </a:rPr>
              <a:t>П.П.Рубенс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) мастеров. В музее хранятся и его картины. </a:t>
            </a:r>
            <a:r>
              <a:rPr b="0" lang="ru-RU" sz="2400" spc="-1" strike="noStrike">
                <a:solidFill>
                  <a:srgbClr val="003a39"/>
                </a:solidFill>
                <a:latin typeface="Georgia"/>
              </a:rPr>
              <a:t>Коллекция произведений Франсиско Гойя, картина Пабло Пикассо «Герн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0zagprado"/>
          <p:cNvPicPr/>
          <p:nvPr/>
        </p:nvPicPr>
        <p:blipFill>
          <a:blip r:embed="rId1"/>
          <a:stretch/>
        </p:blipFill>
        <p:spPr>
          <a:xfrm>
            <a:off x="971640" y="260280"/>
            <a:ext cx="6819840" cy="115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веласкес Менины"/>
          <p:cNvPicPr/>
          <p:nvPr/>
        </p:nvPicPr>
        <p:blipFill>
          <a:blip r:embed="rId2"/>
          <a:stretch/>
        </p:blipFill>
        <p:spPr>
          <a:xfrm>
            <a:off x="636480" y="1773360"/>
            <a:ext cx="3476880" cy="3960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132" name="Text Box 6"/>
          <p:cNvSpPr/>
          <p:nvPr/>
        </p:nvSpPr>
        <p:spPr>
          <a:xfrm>
            <a:off x="611280" y="5950080"/>
            <a:ext cx="3529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654"/>
                </a:solidFill>
                <a:latin typeface="Georgia"/>
              </a:rPr>
              <a:t>Д.Веласкес «Менины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788000" y="5660640"/>
            <a:ext cx="403848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Тициан «Автопортр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5661000"/>
            <a:ext cx="4038480" cy="72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Тициан «Дан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0zagprado"/>
          <p:cNvPicPr/>
          <p:nvPr/>
        </p:nvPicPr>
        <p:blipFill>
          <a:blip r:embed="rId1"/>
          <a:stretch/>
        </p:blipFill>
        <p:spPr>
          <a:xfrm>
            <a:off x="1187280" y="260280"/>
            <a:ext cx="6820200" cy="1152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тициан"/>
          <p:cNvPicPr/>
          <p:nvPr/>
        </p:nvPicPr>
        <p:blipFill>
          <a:blip r:embed="rId2"/>
          <a:stretch/>
        </p:blipFill>
        <p:spPr>
          <a:xfrm>
            <a:off x="6012000" y="1844640"/>
            <a:ext cx="2333520" cy="3313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pic>
        <p:nvPicPr>
          <p:cNvPr id="137" name="Picture 7" descr="даная"/>
          <p:cNvPicPr/>
          <p:nvPr/>
        </p:nvPicPr>
        <p:blipFill>
          <a:blip r:embed="rId3"/>
          <a:stretch/>
        </p:blipFill>
        <p:spPr>
          <a:xfrm>
            <a:off x="684360" y="1844640"/>
            <a:ext cx="4464000" cy="334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00720" y="5660640"/>
            <a:ext cx="4186080" cy="86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Питер Пауль Рубен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«Сад любв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0zagprado"/>
          <p:cNvPicPr/>
          <p:nvPr/>
        </p:nvPicPr>
        <p:blipFill>
          <a:blip r:embed="rId1"/>
          <a:stretch/>
        </p:blipFill>
        <p:spPr>
          <a:xfrm>
            <a:off x="971640" y="260280"/>
            <a:ext cx="6819840" cy="115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рубенс сад любви"/>
          <p:cNvPicPr/>
          <p:nvPr/>
        </p:nvPicPr>
        <p:blipFill>
          <a:blip r:embed="rId2"/>
          <a:stretch/>
        </p:blipFill>
        <p:spPr>
          <a:xfrm>
            <a:off x="1547640" y="1557360"/>
            <a:ext cx="5897880" cy="3973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788000" y="5516640"/>
            <a:ext cx="40384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Ф. Гойя. «Расстрел 3 мая 1808г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5516280"/>
            <a:ext cx="4038480" cy="93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Ф.Гойя. «Портрет семьи Карла </a:t>
            </a:r>
            <a:r>
              <a:rPr b="0" lang="en-US" sz="2400" spc="-1" strike="noStrike">
                <a:solidFill>
                  <a:srgbClr val="005654"/>
                </a:solidFill>
                <a:latin typeface="Georgia"/>
              </a:rPr>
              <a:t>IV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гойя Портрет cемьи Карла IV"/>
          <p:cNvPicPr/>
          <p:nvPr/>
        </p:nvPicPr>
        <p:blipFill>
          <a:blip r:embed="rId1"/>
          <a:stretch/>
        </p:blipFill>
        <p:spPr>
          <a:xfrm>
            <a:off x="324000" y="1773360"/>
            <a:ext cx="4032000" cy="3354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pic>
        <p:nvPicPr>
          <p:cNvPr id="144" name="Picture 5" descr="гойяРасстрел 3 мая 1808 года"/>
          <p:cNvPicPr/>
          <p:nvPr/>
        </p:nvPicPr>
        <p:blipFill>
          <a:blip r:embed="rId2"/>
          <a:stretch/>
        </p:blipFill>
        <p:spPr>
          <a:xfrm>
            <a:off x="4643280" y="1844640"/>
            <a:ext cx="4249800" cy="3287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pic>
        <p:nvPicPr>
          <p:cNvPr id="145" name="Picture 6" descr="0zagprado"/>
          <p:cNvPicPr/>
          <p:nvPr/>
        </p:nvPicPr>
        <p:blipFill>
          <a:blip r:embed="rId3"/>
          <a:stretch/>
        </p:blipFill>
        <p:spPr>
          <a:xfrm>
            <a:off x="1187280" y="260280"/>
            <a:ext cx="6820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124000" y="5661000"/>
            <a:ext cx="5112000" cy="75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П.Пикассо «Гер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0zagprado"/>
          <p:cNvPicPr/>
          <p:nvPr/>
        </p:nvPicPr>
        <p:blipFill>
          <a:blip r:embed="rId1"/>
          <a:stretch/>
        </p:blipFill>
        <p:spPr>
          <a:xfrm>
            <a:off x="1187280" y="260280"/>
            <a:ext cx="6820200" cy="1152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рника1"/>
          <p:cNvPicPr/>
          <p:nvPr/>
        </p:nvPicPr>
        <p:blipFill>
          <a:blip r:embed="rId2"/>
          <a:stretch/>
        </p:blipFill>
        <p:spPr>
          <a:xfrm>
            <a:off x="611280" y="1700280"/>
            <a:ext cx="8064360" cy="3441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43280" y="2708280"/>
            <a:ext cx="404352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Одно из крупнейших в мире собраний живописи. Находится в Германии, г.Дрезден, в здании дворца саксонских курфюрстов -Цвингер. Основано в 1560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Безымянный"/>
          <p:cNvPicPr/>
          <p:nvPr/>
        </p:nvPicPr>
        <p:blipFill>
          <a:blip r:embed="rId1"/>
          <a:srcRect l="0" t="0" r="0" b="5514"/>
          <a:stretch/>
        </p:blipFill>
        <p:spPr>
          <a:xfrm>
            <a:off x="1763640" y="260280"/>
            <a:ext cx="5761080" cy="12240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pic>
        <p:nvPicPr>
          <p:cNvPr id="151" name="Picture 6" descr="цвингир дрезден"/>
          <p:cNvPicPr/>
          <p:nvPr/>
        </p:nvPicPr>
        <p:blipFill>
          <a:blip r:embed="rId2"/>
          <a:stretch/>
        </p:blipFill>
        <p:spPr>
          <a:xfrm>
            <a:off x="324000" y="1989000"/>
            <a:ext cx="4232160" cy="4069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403280" y="2349000"/>
            <a:ext cx="728352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654"/>
                </a:solidFill>
                <a:latin typeface="Georgia"/>
              </a:rPr>
              <a:t>В музее храня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654"/>
                </a:solidFill>
                <a:latin typeface="Georgia"/>
              </a:rPr>
              <a:t>--Произведения итальянских и нидерландских живописцев      XVI-XVIIв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a39"/>
                </a:solidFill>
                <a:latin typeface="Georgia"/>
              </a:rPr>
              <a:t>Рафаэль «Сикстинская мадонна», Джорджоне «Спящая Венера», полотна Рембрандта, Тици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Безымянный"/>
          <p:cNvPicPr/>
          <p:nvPr/>
        </p:nvPicPr>
        <p:blipFill>
          <a:blip r:embed="rId1"/>
          <a:srcRect l="0" t="0" r="0" b="5514"/>
          <a:stretch/>
        </p:blipFill>
        <p:spPr>
          <a:xfrm>
            <a:off x="1763640" y="260280"/>
            <a:ext cx="5761080" cy="1224000"/>
          </a:xfrm>
          <a:prstGeom prst="rect">
            <a:avLst/>
          </a:prstGeom>
          <a:ln w="1260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076720" y="5660640"/>
            <a:ext cx="361008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Рафаэль Санти «Сикстинская мадон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Безымянный"/>
          <p:cNvPicPr/>
          <p:nvPr/>
        </p:nvPicPr>
        <p:blipFill>
          <a:blip r:embed="rId1"/>
          <a:srcRect l="0" t="0" r="0" b="5514"/>
          <a:stretch/>
        </p:blipFill>
        <p:spPr>
          <a:xfrm>
            <a:off x="1763640" y="260280"/>
            <a:ext cx="5761080" cy="12240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pic>
        <p:nvPicPr>
          <p:cNvPr id="156" name="Picture 5" descr="dresd14"/>
          <p:cNvPicPr/>
          <p:nvPr/>
        </p:nvPicPr>
        <p:blipFill>
          <a:blip r:embed="rId2"/>
          <a:stretch/>
        </p:blipFill>
        <p:spPr>
          <a:xfrm>
            <a:off x="900000" y="1557360"/>
            <a:ext cx="3448080" cy="4782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907640" y="5805000"/>
            <a:ext cx="5759640" cy="57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654"/>
                </a:solidFill>
                <a:latin typeface="Georgia"/>
              </a:rPr>
              <a:t>Джорджоне «Спящая Вен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Безымянный"/>
          <p:cNvPicPr/>
          <p:nvPr/>
        </p:nvPicPr>
        <p:blipFill>
          <a:blip r:embed="rId1"/>
          <a:srcRect l="0" t="0" r="0" b="5514"/>
          <a:stretch/>
        </p:blipFill>
        <p:spPr>
          <a:xfrm>
            <a:off x="1763640" y="260280"/>
            <a:ext cx="5761080" cy="12240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pic>
        <p:nvPicPr>
          <p:cNvPr id="159" name="Picture 5" descr="venus"/>
          <p:cNvPicPr/>
          <p:nvPr/>
        </p:nvPicPr>
        <p:blipFill>
          <a:blip r:embed="rId2"/>
          <a:stretch/>
        </p:blipFill>
        <p:spPr>
          <a:xfrm>
            <a:off x="2411280" y="1916280"/>
            <a:ext cx="4764240" cy="3398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5589360"/>
            <a:ext cx="4186080" cy="89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Рембрандт ван Рейн «Автопортрет с Саски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Безымянный"/>
          <p:cNvPicPr/>
          <p:nvPr/>
        </p:nvPicPr>
        <p:blipFill>
          <a:blip r:embed="rId1"/>
          <a:srcRect l="0" t="0" r="0" b="5514"/>
          <a:stretch/>
        </p:blipFill>
        <p:spPr>
          <a:xfrm>
            <a:off x="1763640" y="260280"/>
            <a:ext cx="5761080" cy="12240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pic>
        <p:nvPicPr>
          <p:cNvPr id="162" name="Picture 5" descr="dresd13"/>
          <p:cNvPicPr/>
          <p:nvPr/>
        </p:nvPicPr>
        <p:blipFill>
          <a:blip r:embed="rId2"/>
          <a:stretch/>
        </p:blipFill>
        <p:spPr>
          <a:xfrm>
            <a:off x="4716360" y="1557360"/>
            <a:ext cx="3994200" cy="4924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Georgia"/>
              </a:rPr>
              <a:t>2. ЧТО МЫ УЖЕ ЗНАЕМ О МУЗЕЯ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Georgia"/>
              </a:rPr>
              <a:t>3. ШКОЛЬНЫЕ МУЗЕ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Georgia"/>
              </a:rPr>
              <a:t>ШКОЛЬНЫЕ МУЗЕИ –              </a:t>
            </a:r>
            <a:r>
              <a:rPr b="1" lang="ru-RU" sz="3600" spc="-1" strike="noStrike">
                <a:solidFill>
                  <a:srgbClr val="003a39"/>
                </a:solidFill>
                <a:latin typeface="Georgia"/>
              </a:rPr>
              <a:t>это негосударственные музеи или музейные комнаты, работающие на общественных началах, и выполняющие те же функции, что и государствен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РАБОТА СО СЛОВАРЁ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узейные экспонаты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предметы, выставлен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ля обозр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меты дошедшие до нас из другого време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68360" y="47592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Georgia"/>
              </a:rPr>
              <a:t>4. ЭКСКУРС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Georgia"/>
              </a:rPr>
              <a:t>В ШКОЛЬНУЮ ИСТОРИК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Georgia"/>
              </a:rPr>
              <a:t>КРАЕВЕДЧЕСКУ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Georgia"/>
              </a:rPr>
              <a:t>КОМНАТ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6836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Georgia"/>
              </a:rPr>
              <a:t>5.  ИССЛЕДОВАТЕЛЬСКАЯ ДЕЯТЕЛЬНОСТЬ МУЗЕ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чурова 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вами два музейных экспоната с одним предназначением. Это «Рубель» и «Скалка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уси довольно долго использовали глажку при помощи двух инструментов: небольшой палки с ровным круглым сечением, называвшейся "вальком", "качалкой" или просто "скалкой" и рифленой доски, имевшей множество названий - "рубель", "ребрак", "пральник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бель - это деревянная доска с поперечными желобками, а скалка - это просто палка. Бельё, одежду или ткань накручивали на скалку, держа одной рукой, а сверху другой рукой катали рубель. Бельё разглаживалось, и называлось это «катать бельё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ТВОРЧЕСКОЕ   ЗАДА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Попробуйте самостоятельно прогладить полотенце при помощи рубеля и ска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9528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Как выдумаете, чем отличается школьный музей от других музее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Школьные музе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ются негосударственными музеями, работающими на общественных началах, и выполняют те же функции, что и государстве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так ж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хранятся подлинные материалы, собранные в экспозиции. Музей занимает отдельное помещение с необходимым оборудова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, что собрано в музее называется «Музейными экспонатами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ышкина Д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 музее нужно не только знать историю предмета, но и уметь давать его описание. Описание и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рибуц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тся по плану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исание предм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.Название предм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убель, (ребрак, праль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Назна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убе́ль — предмет домашнего быта, который в старину </a:t>
            </a:r>
            <a:r>
              <a:rPr b="0" lang="ru-RU" sz="1800" spc="-1" strike="noStrike">
                <a:solidFill>
                  <a:srgbClr val="161645"/>
                </a:solidFill>
                <a:latin typeface="Arial"/>
              </a:rPr>
              <a:t>рус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женщины использовали для выколачивания (</a:t>
            </a:r>
            <a:r>
              <a:rPr b="0" lang="ru-RU" sz="1800" spc="-1" strike="noStrike" u="sng">
                <a:solidFill>
                  <a:srgbClr val="161645"/>
                </a:solidFill>
                <a:uFillTx/>
                <a:latin typeface="Arial"/>
              </a:rPr>
              <a:t>стирки</a:t>
            </a:r>
            <a:r>
              <a:rPr b="0" lang="ru-RU" sz="1800" spc="-1" strike="noStrike">
                <a:solidFill>
                  <a:srgbClr val="161645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ла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бел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.Время создания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 место бытования, связь с кра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Был создан еще в период Древней Руси. Применялся повсеместно на Руси в том числе и у н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4. Материал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 древес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5. Техника изготов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учная 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6. Легенда: кому принадлежала, каким образом попала в музей, подарена  или на временное хра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редан в школьный музей жительницей д. Синицына … (см. в инвентарной книг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7.  Авторская принадлежност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еизвестный мас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Georgia"/>
              </a:rPr>
              <a:t>6.  ПОИСКОВО - ИССЛЕДОВАТЕЛЬСКАЯ ДЕЯТЕЛЬНОСТЬ МУЗЕ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ЧТО ЖЕ ТАКОЕ ИССЛЕДОВ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- это поиск истины, познание неизвест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ЧТО ТАКОЕ МУЗЕЙ?</a:t>
            </a:r>
            <a:br>
              <a:rPr sz="4400"/>
            </a:br>
            <a:r>
              <a:rPr b="1" lang="ru-RU" sz="3200" spc="-1" strike="noStrike">
                <a:solidFill>
                  <a:srgbClr val="ff9900"/>
                </a:solidFill>
                <a:latin typeface="Georgia"/>
              </a:rPr>
              <a:t>(работа со словарё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99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654"/>
                </a:solidFill>
                <a:latin typeface="Georgia"/>
              </a:rPr>
              <a:t>"Mouseion: учреждение, в котором хранятся и демонстрируются коллекция произведений искусств, предметы, представляющие исторический, эстетический или научный интерес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Georgia"/>
              </a:rPr>
              <a:t>ЭТАПЫ РАБОТЫ НАД ИССЛЕДОВАТЕЛЬСКИМ ПРОЕК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вится проблема(либо гипотез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ормле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бличное вы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, анал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7. 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же нового и интересного вы сегодня узнали для себ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этап занятия был наиболее интерес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равилась ли вам такая форма проведения заня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8. 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следующему занятию  - подготовить  историю любого,  понравившегося  экспона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утюга,  рушника, горшка, ухвата и т. д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, что в школах  есть музе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ит, нить времён не прерва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ит, вместе все-таки суме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рошлым удержать незримо связ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 в музей пришел не просто гост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ь сердца здесь ты ожи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, станет хоть немного про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м понять сегодняшние д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оснись к чужой судьбе  и жиз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игам отцов ты поклон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же научись служить Отчиз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 прожить достойно свою жизн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в музей тропа не зараст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мужает наша детво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быстрее каждый осозн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втра вырастает из вч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ДЛЯ ЧЕГО НУЖНЫ МУЗЕ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КАКИЕ БЫВАЮТ МУЗЕ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КАК ВЫ ДУМАЕТЕ, ЧТО БЫ ОТВЕТИЛИ САМИ МУЗЕИ НА ВОПРОС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«Что хранится в Ваших стен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5654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Georgia"/>
              </a:rPr>
              <a:t>НАЗОВИТЕ САМЫЕ КРУПНЫЕ МУЗЕИ МИРА, РОССИ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99"/>
            </a:outerShdw>
          </a:effectLst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Среди художественных музеев мира Эрмитажу принадлежит почетное место. В этом величайшем музее хранится свыше двух с половиной миллионов памятников культуры и искусства разных эпох, стран и наро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От дворцового художественного собрания, доступного только узкому кругу знати, до подлинно народного музея, сокровища которого несут радость и красоту миллионам людей, такой путь прошел Эрмитаж за 250 лет своего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hm00g1"/>
          <p:cNvPicPr/>
          <p:nvPr/>
        </p:nvPicPr>
        <p:blipFill>
          <a:blip r:embed="rId1"/>
          <a:stretch/>
        </p:blipFill>
        <p:spPr>
          <a:xfrm>
            <a:off x="900000" y="404640"/>
            <a:ext cx="725832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m00g1"/>
          <p:cNvPicPr/>
          <p:nvPr/>
        </p:nvPicPr>
        <p:blipFill>
          <a:blip r:embed="rId1"/>
          <a:stretch/>
        </p:blipFill>
        <p:spPr>
          <a:xfrm>
            <a:off x="826920" y="333360"/>
            <a:ext cx="7258320" cy="1228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Растрелли Ф"/>
          <p:cNvPicPr/>
          <p:nvPr/>
        </p:nvPicPr>
        <p:blipFill>
          <a:blip r:embed="rId2">
            <a:lum bright="12000"/>
          </a:blip>
          <a:srcRect l="0" t="0" r="0" b="18501"/>
          <a:stretch/>
        </p:blipFill>
        <p:spPr>
          <a:xfrm>
            <a:off x="1116000" y="1773360"/>
            <a:ext cx="6662880" cy="338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56" name="Text Box 6"/>
          <p:cNvSpPr/>
          <p:nvPr/>
        </p:nvSpPr>
        <p:spPr>
          <a:xfrm>
            <a:off x="1042920" y="572292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042920" y="5445000"/>
            <a:ext cx="6985080" cy="13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Музей расположен в России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г. Санкт-Петербург,  в здании Зимнего дворц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7:44:21Z</dcterms:created>
  <dc:creator>matriks</dc:creator>
  <dc:description/>
  <dc:language>en-US</dc:language>
  <cp:lastModifiedBy>B-50</cp:lastModifiedBy>
  <dcterms:modified xsi:type="dcterms:W3CDTF">2017-04-16T06:08:51Z</dcterms:modified>
  <cp:revision>34</cp:revision>
  <dc:subject/>
  <dc:title>МУЗЕИ МИРА</dc:title>
</cp:coreProperties>
</file>