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11.png" ContentType="image/png"/>
  <Override PartName="/ppt/media/image19.jpeg" ContentType="image/jpeg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9.jpeg" ContentType="image/jpeg"/>
  <Override PartName="/ppt/media/image26.gif" ContentType="image/gif"/>
  <Override PartName="/ppt/media/image24.gif" ContentType="image/gif"/>
  <Override PartName="/ppt/media/image16.jpeg" ContentType="image/jpeg"/>
  <Override PartName="/ppt/media/image23.jpeg" ContentType="image/jpeg"/>
  <Override PartName="/ppt/media/image15.gif" ContentType="image/gif"/>
  <Override PartName="/ppt/media/image14.gif" ContentType="image/gif"/>
  <Override PartName="/ppt/media/image17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AE4-4A5A-4F07-A743-BBDD7D57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AAF-4E68-4C8A-81E7-F6EFD081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C91-E1BC-4D0A-94B7-3822D780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0EC-33BF-42DE-9776-9E10BA9F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547C-8ADC-422E-A41E-D7501275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D28A-138B-4403-8CD6-2829771E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6585-AC6F-45B6-9A24-E0C48626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D905-5243-4109-8A10-2A10C386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6B9-822E-45BF-B9E8-3D9CCB21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7A4C-2416-4EDE-AD4C-D01170DE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1DC-2204-41D6-B27F-30BE88F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B06-3A70-4D50-ACB6-4BBCD7C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872-5C09-4908-B706-4B143DB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0828-C1D4-4122-A2D6-58A7484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D55A-4415-4CA9-931A-FBE9DCCA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8E4B-3570-48E2-B4E3-74D41A1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0469-E308-4EB7-84C0-73F28602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A4D3-F0FA-4F1A-A388-091DE178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3DC25-E023-4E75-B81B-B486507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4843-89B3-48EB-9FA4-2C1039F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63F8-A847-4E67-846D-BDE7EB5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7E72-0DFE-4A71-A456-0DAD64E9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94F-15B1-4D81-99BF-0BDBA3AF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7986-1347-44E0-B818-903E562A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28D8-5712-4470-99E3-4FAE9C2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418C-6629-4647-B75E-9EFA33D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4D33-CF3F-4327-B6E2-AD59CCD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C0C8-D4A9-451F-9067-6EF3B9F4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5491-031B-411C-AA5F-B43A0943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607B-8E95-43B2-9792-23A8FB18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C08F-1115-442D-AC3B-6943887A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CB17-2C82-4E8F-AE32-1F8D5344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D5C1-BCC8-435B-AD77-EBCF88A5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D1C-F015-44A4-A98C-CB0F6FA4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1842-FF8A-461C-9992-0D70B30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7AED-F6B4-4CFE-BD96-4B0B2EC8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4EC7-33AB-42D5-AD09-9A91222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59FA-A59B-4EE2-96B6-FEF6536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64DD-A87A-4BE3-92B2-4738392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932F-1AD4-4166-A5F8-FCDEB62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7B44-8C8A-4389-9D67-049814B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9C8E-FCD4-4567-A3B7-659885B3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C0F2-D3DA-4199-8FB8-A6C3866B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09C58-C51C-4649-9CEB-624A74C0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FA2-F6AB-47ED-9E67-EEDE7B0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1D7CB-70E3-44BA-99F9-9B61F333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29AC-D8A4-4A08-B7F0-8AFA813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1089-7381-4A50-BABC-E345870F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55E6-9D9C-4A71-871A-23EC3903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1D47-ABC1-4E6D-AFB9-56EC43F3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1585-B7F5-407F-8AF0-321B606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6F39-0676-4B4D-8195-5E8ACA8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648A-6A11-4F91-998F-EFC8FCC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FDB0-CCE8-4292-AEB9-CAE6A935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A141-247E-437C-9765-761BAD1B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A20-2911-424F-8564-2FFD4383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B4A9-4FD1-4B77-8B72-E1C15CF0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9746-918D-4D6A-B8B0-119FB1D1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D686-449A-477E-9009-CCA48D4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F135-721A-4C83-87AF-47EAB62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C259-0A09-4E79-A25B-4C31D620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01714-BA47-4FDA-9A30-A471A09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54E9-1EB4-44E7-9852-606F559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8B52F-B342-40A5-A924-81B692ED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E7170-8D23-46AF-9C52-B3471A8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0FEA-C83F-454C-B0DE-DF034AD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40B-637F-41EA-A562-17CE769B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709D-543E-4F43-8633-5A276C7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55E44-6D81-408D-B67E-FA23BD0A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81CC-365D-44BC-9174-5931F0E8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D2E-8FCF-4F5C-BBC1-2CDCFCC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A03-C2A2-4AEC-B85B-B380F9A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2729-0651-451A-842A-A043BA68EE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A3C-936D-4071-8FA7-43EFA85B1B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06DB-77E8-46D2-A8DD-7CE953E919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655E-140A-4CB3-9820-BC38FD7BF2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48A-1E56-41F8-9911-F777573EDA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E37-2EAC-4779-A13F-6D40D73CBB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2;&#1080;&#1088;%20&#1080;&#1085;&#1092;&#1086;&#1088;&#1084;&#1072;&#1090;&#1080;&#1082;&#1080;.ppt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34.xm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837720"/>
            <a:ext cx="7848720" cy="238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lvl="1" marL="4572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игр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итаемый остров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10" descr="kr2.gif"/>
          <p:cNvPicPr/>
          <p:nvPr/>
        </p:nvPicPr>
        <p:blipFill>
          <a:blip r:embed="rId1"/>
          <a:stretch/>
        </p:blipFill>
        <p:spPr>
          <a:xfrm>
            <a:off x="3486240" y="3290760"/>
            <a:ext cx="2209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485640"/>
            <a:ext cx="8096400" cy="61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590400" y="1333440"/>
            <a:ext cx="79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Булавка, ножницы, утю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0" descr="j0283740"/>
          <p:cNvPicPr/>
          <p:nvPr/>
        </p:nvPicPr>
        <p:blipFill>
          <a:blip r:embed="rId2"/>
          <a:stretch/>
        </p:blipFill>
        <p:spPr>
          <a:xfrm flipH="1">
            <a:off x="577800" y="628560"/>
            <a:ext cx="11923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33520" y="571320"/>
            <a:ext cx="8115120" cy="780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0000"/>
          </a:bodyPr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безопасности при работе с нож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7696080" y="59436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571680" y="1836720"/>
            <a:ext cx="788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2120" y="71388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22000"/>
          </a:bodyPr>
          <a:p>
            <a:pPr marL="57960" indent="-57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 передают ручкой вперё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столе лежит с правой стороны остриём ввер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ранят в сухом, опредёленном мес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09120" y="549000"/>
            <a:ext cx="8077320" cy="487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ь плодовые овощные раст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753320" y="600084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:\06493.gif"/>
          <p:cNvPicPr/>
          <p:nvPr/>
        </p:nvPicPr>
        <p:blipFill>
          <a:blip r:embed="rId2"/>
          <a:stretch/>
        </p:blipFill>
        <p:spPr>
          <a:xfrm>
            <a:off x="5924520" y="3581280"/>
            <a:ext cx="19335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33520" y="404640"/>
            <a:ext cx="8153280" cy="4205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Помидор, огурец, кабачок, тыква, перец, баклажан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33520" y="704520"/>
            <a:ext cx="8324640" cy="45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ь луковичные овощные раст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7791480" y="59245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52240" y="259920"/>
            <a:ext cx="8134200" cy="3606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Чеснок, лу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E:\an5.gif"/>
          <p:cNvPicPr/>
          <p:nvPr/>
        </p:nvPicPr>
        <p:blipFill>
          <a:blip r:embed="rId2"/>
          <a:stretch/>
        </p:blipFill>
        <p:spPr>
          <a:xfrm>
            <a:off x="833400" y="3822840"/>
            <a:ext cx="175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6480" y="41112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3560" y="2131920"/>
            <a:ext cx="8226720" cy="3640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 этот овощ говорят, что он витамин  рост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39200" y="5924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E:\s25491.jpg"/>
          <p:cNvPicPr/>
          <p:nvPr/>
        </p:nvPicPr>
        <p:blipFill>
          <a:blip r:embed="rId2"/>
          <a:stretch/>
        </p:blipFill>
        <p:spPr>
          <a:xfrm>
            <a:off x="652320" y="609480"/>
            <a:ext cx="10051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2360" y="620280"/>
            <a:ext cx="818352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5400" y="2170080"/>
            <a:ext cx="8226360" cy="147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0d0"/>
                </a:solidFill>
                <a:latin typeface="Verdana"/>
              </a:rPr>
              <a:t>Морковь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E:\Photo 274.gif"/>
          <p:cNvPicPr/>
          <p:nvPr/>
        </p:nvPicPr>
        <p:blipFill>
          <a:blip r:embed="rId2"/>
          <a:stretch/>
        </p:blipFill>
        <p:spPr>
          <a:xfrm>
            <a:off x="2228760" y="3828960"/>
            <a:ext cx="1805040" cy="1776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E:\Photo 274.gif"/>
          <p:cNvPicPr/>
          <p:nvPr/>
        </p:nvPicPr>
        <p:blipFill>
          <a:blip r:embed="rId3"/>
          <a:stretch/>
        </p:blipFill>
        <p:spPr>
          <a:xfrm>
            <a:off x="5010120" y="3798720"/>
            <a:ext cx="17146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14080" y="933120"/>
            <a:ext cx="817236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е продукты переработки моло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715160" y="59817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320" y="533160"/>
            <a:ext cx="8226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атегори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47640" y="1403280"/>
          <a:ext cx="7888320" cy="3619440"/>
        </p:xfrm>
        <a:graphic>
          <a:graphicData uri="http://schemas.openxmlformats.org/drawingml/2006/table">
            <a:tbl>
              <a:tblPr/>
              <a:tblGrid>
                <a:gridCol w="4076640"/>
                <a:gridCol w="762120"/>
                <a:gridCol w="781200"/>
                <a:gridCol w="799920"/>
                <a:gridCol w="704880"/>
                <a:gridCol w="763560"/>
              </a:tblGrid>
              <a:tr h="6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авил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доровое п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0d0"/>
                          </a:solidFill>
                          <a:latin typeface="Times New Roman"/>
                          <a:ea typeface="Times New Roman"/>
                        </a:rPr>
                        <a:t>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Жили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761760"/>
            <a:ext cx="8153280" cy="536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Сметана, творог, сыворотка, йогурт, ряженка, снеж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52240" y="533520"/>
            <a:ext cx="8134200" cy="506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Выберите полезные продук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ока-кола, чупа-чупс, молоко, яблоко, чипсы, морковь, кириешки, творог, мяс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58280" y="59626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14080" y="723600"/>
            <a:ext cx="8172360" cy="476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Молоко, яблоко, морковь, творог, мяс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571680" y="304920"/>
            <a:ext cx="811512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е растение может служить зонтик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77000" y="59817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думай"/>
          <p:cNvPicPr/>
          <p:nvPr/>
        </p:nvPicPr>
        <p:blipFill>
          <a:blip r:embed="rId2"/>
          <a:stretch/>
        </p:blipFill>
        <p:spPr>
          <a:xfrm>
            <a:off x="3989520" y="3154320"/>
            <a:ext cx="180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75920" y="404280"/>
            <a:ext cx="821052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Лопу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E:\1.jpg"/>
          <p:cNvPicPr/>
          <p:nvPr/>
        </p:nvPicPr>
        <p:blipFill>
          <a:blip r:embed="rId2"/>
          <a:stretch/>
        </p:blipFill>
        <p:spPr>
          <a:xfrm>
            <a:off x="4095720" y="4210200"/>
            <a:ext cx="13874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95360" y="333360"/>
            <a:ext cx="8191440" cy="4486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ль одежды, которую мы одеваем для работы в огороде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620120" y="600084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28560" y="666720"/>
            <a:ext cx="8096400" cy="78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48000"/>
          </a:bodyPr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боч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95360" y="404280"/>
            <a:ext cx="819144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цветок овоща корнеплода, служил украшением придворных дам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620120" y="59817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deti2"/>
          <p:cNvPicPr/>
          <p:nvPr/>
        </p:nvPicPr>
        <p:blipFill>
          <a:blip r:embed="rId2"/>
          <a:stretch/>
        </p:blipFill>
        <p:spPr>
          <a:xfrm>
            <a:off x="3340080" y="3475080"/>
            <a:ext cx="270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75920" y="692280"/>
            <a:ext cx="8210520" cy="38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артоф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E:\Лариса\Мои документы\Анимашки\Анимация\an1_stopkaknig.gif"/>
          <p:cNvPicPr/>
          <p:nvPr/>
        </p:nvPicPr>
        <p:blipFill>
          <a:blip r:embed="rId2"/>
          <a:stretch/>
        </p:blipFill>
        <p:spPr>
          <a:xfrm>
            <a:off x="3867120" y="4765680"/>
            <a:ext cx="19875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0"/>
          <p:cNvSpPr/>
          <p:nvPr/>
        </p:nvSpPr>
        <p:spPr>
          <a:xfrm>
            <a:off x="2747880" y="6444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438120" y="1773360"/>
            <a:ext cx="8267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какого растения изготавливают «тряпичные» ме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7658280" y="603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сказать правила Т/Б при работе с граблями</a:t>
            </a:r>
            <a:r>
              <a:rPr b="1" lang="ru-RU" sz="4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4">
            <a:hlinkClick r:id="rId1"/>
          </p:cNvPr>
          <p:cNvSpPr/>
          <p:nvPr/>
        </p:nvSpPr>
        <p:spPr>
          <a:xfrm>
            <a:off x="7689960" y="5954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0" descr="c01eff3bfb733180fd4e039cb7d1fddb.gif"/>
          <p:cNvPicPr/>
          <p:nvPr/>
        </p:nvPicPr>
        <p:blipFill>
          <a:blip r:embed="rId3"/>
          <a:stretch/>
        </p:blipFill>
        <p:spPr>
          <a:xfrm>
            <a:off x="4148280" y="3803760"/>
            <a:ext cx="900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99600" y="259920"/>
            <a:ext cx="8286840" cy="5870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577880" y="19782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Arial"/>
              </a:rPr>
              <a:t>Лё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14080" y="620640"/>
            <a:ext cx="8172360" cy="5510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824040" y="148428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одежда, которую одеваем для работы в  мастерс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7620120" y="60199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52240" y="549000"/>
            <a:ext cx="8134200" cy="425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647640" y="1619280"/>
            <a:ext cx="78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Спецодеж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>
            <a:hlinkClick r:id="rId1"/>
          </p:cNvPr>
          <p:cNvSpPr/>
          <p:nvPr/>
        </p:nvSpPr>
        <p:spPr>
          <a:xfrm>
            <a:off x="785880" y="2293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 называется  помещение, где живут, порося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>
            <a:hlinkClick r:id="rId2"/>
          </p:cNvPr>
          <p:cNvSpPr/>
          <p:nvPr/>
        </p:nvSpPr>
        <p:spPr>
          <a:xfrm>
            <a:off x="2819520" y="628560"/>
            <a:ext cx="41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-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 АУКЦ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7734240" y="603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E:\142548_1.jpg"/>
          <p:cNvPicPr/>
          <p:nvPr/>
        </p:nvPicPr>
        <p:blipFill>
          <a:blip r:embed="rId4"/>
          <a:stretch/>
        </p:blipFill>
        <p:spPr>
          <a:xfrm>
            <a:off x="3689280" y="3613320"/>
            <a:ext cx="20448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733400"/>
            <a:ext cx="8039160" cy="390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Свиноферм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9600" y="563040"/>
            <a:ext cx="8183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190240"/>
            <a:ext cx="8139240" cy="375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 помещение, где находится  много коров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7597800" y="59626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E:\buk_o.gif"/>
          <p:cNvPicPr/>
          <p:nvPr/>
        </p:nvPicPr>
        <p:blipFill>
          <a:blip r:embed="rId2"/>
          <a:stretch/>
        </p:blipFill>
        <p:spPr>
          <a:xfrm>
            <a:off x="709560" y="700200"/>
            <a:ext cx="987480" cy="957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E:\buk_a.gif"/>
          <p:cNvPicPr/>
          <p:nvPr/>
        </p:nvPicPr>
        <p:blipFill>
          <a:blip r:embed="rId3"/>
          <a:stretch/>
        </p:blipFill>
        <p:spPr>
          <a:xfrm>
            <a:off x="7429680" y="627120"/>
            <a:ext cx="1028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1440" y="71568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34760" y="1790280"/>
            <a:ext cx="7769160" cy="131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оровник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9f4c7997cd1195b82c39bba72c7e0bbd"/>
          <p:cNvPicPr/>
          <p:nvPr/>
        </p:nvPicPr>
        <p:blipFill>
          <a:blip r:embed="rId2"/>
          <a:stretch/>
        </p:blipFill>
        <p:spPr>
          <a:xfrm>
            <a:off x="3633840" y="2685960"/>
            <a:ext cx="22446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72600"/>
            <a:ext cx="843912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5360" y="1981080"/>
            <a:ext cx="8191440" cy="372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помещение, где хранятся овощ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7658280" y="603900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E:\risunok.jpg"/>
          <p:cNvPicPr/>
          <p:nvPr/>
        </p:nvPicPr>
        <p:blipFill>
          <a:blip r:embed="rId2"/>
          <a:stretch/>
        </p:blipFill>
        <p:spPr>
          <a:xfrm>
            <a:off x="6343560" y="684360"/>
            <a:ext cx="211464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84200" y="54468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53760" y="1665360"/>
            <a:ext cx="7770600" cy="3954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Овощехранилищ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4" descr="603.gif"/>
          <p:cNvPicPr/>
          <p:nvPr/>
        </p:nvPicPr>
        <p:blipFill>
          <a:blip r:embed="rId2"/>
          <a:stretch/>
        </p:blipFill>
        <p:spPr>
          <a:xfrm>
            <a:off x="6305400" y="905040"/>
            <a:ext cx="196704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7960" y="677520"/>
            <a:ext cx="81838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18680" y="2066400"/>
            <a:ext cx="8139240" cy="303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помещение, где хранят зерно зимой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658280" y="598176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61440" y="333000"/>
            <a:ext cx="8534520" cy="579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50"/>
                </a:solidFill>
                <a:latin typeface="Verdana"/>
              </a:rPr>
              <a:t>ОТВЕ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Проверяем исправность инструмента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Переносим зубьями  вниз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3. После окончания работы храним в определённом мест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60520" y="639720"/>
            <a:ext cx="81835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28240" y="1599840"/>
            <a:ext cx="8420040" cy="438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Зерносклад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7709040" y="60390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7760" y="2021040"/>
            <a:ext cx="817236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ледовательность уборки кварти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Рисунок 7" descr="cdolls118.gif"/>
          <p:cNvPicPr/>
          <p:nvPr/>
        </p:nvPicPr>
        <p:blipFill>
          <a:blip r:embed="rId2"/>
          <a:stretch/>
        </p:blipFill>
        <p:spPr>
          <a:xfrm>
            <a:off x="2629080" y="3987720"/>
            <a:ext cx="3714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Удаление пыли с  мебе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Мытье комнатных раст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Влажная уборка (мытье пол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тур. «Собери рюкзак в похо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6"/>
          <p:cNvSpPr/>
          <p:nvPr/>
        </p:nvSpPr>
        <p:spPr>
          <a:xfrm>
            <a:off x="457200" y="723960"/>
            <a:ext cx="82868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Игра закончен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дравляем победителей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5" descr="0_195db_6e22cfec_XS.gif"/>
          <p:cNvPicPr/>
          <p:nvPr/>
        </p:nvPicPr>
        <p:blipFill>
          <a:blip r:embed="rId1"/>
          <a:stretch/>
        </p:blipFill>
        <p:spPr>
          <a:xfrm>
            <a:off x="3638520" y="4476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640"/>
            <a:ext cx="8229600" cy="5405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Техника безопасности при работе ножниц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658280" y="60199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" descr="E:\Photo 658.gif"/>
          <p:cNvPicPr/>
          <p:nvPr/>
        </p:nvPicPr>
        <p:blipFill>
          <a:blip r:embed="rId2"/>
          <a:stretch/>
        </p:blipFill>
        <p:spPr>
          <a:xfrm>
            <a:off x="1057320" y="4505400"/>
            <a:ext cx="140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33520" y="33336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ницы передают  кольцами вперёд, в закрытом вид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столе лежат справой стороны остриём ввер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ранят в сухом, опредёленном мес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3" descr="E:\59dfc10c2b12.gif"/>
          <p:cNvPicPr/>
          <p:nvPr/>
        </p:nvPicPr>
        <p:blipFill>
          <a:blip r:embed="rId2"/>
          <a:stretch/>
        </p:blipFill>
        <p:spPr>
          <a:xfrm>
            <a:off x="5972040" y="331488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00280" y="533520"/>
            <a:ext cx="7772400" cy="5192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ёрсток применяется дл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крас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доб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защи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укра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658280" y="596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47640" y="5144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95360" y="219060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8" descr="смс"/>
          <p:cNvPicPr/>
          <p:nvPr/>
        </p:nvPicPr>
        <p:blipFill>
          <a:blip r:embed="rId2"/>
          <a:stretch/>
        </p:blipFill>
        <p:spPr>
          <a:xfrm>
            <a:off x="434880" y="517680"/>
            <a:ext cx="195912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28560" y="404640"/>
            <a:ext cx="8058240" cy="27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8000"/>
          </a:bodyPr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йдите лишне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чими органами швейной машины являются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гл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лно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улав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ниц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жимн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п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тюг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ховое колес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E:\school.jpg"/>
          <p:cNvPicPr/>
          <p:nvPr/>
        </p:nvPicPr>
        <p:blipFill>
          <a:blip r:embed="rId2"/>
          <a:stretch/>
        </p:blipFill>
        <p:spPr>
          <a:xfrm>
            <a:off x="7153200" y="3543480"/>
            <a:ext cx="12096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9:57Z</dcterms:created>
  <dc:creator>Стефанова</dc:creator>
  <dc:description/>
  <dc:language>en-US</dc:language>
  <cp:lastModifiedBy>Окороков А В</cp:lastModifiedBy>
  <dcterms:modified xsi:type="dcterms:W3CDTF">2013-11-08T08:18:32Z</dcterms:modified>
  <cp:revision>223</cp:revision>
  <dc:subject/>
  <dc:title> Мир информатики</dc:title>
</cp:coreProperties>
</file>