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95E-C9E9-4B13-8203-5B8E66FE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38B-4929-44ED-A628-421FB72F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9E0-5E36-41CE-A6F9-DC88131F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C3A0-8986-40F9-805A-B1C1D207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219-5159-46A5-BC8D-D1EFF601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E33-E71C-4A18-9985-7266DD8B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16E-9870-443D-91C7-0A58122D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EEF-9026-4F4F-8387-63FE6AED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9B0-25D8-4541-8237-60C9549C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34B-9C8B-49FA-B7CE-487AA73F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5C6-9FB4-4F7B-B254-DF2399CC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A3F-411A-4686-A943-D07B489A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BD4D-0B38-4B1B-9E95-EDF6DBCD18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ngl2006.narod.ru/Contents/Hsitory/History-kart/OI/Pictures/021.jpg"/>
          <p:cNvPicPr/>
          <p:nvPr/>
        </p:nvPicPr>
        <p:blipFill>
          <a:blip r:embed="rId1"/>
          <a:stretch/>
        </p:blipFill>
        <p:spPr>
          <a:xfrm>
            <a:off x="395280" y="189000"/>
            <a:ext cx="849780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&amp;Vcy;&amp;icy;&amp;dcy; &amp;zcy;&amp;acy;&amp;vcy;&amp;icy;&amp;scy;&amp;icy;&amp;mcy;&amp;ocy;&amp;scy;&amp;tcy;&amp;icy; - &amp;Kcy;&amp;acy;&amp;rcy;&amp;tcy;&amp;icy;&amp;ncy;&amp;kcy;&amp;acy; 15082/77"/>
          <p:cNvPicPr/>
          <p:nvPr/>
        </p:nvPicPr>
        <p:blipFill>
          <a:blip r:embed="rId1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1" descr="&amp;Rcy;&amp;Ucy;&amp;Scy;&amp;SOFTcy; &amp;Icy; &amp;Mcy;&amp;Ocy;&amp;Ncy;&amp;Gcy;&amp;Ocy;&amp;Lcy;&amp;Ocy;-&amp;Tcy;&amp;Acy;&amp;Tcy;&amp;Acy;&amp;Rcy;&amp;Ycy; &amp;Vcy; &amp;Bcy;&amp;Icy;&amp;Tcy;&amp;Vcy;&amp;IEcy; &amp;Zcy;&amp;Acy; &amp;IEcy;&amp;Vcy;&amp;Rcy;&amp;Acy;&amp;Zcy;&amp;Icy;&amp;YUcy; &amp;Vcy;&amp;IEcy;&amp;Lcy;&amp;Icy;&amp;Kcy;&amp;Icy;&amp;IEcy; &amp;Vcy;&amp;Ocy;&amp;Icy;&amp;Tcy;&amp;IEcy;&amp;Lcy;&amp;Icy; &amp;Ecy;&amp;Pcy;&amp;Ocy;&amp;KHcy;&amp;Icy; - &amp;CHcy;&amp;Icy;&amp;Ncy;&amp;Gcy;&amp;Icy;&amp;Scy;&amp;KHcy;&amp;Acy;&amp;Ncy;, &amp;Bcy;&amp;Acy;&amp;Tcy;&amp;Ycy;&amp;Jcy;, &amp;Tcy;&amp;Acy;&amp;Mcy;&amp;IEcy;&amp;Rcy;&amp;Lcy;&amp;Acy;&amp;Ncy;, &amp;Dcy;&amp;Mcy;&amp;Icy;&amp;Tcy;&amp;Rcy;&amp;Icy;&amp;Jcy; &amp;Dcy;&amp;Ocy;&amp;Ncy;&amp;Scy;&amp;Kcy;&amp;Ocy;&amp;Jcy; / &amp;Rcy;&amp;ucy;&amp;scy;&amp;softcy; &amp;mcy;&amp;iecy;&amp;zhcy;&amp;dcy;&amp;ucy; &amp;YUcy;&amp;gcy;&amp;ocy;&amp;mcy;,"/>
          <p:cNvPicPr/>
          <p:nvPr/>
        </p:nvPicPr>
        <p:blipFill>
          <a:blip r:embed="rId1"/>
          <a:stretch/>
        </p:blipFill>
        <p:spPr>
          <a:xfrm>
            <a:off x="395280" y="0"/>
            <a:ext cx="83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68360" y="765000"/>
          <a:ext cx="8137440" cy="5545440"/>
        </p:xfrm>
        <a:graphic>
          <a:graphicData uri="http://schemas.openxmlformats.org/drawingml/2006/table">
            <a:tbl>
              <a:tblPr/>
              <a:tblGrid>
                <a:gridCol w="3468600"/>
                <a:gridCol w="4668840"/>
              </a:tblGrid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ус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нголо-тат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лавное зан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емледел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отоводство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щи, ка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яс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ит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в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23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умы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илищ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3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ю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3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лава госуда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924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н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71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нголо - тат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4" descr="&amp;IEcy;&amp;dcy;&amp;icy;&amp;ncy;&amp;acy;&amp;yacy; &amp;Rcy;&amp;ucy;&amp;scy;&amp;softcy; &amp;ncy;&amp;acy; &amp;mcy;&amp;ocy;&amp;mcy;&amp;iecy;&amp;ncy;&amp;tcy; &amp;ncy;&amp;acy;&amp;shcy;&amp;iecy;&amp;scy;&amp;tcy;&amp;vcy;&amp;icy;&amp;yacy; &amp;mcy;&amp;ocy;&amp;ncy;&amp;gcy;&amp;ocy;&amp;lcy; Politiko"/>
          <p:cNvPicPr/>
          <p:nvPr/>
        </p:nvPicPr>
        <p:blipFill>
          <a:blip r:embed="rId1"/>
          <a:stretch/>
        </p:blipFill>
        <p:spPr>
          <a:xfrm>
            <a:off x="826920" y="1125360"/>
            <a:ext cx="79218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5" descr="&amp;Icy;&amp;scy;&amp;tcy;&amp;ocy;&amp;rcy;&amp;icy;&amp;yacy; &amp;mcy;&amp;ocy;&amp;ncy;&amp;gcy;&amp;ocy;&amp;lcy;&amp;ocy;-&amp;tcy;&amp;acy;&amp;tcy;&amp;acy;&amp;rcy; - &amp;Pcy;&amp;rcy;&amp;iecy;&amp;zcy;&amp;iecy;&amp;ncy;&amp;tcy;&amp;acy;&amp;tscy;&amp;icy;&amp;yacy; 10855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9" descr="&amp;Mcy;&amp;ocy;&amp;ncy;&amp;gcy;&amp;ocy;&amp;lcy;&amp;ocy;-&amp;tcy;&amp;acy;&amp;tcy;&amp;acy;&amp;rcy;&amp;scy;&amp;kcy;&amp;ocy;&amp;iecy; &amp;ncy;&amp;acy;&amp;shcy;&amp;iecy;&amp;scy;&amp;tcy;&amp;vcy;&amp;icy;&amp;iecy; &amp;ncy;&amp;acy; &amp;Rcy;&amp;ucy;&amp;scy;&amp;softcy;. &amp;Vcy; &amp;ocy;&amp;chcy;&amp;iecy;&amp;rcy;&amp;iecy;&amp;dcy;&amp;ncy;&amp;ocy;&amp;mcy; &amp;vcy;&amp;ycy;&amp;pcy;&amp;ucy;&amp;scy;&amp;kcy;&amp;iecy; &amp;pcy;&amp;rcy;&amp;ocy;…"/>
          <p:cNvPicPr/>
          <p:nvPr/>
        </p:nvPicPr>
        <p:blipFill>
          <a:blip r:embed="rId1"/>
          <a:stretch/>
        </p:blipFill>
        <p:spPr>
          <a:xfrm>
            <a:off x="1763640" y="2060640"/>
            <a:ext cx="5937480" cy="3565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н Чингисх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&amp;Vcy;&amp;ocy;&amp;icy;&amp;ncy;&amp;ycy; &amp;CHcy;&amp;icy;&amp;ncy;&amp;gcy;&amp;icy;&amp;scy;&amp;khcy;&amp;acy;&amp;ncy;&amp;acy; - &amp;Kcy;&amp;acy;&amp;rcy;&amp;tcy;&amp;icy;&amp;ncy;&amp;kcy;&amp;acy; 15085/17"/>
          <p:cNvPicPr/>
          <p:nvPr/>
        </p:nvPicPr>
        <p:blipFill>
          <a:blip r:embed="rId1"/>
          <a:stretch/>
        </p:blipFill>
        <p:spPr>
          <a:xfrm>
            <a:off x="539640" y="692280"/>
            <a:ext cx="7920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7" descr="&amp;Kcy;&amp;acy;&amp;kcy; &amp;Bcy;&amp;acy;&amp;tcy;&amp;ycy;&amp;jcy; &amp;zcy;&amp;acy;&amp;khcy;&amp;vcy;&amp;acy;&amp;tcy;&amp;icy;&amp;lcy; &amp;Kcy;&amp;icy;&amp;iecy;&amp;vcy;: &amp;mcy;&amp;icy;&amp;fcy;&amp;ycy; &amp;ocy; &amp;mcy;&amp;ocy;&amp;ncy;&amp;gcy;&amp;ocy;&amp;lcy;&amp;ocy;-&amp;tcy;&amp;acy;&amp;tcy;&amp;acy;&amp;rcy;&amp;acy;&amp;khcy;. &amp;Mcy;&amp;ocy;&amp;bcy;&amp;icy;&amp;lcy;&amp;softcy;&amp;ncy;&amp;acy;&amp;yacy; &amp;vcy;&amp;iecy;&amp;rcy;&amp;scy;&amp;icy;&amp;yacy; - m.tochka.net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6" descr="&amp;Ncy;&amp;acy;&amp;shcy;&amp;iecy;&amp;scy;&amp;tcy;&amp;vcy;&amp;icy;&amp;iecy; &amp;mcy;&amp;ocy;&amp;ncy;&amp;gcy;&amp;ocy;&amp;lcy;&amp;ocy;-&amp;tcy;&amp;acy;&amp;tcy;&amp;acy;&amp;rcy; &amp;ncy;&amp;acy; &amp;Rcy;&amp;ucy;&amp;scy;&amp;softcy; - &amp;Kcy;&amp;acy;&amp;rcy;&amp;tcy;&amp;icy;&amp;ncy;&amp;kcy;&amp;acy; 15082/2"/>
          <p:cNvPicPr/>
          <p:nvPr/>
        </p:nvPicPr>
        <p:blipFill>
          <a:blip r:embed="rId1"/>
          <a:stretch/>
        </p:blipFill>
        <p:spPr>
          <a:xfrm>
            <a:off x="468360" y="0"/>
            <a:ext cx="8064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9569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2" descr="&amp;Vcy;&amp;lcy;&amp;icy;&amp;yacy;&amp;ncy;&amp;icy;&amp;iecy; &amp;mcy;&amp;ocy;&amp;ncy;&amp;gcy;&amp;ocy;&amp;lcy;&amp;ocy; &amp;tcy;&amp;acy;&amp;tcy;&amp;acy;&amp;rcy; &amp;ncy;&amp;acy; &amp;rcy;&amp;ucy;&amp;scy;&amp;softcy; &quot; &amp;Dcy;&amp;iecy;&amp;tcy;&amp;scy;&amp;kcy;&amp;icy;&amp;jcy; &amp;Ecy;&amp;kcy;&amp;ocy;&amp;lcy;&amp;ocy;&amp;gcy;&amp;icy;&amp;chcy;&amp;iecy;&amp;scy;&amp;kcy;&amp;icy;&amp;jcy; &amp;TScy;&amp;iecy;&amp;ncy;&amp;tcy;&amp;rcy; &amp;Mcy;&amp;ocy;&amp;ncy;&amp;chcy;&amp;iecy;&amp;gcy;&amp;ocy;&amp;rcy;&amp;scy;&amp;k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3" descr="&amp;Mcy;&amp;Ocy;&amp;Ncy;&amp;Gcy;&amp;Ocy;&amp;Lcy;&amp;Ocy;-&amp;Tcy;&amp;Acy;&amp;Tcy;&amp;Acy;&amp;Rcy;&amp;Scy;&amp;Kcy;&amp;Ocy;&amp;IEcy; &amp;Icy;&amp;Gcy;&amp;Ocy; &amp;Vcy; &amp;TScy;&amp;Icy;&amp;Fcy;&amp;Rcy;&amp;Acy;&amp;KHcy; - &amp;Kcy;&amp;ocy;&amp;ncy;&amp;scy;&amp;pcy;&amp;icy;&amp;rcy;&amp;ocy;&amp;lcy;&amp;ocy;&amp;gcy;&amp;icy;&amp;chcy;&amp;iecy;&amp;scy;&amp;kcy;&amp;icy;&amp;jcy; &amp;Dcy;&amp;acy;&amp;jcy;&amp;dcy;&amp;zhcy;&amp;iecy;&amp;scy;&amp;t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4:31:30Z</dcterms:created>
  <dc:creator>User</dc:creator>
  <dc:description/>
  <dc:language>en-US</dc:language>
  <cp:lastModifiedBy>User</cp:lastModifiedBy>
  <dcterms:modified xsi:type="dcterms:W3CDTF">2015-03-01T12:37:55Z</dcterms:modified>
  <cp:revision>26</cp:revision>
  <dc:subject/>
  <dc:title>Слайд 1</dc:title>
</cp:coreProperties>
</file>