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9FA-38FD-4F45-915D-7F9F2346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356-92DC-4CBD-A64C-4E83E643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EB9-5E4F-49FC-A969-9EABA622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497-B5BD-4CC4-AA5A-2ED2A520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5077-0382-41A6-91B6-A5202898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73E4-50B1-4044-B401-80B9A451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6F73-633F-47EC-88B1-D4BB70A3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2F68-CCF9-486A-A1EE-A22321CD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982B-D443-47AD-8540-13F49347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ABC0-81D1-4D88-9775-1B730470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938A-F91A-4FF4-905C-32A15A7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0F8-7874-430C-9844-E6A29A09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42A6-4937-444F-84F4-425F2E13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93EA-B484-4916-A3F1-7A3986EE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B485-105B-44D8-A950-2712591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9342-A24F-4C23-953A-C5CB0E72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376C-962D-43D2-AAD6-13EBD086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26A-6831-4711-A6D7-4F4144F3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EA9-BE6A-4479-8105-45CA9991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094-9D2B-45D1-B81E-A05E315A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864-ECCA-444F-B1F8-BF1C3AFC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AC9-FDBA-43BB-B8E6-EBAD6E77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DDB-2FC5-4721-902C-45D15DBC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D0C-7E20-490E-9B85-84F956A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61F0-AA75-4272-8354-FC2F784F1313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C:\My Documents\bits\Expbanna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D:\FRONTPAGE THEMES\EXPEDITN\EXPHORSA.PNG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P:\!Themes\Expedition\EXPHORSA.GIF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87BC-515A-462F-88E8-C20DA21B439F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66680" y="533520"/>
          <a:ext cx="7772400" cy="29448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294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образовательной среды  для детей  с  ограниченны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ями здоровья в процессе интеграции образовани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7400" y="6122880"/>
          <a:ext cx="4988160" cy="735120"/>
        </p:xfrm>
        <a:graphic>
          <a:graphicData uri="http://schemas.openxmlformats.org/drawingml/2006/table">
            <a:tbl>
              <a:tblPr/>
              <a:tblGrid>
                <a:gridCol w="4988160"/>
              </a:tblGrid>
              <a:tr h="735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: Кондратьева.И.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042920" y="260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2. Обеспечение готовности учащихся к усвоению знани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826920" y="177336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усвоения знаний также зависит и от готовности учащихся. Различают длительную готовность и временное состояние готовности. На временное состояние готовности влияет ряд факторов. Это состояние физической среды в кабинете (состав воздуха, посторонний шум), физическое состояние учащихся (утомление предыдущей деятельностью, состояние здоровья). Для этого - проветриваю кабинет, учитываю состояние здоровья учащихся, а также учитываю каким уроком стоит проводимый урок по расписанию. Для повышения уровня мотивации стараюсь вызвать интерес учащихся к содержанию объяс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042920" y="47628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826920" y="1773360"/>
            <a:ext cx="831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е место, занимает  построение сообщения учителем нового материала. Объяснение начинаю с сообщения цели теоретической части занятия. Например: «Сегодня я вам расскажу о видах зерновых культур и их свойствах». Вторую часть фразы повторяю в замедленном темпе и демонстрирую соответствующую запись темы на доске. Затем кратко указываю на необходимость усвоения таких знаний для практической работы, спрашиваю ребят: « Нужно ли нам изучать тему, пригодятся ли она вам в будущей самостоятельной жизни?» Таким образом, добиваюсь, чтобы учащиеся приняли цель, поставленную мною, т.е. совпадали цели учителя и ученика. После этого перехожу к сообщению содержания урока в форме объяснительной беседы с учащими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476360" y="33336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684360" y="1628640"/>
            <a:ext cx="8459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использования средств наглядности объясняется тем, что при чувственном восприятии образы изучаемого материала быстрее формируются и дольше сохраняются в памяти, чем создаваемые только на основе речевого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боте с учащимися  использую демонстрацию объектов труда, изобразительную наглядность (плакаты, чертежи, рисунки на доске, иллюстрации учебников, фотографии, схематические изображения), а также применяю практический показ приёмов работы. Целенаправленное включение средств наглядности в структуру урока позволяет мне активизировать внимание учащихся, существенно улучшать их восприятие, понимание и запоминание учебного матери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116000" y="333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684360" y="1844640"/>
            <a:ext cx="84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ым способом управления вниманием является и нестандартная форма подачи учебного материала. Для этого ввожу игровые ситуации в учебный процесс, нестандартную форму предъявления информации (например, тематические кроссворды, ребусы и.т.п). Форма выделения информации может быть самой разной: усиления голоса в нужном месте, запись важной составляющей на доске, подчёркивание в готовом тексте, показ наглядного объекта А также поддерживаю внимание учащихся постановкой проблемного вопроса или выдвижением проблемы перед началом изложения учебного материала, а затем вместе с учащимися делаю попытку её разрешения на занятии. Использую и приём, связанный с предложением учащимся высказать своё мн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403280" y="26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900000" y="177336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эффективного усвоения знаний в работе с учащимися осуществляю наряду с групповым дифференцированный способ обучения. В работе со слабыми учащимися многократно осуществляю показ практических приемов работы, сопровождая его подробным инструктажем; эффективно использую наглядность; при выполнении коррекционных упражнений на развитие восприятия, даю менее сложные задания, чем основной группе учащихся. В результате проводимой работы происходит развитие и коррекция восприятия и учащиеся способны  усваивать учебную информац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763640" y="476280"/>
            <a:ext cx="509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900000" y="191628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м организационным вопросом формирования знаний, является индивидуальный контроль и учёт формирования знаний. Сведения об усвоении знаний учащимися я получаю путём устных опросов при повторении материала, при анализе опросных листов, тестовых заданий.  Применение тестов в учебном процессе позволяет  определить уровень усвоения учащимися теоретического материала, выявить пробелы в их знаниях. Кроме того, процедура тестирования в некотором роде содержит элемент иг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52480" y="0"/>
          <a:ext cx="5334120" cy="51768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 рабо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95280" y="633240"/>
          <a:ext cx="7010640" cy="622476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62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ошлом году выпустила группу 9 кл. все сдали экзамен (на проектной основе),  все учатся в ПТ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сех (почти),  сформирована правильная жизненная позиция, умение действовать в соответствии с обстановк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готовы к индивидуальной трудовой деятельност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ыпускников возросла ответственность, дисциплинированность, повысился самоконтроль при выполнении рабо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ив разные разделы программы \ овощеводство, растениеводство, животноводство, цветоводство\ учащиеся имеют выбор для самореализации по месту жительст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6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3"/>
          <p:cNvSpPr txBox="1"/>
          <p:nvPr/>
        </p:nvSpPr>
        <p:spPr>
          <a:xfrm>
            <a:off x="1295280" y="1676520"/>
            <a:ext cx="76201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5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258920" y="2565360"/>
            <a:ext cx="756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ю образовательного учебного стандарта специальной коррекционной школы является создание механизмов раскрытия способностей каждого ученика, воспитания порядочного и патриотичного человека, личности, готовой к жизни в высокотехнологичном, конкурентном мире. По окончанию обучения выпускники должны уметь решать задачи не укладывающиеся в рамки стереотипных решений, где знания служат главным регулятором самостоятельной трудов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16040" y="0"/>
            <a:ext cx="25905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666880" y="2666880"/>
          <a:ext cx="4876920" cy="103032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навы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знеобесп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762120" y="304920"/>
          <a:ext cx="2743200" cy="190476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ов с\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33920" y="380880"/>
          <a:ext cx="2514600" cy="18288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о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    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400800" y="380880"/>
          <a:ext cx="2514600" cy="16002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ендар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62120" y="4114800"/>
          <a:ext cx="3809880" cy="27432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о- ориентированный подход \ формирование устойчивой мотивации\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ник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- р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562720" y="4114800"/>
          <a:ext cx="3429000" cy="20574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ческое проведение практических рабо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их кар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98" name="Line 61"/>
          <p:cNvSpPr/>
          <p:nvPr/>
        </p:nvSpPr>
        <p:spPr>
          <a:xfrm flipH="1" flipV="1">
            <a:off x="2742840" y="20570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2"/>
          <p:cNvSpPr/>
          <p:nvPr/>
        </p:nvSpPr>
        <p:spPr>
          <a:xfrm flipV="1">
            <a:off x="5029200" y="2057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3"/>
          <p:cNvSpPr/>
          <p:nvPr/>
        </p:nvSpPr>
        <p:spPr>
          <a:xfrm flipV="1">
            <a:off x="6858000" y="198072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4"/>
          <p:cNvSpPr/>
          <p:nvPr/>
        </p:nvSpPr>
        <p:spPr>
          <a:xfrm flipH="1">
            <a:off x="2895480" y="34290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6"/>
          <p:cNvSpPr/>
          <p:nvPr/>
        </p:nvSpPr>
        <p:spPr>
          <a:xfrm>
            <a:off x="6705720" y="365760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3880" y="457200"/>
          <a:ext cx="7239240" cy="167652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 и  приемы  используемые 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 с\х  труда для  формир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ыков  жизнеобеспе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43000" y="2514600"/>
          <a:ext cx="2057400" cy="22096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к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ку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581280" y="2514600"/>
          <a:ext cx="2667240" cy="330984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332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ляд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ы, сх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ка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уральные образцы семян, пл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553080" y="2514600"/>
          <a:ext cx="2590920" cy="28717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способа дей-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рактической работы 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07" name="Line 34"/>
          <p:cNvSpPr/>
          <p:nvPr/>
        </p:nvSpPr>
        <p:spPr>
          <a:xfrm flipH="1">
            <a:off x="2362320" y="20574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02920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391520" y="19810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2" descr=""/>
          <p:cNvPicPr/>
          <p:nvPr/>
        </p:nvPicPr>
        <p:blipFill>
          <a:blip r:embed="rId10"/>
          <a:stretch/>
        </p:blipFill>
        <p:spPr>
          <a:xfrm>
            <a:off x="228600" y="4267080"/>
            <a:ext cx="2398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3880" y="533520"/>
          <a:ext cx="7239240" cy="106668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коррекционных задач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с\х труда   \ направления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371600" y="2133720"/>
          <a:ext cx="3200400" cy="29923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0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ственно- отсталы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и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876920" y="2133720"/>
          <a:ext cx="3504960" cy="380988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382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общетрудовых навык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тексто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ое выполнение зад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за своими действ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4" name="Line 23"/>
          <p:cNvSpPr/>
          <p:nvPr/>
        </p:nvSpPr>
        <p:spPr>
          <a:xfrm flipH="1">
            <a:off x="2819160" y="16002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77120" y="16002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4" descr="C:\Program Files\Common Files\Microsoft Shared\Clipart\cagcat50\NA01441_.wmf"/>
          <p:cNvPicPr/>
          <p:nvPr/>
        </p:nvPicPr>
        <p:blipFill>
          <a:blip r:embed="rId5"/>
          <a:stretch/>
        </p:blipFill>
        <p:spPr>
          <a:xfrm>
            <a:off x="0" y="4267080"/>
            <a:ext cx="209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47920" y="228600"/>
          <a:ext cx="7391160" cy="154476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15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 направлен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8" name="AutoShape 33"/>
          <p:cNvSpPr/>
          <p:nvPr/>
        </p:nvSpPr>
        <p:spPr>
          <a:xfrm>
            <a:off x="4140360" y="2457360"/>
            <a:ext cx="1511280" cy="1428840"/>
          </a:xfrm>
          <a:prstGeom prst="downArrowCallout">
            <a:avLst>
              <a:gd name="adj1" fmla="val 214878"/>
              <a:gd name="adj2" fmla="val 206938"/>
              <a:gd name="adj3" fmla="val 16667"/>
              <a:gd name="adj4" fmla="val 66667"/>
            </a:avLst>
          </a:prstGeom>
          <a:solidFill>
            <a:srgbClr val="d69b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00200" y="4581360"/>
          <a:ext cx="7010280" cy="158436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58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ормировать навыки  самостоятельной   рабо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20" name="Line 43"/>
          <p:cNvSpPr/>
          <p:nvPr/>
        </p:nvSpPr>
        <p:spPr>
          <a:xfrm>
            <a:off x="49528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49528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900000" y="249228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й из причин по которой учащиеся с ограниченными возможностями здоровья испытывают трудности при усвоении технико-технологических знаний, необходимых им в самостоятельной практической жизни в социуме, является недостаточная организация восприятия на уроке сельхоз.труд, поэтому целью своей работы  поставила совершенствование организации восприятия учебной информации на уроках трудового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900000" y="47628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ей работе я использую способы повышения качества восприятия учебной информации на уроках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755640" y="1844640"/>
            <a:ext cx="799308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Актуализацию опорных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Обеспечение готовности учащихся к усвоению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534000" y="0"/>
            <a:ext cx="2590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1042920" y="2492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е знания формируются, связываясь с ранее усвоенными. Считаю важным этапом урока, этап актуализации опорных знаний и навыков, так как при отсутствии этих опорных знаний учащиеся не имеют возможности осуществить нужную связь. В результате соответствующая часть сообщения учителя не усваивается или воспринимается не правильно. На этапе актуализации я провожу не только фронтальный срез по типу Что? Где? Когда? но и краткие письменные опросы, тестирование для определения опорных знаний каждого учащег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40328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. Актуализацию опорных знан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2:33Z</dcterms:created>
  <dc:creator>Сергей</dc:creator>
  <dc:description/>
  <dc:language>en-US</dc:language>
  <cp:lastModifiedBy>Silver</cp:lastModifiedBy>
  <dcterms:modified xsi:type="dcterms:W3CDTF">2015-02-03T17:03:52Z</dcterms:modified>
  <cp:revision>28</cp:revision>
  <dc:subject/>
  <dc:title>Презентация PowerPoint</dc:title>
</cp:coreProperties>
</file>